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F2D2-84EF-4634-A483-8BD97BC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9985-FCFC-4E5D-A9EE-3A348FB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A734-ED79-4B01-B207-D6DDBEA3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F129-8815-43A2-90AF-B28223A8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AB13-8764-45AC-A916-828A9CA5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5DF-F97F-4A2C-BE01-0857A78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091-41B1-43D1-9DF6-2F71A6D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143C-87D2-4B34-BC00-EDC4DC4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0A1-34A7-4399-9593-C8D2373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1F22-04B6-411A-817F-5FFAFC2F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680D-3E46-4F7C-9CD6-BB7FEA5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92F1-9FFF-402C-9197-1E9D41D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A4C-D682-4B71-ABBC-46D09BE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CD09-B4B0-4D94-A724-69D6F4D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5D63-11A3-4751-833E-C66A369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3C87-B1C5-48F8-BD24-5BCB98AC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2C1F-C846-4FA8-A376-6C1A1019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9B3E-C127-427F-9A25-359FBFEB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2BAB-EFBB-46B9-8DC4-B322090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365D-6A1D-4F4B-BC3A-A289508D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BF70-44F1-481A-B7D3-49398A65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4E5A-1A46-4FD2-9F8D-5D00D07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9C31-9C6F-4115-A261-F311380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15FC-0CDC-4B38-8F6A-B0D12BD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 Buckaroo/Straight Arr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ckaroo Straight Arrow Training Conference  or National Training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838080" cy="1676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flipH="1" rot="10800000">
            <a:off x="7010280" y="2590920"/>
            <a:ext cx="846360" cy="1676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David Elliott</cp:lastModifiedBy>
  <dcterms:modified xsi:type="dcterms:W3CDTF">1999-07-21T03:21:31Z</dcterms:modified>
  <cp:revision>11</cp:revision>
  <dc:subject/>
  <dc:title>Royal Rangers Leadership Training Course  Section V: Teaching and Communication</dc:title>
</cp:coreProperties>
</file>