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83413" cy="12023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84000" cy="12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1800"/>
            <a:ext cx="3027240" cy="601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57480" y="-1800"/>
            <a:ext cx="3027600" cy="601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11420640"/>
            <a:ext cx="3027240" cy="604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957480" y="11420640"/>
            <a:ext cx="3027600" cy="604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324B-3FF0-4276-851A-F124DB16484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31680" y="5708520"/>
            <a:ext cx="5121000" cy="541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492120" y="902880"/>
            <a:ext cx="6006960" cy="450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931680" y="5708520"/>
            <a:ext cx="5121000" cy="541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492120" y="903240"/>
            <a:ext cx="6006960" cy="4505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31680" y="5708520"/>
            <a:ext cx="5121000" cy="541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every one to two years to bring leaders in and reevaluate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Img"/>
          </p:nvPr>
        </p:nvSpPr>
        <p:spPr>
          <a:xfrm>
            <a:off x="492120" y="903240"/>
            <a:ext cx="6006960" cy="4505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BC83-7D34-4951-9025-E4491F64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FC1-A807-4461-9427-07DB0002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281-8342-411E-AFF3-2F925BA9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51F8-3EA5-4E6C-B74C-0D8AA4CC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573-4987-4656-B143-D7913A29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B17-3AE1-4B44-AA51-8A6D5A92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4BE-FCFF-437E-A6A6-2B86BA02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B403-8A9B-4A9E-91EF-21765779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C7F-80EC-4260-A327-7EFF15AE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2BC-12EF-4452-AAAC-736D6E3A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7F8-433B-4751-A5B1-C0F8D1AD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FAD-4A6B-4864-9338-3EF83C5A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5704-2A0B-427A-B99F-BAD1E28AF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 Session 1</a:t>
            </a:r>
            <a:endParaRPr b="0" i="1" lang="en-US" sz="48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mc:AlternateContent>
    <mc:Choice Requires="p14">
      <p:transition spd="slow" advTm="7000" p14:dur="2000"/>
    </mc:Choice>
    <mc:Fallback>
      <p:transition spd="slow" advTm="7000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ilosophy of a Successful Outpost Council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ordin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legation of responsibilit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magin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mprovis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300" spc="-1" strike="noStrike">
                <a:solidFill>
                  <a:srgbClr val="114ffb"/>
                </a:solidFill>
                <a:latin typeface="Book Antiqua"/>
              </a:rPr>
              <a:t>How Much Time Will It Take?</a:t>
            </a:r>
            <a:endParaRPr b="0" i="1" lang="en-US" sz="43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 much time as a man is willing to give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ive position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quire various amoun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n a monthly basi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6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Can Serve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y man in church who ha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ove for boy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o is willing to devot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effor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necessary to fulfill the duties of a council memb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dedicated Christia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abl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ead me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ior experience with Royal Rangers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helpfu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but no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requirement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en Should It Be Formed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deally, in place before an outpost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rganize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ne should be organized to begin providing the vital support from this group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me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600"/>
            </a:b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How Should They Be Selected?</a:t>
            </a:r>
            <a:endParaRPr b="0" i="1" lang="en-US" sz="4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are two possible methods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y may b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ppointe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by the church boar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y may b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electe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rom the ranks of the local men’s grou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Else Should Serve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pastor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should </a:t>
            </a:r>
            <a:r>
              <a:rPr b="0" i="1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always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be a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member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en if not in one of the five leadership positio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given a vote in all business conducted by the council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senior commander 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hould also be a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member of the council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given a vote in the council meeting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2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elect commander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each age group and arrange for training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select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ime and plac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the meeting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gather the materials necessary for the weekly meeting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2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br>
              <a:rPr sz="4400"/>
            </a:b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ecome familiar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the Royal Rangers Ministry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cruit, interview &amp; screen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all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taff position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velop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olicies and procedur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ure adequ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meeting plac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all ag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ure nee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inanc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re available.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114ffb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intain stock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ooks, uniforms and award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ublicize and promote Royal Rangers programs and even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lan and execute Councils of Achievemen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in the weekly meetings as need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et regularly to transact business and execute responsibiliti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ppoint the leadership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manders and Lt. Commande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ruit Royal Rangers staff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tablish standards and goa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llow for growth and develo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4070520"/>
            <a:ext cx="768816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Council </a:t>
            </a:r>
            <a:r>
              <a:rPr b="0" i="1" lang="en-US" sz="4000" spc="-1" strike="noStrike">
                <a:solidFill>
                  <a:srgbClr val="114ffb"/>
                </a:solidFill>
                <a:latin typeface="Book Antiqua"/>
              </a:rPr>
              <a:t>Positions</a:t>
            </a:r>
            <a:endParaRPr b="0" i="1" lang="en-US" sz="40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hairma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ecretary/Treasur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dvancement Coordinato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Equipment and Camping Coordinato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romotion and Publicity Coordinator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Break - time</a:t>
            </a:r>
            <a:br>
              <a:rPr sz="4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10 minut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14ffb"/>
                </a:solidFill>
                <a:latin typeface="Book Antiqua"/>
              </a:rPr>
              <a:t>Outpost Council</a:t>
            </a: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	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finitio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special committee composed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hree to five men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o have the basic responsibilities of the administration of the Royal Rangers program within the local church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14ffb"/>
                </a:solidFill>
                <a:latin typeface="Book Antiqua"/>
              </a:rPr>
              <a:t>Why be involved</a:t>
            </a:r>
            <a:endParaRPr b="0" i="1" lang="en-US" sz="7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800680" y="1989000"/>
          <a:ext cx="150516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00680" y="1989000"/>
                    <a:ext cx="150516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433240" y="2212920"/>
            <a:ext cx="12276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6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is no ministry in t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ssembl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o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hat win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souls than Royal Rangers.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rry Rabur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Pas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National Director,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vision of Church Ministr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Age When Saved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% saved before the age of 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85% saved between the ages of 4 and 1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0% saved between the ages of 15 and 30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nly 4 percent saved after the age of 30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urce: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Handbook of Children’s Evangelis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 advTm="1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Mission of Royal Ranger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o reach, teach, and k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boys for Christ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oyal Rangers Goal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instruct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ible doctrin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challenge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hristian servic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inspire a belief in the fundament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eliefs of our church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satisfy the boys’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asic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need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ctivity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28T23:39:54Z</cp:lastPrinted>
  <dcterms:modified xsi:type="dcterms:W3CDTF">1999-07-25T04:22:02Z</dcterms:modified>
  <cp:revision>75</cp:revision>
  <dc:subject>Outpost Council </dc:subject>
  <dc:title>North Texas District Royal Rangers</dc:title>
</cp:coreProperties>
</file>