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7606E86E-DF67-4691-896E-46939196CD7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81E-E6E5-465A-86DA-07D7DD6D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4D2-F19E-4C25-A4EB-9FCEA46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E42-F54E-4F62-A41B-339CB696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141-21F8-43DA-A882-B8CC2E4D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F2E-CD79-4A66-8A58-63462AD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97A-8AE6-4062-B2F9-FB232422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195-2F31-4C44-B363-30B133D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A09-2BC0-4A1A-B31E-8702748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2B9-711B-458F-80BA-1DD99A3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128-2A3A-4BF0-A526-5B76149C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35A-1FE8-4406-8F74-ED660AF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6B8-95F3-487D-BDD3-202EDE8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A87-985F-4A6B-928D-94E3E3A60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ccident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home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nnouncement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bulletin boar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Newspap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ost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achiev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pecial awar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onth/yea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lletin boar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si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ocal communit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gu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ather/s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pen hous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drais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pp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onducting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gning specific areas of responsibility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coordinated and completed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dvise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st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it a viable ne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und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ventor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waterproof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ne locati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x or repai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per suppli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immediate recognition of a bo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dvancement review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arrying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the chairm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view bo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clo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 hon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laxed sett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utor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ever refu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ait lo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complishm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are the Royal Rangers progra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centiv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presente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entire church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irm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uncilm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minute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council meeting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copie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date, time,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location of meeting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ublicity and promotions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ld and new busines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journ with pray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46280"/>
            <a:ext cx="73152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B   R   E   A   K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a1cfc"/>
                </a:solidFill>
                <a:latin typeface="Book Antiqua"/>
              </a:rPr>
              <a:t>LUNCH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budge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financial record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Be accountabl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xpenditures will serve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 as a guide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outpos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equipmen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requests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Due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Budget allowance from church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undraising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pecial offering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utpos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dget ite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quarter a wee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ffering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tribut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y’s characte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uncil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flict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u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hristian princip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19Z</dcterms:modified>
  <cp:revision>74</cp:revision>
  <dc:subject>Outpost Council </dc:subject>
  <dc:title>North Texas District Royal Rangers</dc:title>
</cp:coreProperties>
</file>