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920908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208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1800"/>
            <a:ext cx="398952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217840" y="-1800"/>
            <a:ext cx="398916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0" y="6513120"/>
            <a:ext cx="398952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217840" y="6513120"/>
            <a:ext cx="398916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CCA5-FCA3-4797-9258-928D09D4BA8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1226880" y="3255480"/>
            <a:ext cx="6753240" cy="308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Img"/>
          </p:nvPr>
        </p:nvSpPr>
        <p:spPr>
          <a:xfrm>
            <a:off x="2892600" y="514080"/>
            <a:ext cx="3427200" cy="257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Click to move the slide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1226880" y="3255480"/>
            <a:ext cx="6753240" cy="308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co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one of the later LTC courses put out by Nat’l off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 teaching this course so the outpost councilmen knows what their roll is in the Royal Ranger pro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rse is usually an 6-8 hour cou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ensed to 4 h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Teaching concept  will be follo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 -- each should have a book and out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. notes on the outline sheets suppl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ill be taken up and graded at end of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writing and filling in the blan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ompletion of  the 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ificates will be given upon complete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and Answers are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not chase rabbits with ideas or answ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questions requiring more detail answers will have to w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ll break time or after class in order to save tim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ldImg"/>
          </p:nvPr>
        </p:nvSpPr>
        <p:spPr>
          <a:xfrm>
            <a:off x="2892600" y="514440"/>
            <a:ext cx="3427200" cy="2570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1226880" y="3255480"/>
            <a:ext cx="6753240" cy="308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co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one of the later LTC courses put out by Nat’l off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 teaching this course so the outpost councilmen knows what their roll is in the Royal Ranger pro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rse is usually an 6-8 hour cou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ensed to 4 h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Teaching concept  will be follo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 -- each should have a book and out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. notes on the outline sheets suppl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ill be taken up and graded at end of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writing and filling in the blan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ompletion of  the 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ificates will be given upon comple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and Answers are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not chase rabbits with ideas or answ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questions requiring more detail answers will have to w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ll break time or after class in order to save tim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ldImg"/>
          </p:nvPr>
        </p:nvSpPr>
        <p:spPr>
          <a:xfrm>
            <a:off x="2892600" y="514440"/>
            <a:ext cx="3427200" cy="2570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CA7C-FACA-4418-B748-4E464A98E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7320-9589-4018-BBA8-BE4913BD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2F69-215B-4020-AC68-CCC21D9D0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1F08-EE25-4AC6-A56A-6BCB9FDA5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16C8-C151-4D4C-AD1E-FFBFFC20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6B12-AD5E-4CA5-AFBF-5BD9C08E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FD2A-595D-4189-8B05-3B745727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F091-B6A4-49EF-9076-5F62FF39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00CE-ED54-4B0F-81A0-29FE1A03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293E-7CC2-4E70-AB3B-D983EDD8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407A-7A81-42DB-B2E7-8BEFBD52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CD44-96F0-400B-A216-55D0D373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B5F2-603A-40F3-894F-2A3AAF487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4400" y="299880"/>
            <a:ext cx="1304640" cy="114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016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Book Antiqua"/>
              </a:rPr>
              <a:t>Outpost Councilmen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Book Antiqua"/>
              </a:rPr>
              <a:t>Leadership Training Course</a:t>
            </a:r>
            <a:br>
              <a:rPr sz="4800"/>
            </a:br>
            <a:r>
              <a:rPr b="0" i="1" lang="en-US" sz="1600" spc="-1" strike="noStrike">
                <a:solidFill>
                  <a:srgbClr val="000000"/>
                </a:solidFill>
                <a:latin typeface="Book Antiqua"/>
              </a:rPr>
              <a:t> </a:t>
            </a:r>
            <a:br>
              <a:rPr sz="1600"/>
            </a:br>
            <a:r>
              <a:rPr b="0" i="1" lang="en-US" sz="4800" spc="-1" strike="noStrike">
                <a:solidFill>
                  <a:srgbClr val="000000"/>
                </a:solidFill>
                <a:latin typeface="Book Antiqua"/>
              </a:rPr>
              <a:t> Session 3</a:t>
            </a:r>
            <a:endParaRPr b="0" i="1" lang="en-US" sz="4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400" y="152280"/>
            <a:ext cx="2427120" cy="21337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Responsibilities of a Commander </a:t>
            </a:r>
            <a:r>
              <a:rPr b="1" i="1" lang="en-US" sz="2400" spc="-1" strike="noStrike">
                <a:solidFill>
                  <a:srgbClr val="676767"/>
                </a:solidFill>
                <a:latin typeface="Book Antiqua"/>
              </a:rPr>
              <a:t>(con’t.)</a:t>
            </a:r>
            <a:endParaRPr b="0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Provide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ssistance with advancement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rovi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spiritual guidance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the boys throug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Bible studies, devotions,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nd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hristian exampl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rovide extr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activities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geared to the boys’ age, like camp-outs, hikes, and field day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Responsibilities of the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Senior Commander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The senior commander is vital to any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outpost with more than one age group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His duties are: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653760" indent="-25128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Coordinate activities of the various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age groups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1" marL="653760" indent="-25128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Serve as the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liaison 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between the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outpost council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 and commanders, and with the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section, district, and national Royal Rangers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1" marL="653760" indent="-25128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Fill in as needed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 in the absence of a commander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1" marL="653760" indent="-25128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Coordinate with the outpost council the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presentation of awards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 to boys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Other Leadership Positions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ieutenant Commande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76080" indent="-25992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Assist a commander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in weekly meetings and extra activitie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Junior Commande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76080" indent="-25992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 boy ag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15-17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76080" indent="-25992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Assists a commander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while continuing to work on his advancement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76080" indent="-25992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Should not be in charge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of a meeting or extra activity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Other Leadership Positions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nior Guid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-2714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Coordinates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the activities of the various patrol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-2714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Liaison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between commander and patrol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atrol Guid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-2714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sponsible f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leading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their patrol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sistant Patrol Guid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-2714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e is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assist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 patrol guide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Book Antiqua"/>
              </a:rPr>
              <a:t>T R A I N I N G </a:t>
            </a:r>
            <a:endParaRPr b="0" i="1" lang="en-US" sz="7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153280" y="617220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286000" y="2362320"/>
          <a:ext cx="52513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362320"/>
                    <a:ext cx="52513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The Royal Ranger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Leadership Training Course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ach LTC consists of five section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Organiz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Counsel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Coordinat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Camping or Day Camp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Teaching and Communic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eaders Medal of Achievement is awarded for comple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620120" y="3733920"/>
          <a:ext cx="1181160" cy="22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3733920"/>
                    <a:ext cx="1181160" cy="22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National Training Events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National Training Camp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uckaroo/Straight Arrow Training Conferenc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dvanced National Training Camp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inter National Training Camp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National Training Trail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National Canoe Expedi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National Urban Leadership Conferenc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Training Camps for Boys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JLTC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asic Ranger skills are taugh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tructured camp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r. Guide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Training Camps for Boys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JTC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5 day camp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dvanced Ranger skills are taugh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laxed camp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r. Guide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Training Camps for Boys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JTT (Junior Training Trails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5 day camp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asic Ranger back packing skills...taugh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mi relaxed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r. Guide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Training Camps for Boys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agle Rock Adventure (National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ational Merit camp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ack packing trip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Things Which Impress Boys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oys are impressed by things which are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Bi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Unusua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Challeng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Types of Outdoor Activities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Campout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Field Trip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Hikes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/Backpack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Pow Wow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amporama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ike Rodeo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eld Day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ports Day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inter Fun Day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ater Activities (swimming, canoeing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What Chartering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Can Do For You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3657600"/>
            <a:ext cx="38098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articip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istinc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7960" y="3657240"/>
            <a:ext cx="380988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cogni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atisfac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ublication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6" name=""/>
          <p:cNvSpPr/>
          <p:nvPr/>
        </p:nvSpPr>
        <p:spPr>
          <a:xfrm>
            <a:off x="683280" y="2103480"/>
            <a:ext cx="82713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re are a number of important benefit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at accompany consistent chartering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y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Steps in Starting an Outpost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1</a:t>
            </a:r>
            <a:r>
              <a:rPr b="1" lang="en-US" sz="2700" spc="-1" strike="noStrike">
                <a:solidFill>
                  <a:srgbClr val="000000"/>
                </a:solidFill>
                <a:latin typeface="Book Antiqua"/>
              </a:rPr>
              <a:t> .</a:t>
            </a: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 The following people must become enthused</a:t>
            </a:r>
            <a:endParaRPr b="0" lang="en-US" sz="27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about the ministry:</a:t>
            </a:r>
            <a:endParaRPr b="0" lang="en-US" sz="27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Pastor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Church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Honor Boun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Outpost Counci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Steps in Starting an Outpost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26"/>
              </a:spcBef>
              <a:buClr>
                <a:srgbClr val="232323"/>
              </a:buClr>
              <a:buSzPct val="75000"/>
              <a:buFont typeface="Book Antiqua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.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Enlist the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Book Antiqua"/>
              </a:rPr>
              <a:t>commanders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26"/>
              </a:spcBef>
              <a:buClr>
                <a:srgbClr val="232323"/>
              </a:buClr>
              <a:buSzPct val="75000"/>
              <a:buFont typeface="Book Antiqua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.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Leadership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Book Antiqua"/>
              </a:rPr>
              <a:t>preparation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26"/>
              </a:spcBef>
              <a:buClr>
                <a:srgbClr val="232323"/>
              </a:buClr>
              <a:buSzPct val="75000"/>
              <a:buFont typeface="Book Antiqua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.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Make arrangements for meetings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26"/>
              </a:spcBef>
              <a:buClr>
                <a:srgbClr val="232323"/>
              </a:buClr>
              <a:buSzPct val="75000"/>
              <a:buFont typeface="Book Antiqua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.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Book Antiqua"/>
              </a:rPr>
              <a:t>Charter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 recognition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Guidelines for Outpost Meetings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Meetings should b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weekly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318960" indent="-318960">
              <a:lnSpc>
                <a:spcPct val="130000"/>
              </a:lnSpc>
              <a:spcBef>
                <a:spcPts val="64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Meetings should be at least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 1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, and preferably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1 1/2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hours long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318960" indent="-318960">
              <a:lnSpc>
                <a:spcPct val="110000"/>
              </a:lnSpc>
              <a:spcBef>
                <a:spcPts val="64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Starting and ending times should coincide with other activities on the same night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6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4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Sufficient commanders and helpers are needed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lnSpc>
                <a:spcPct val="120000"/>
              </a:lnSpc>
              <a:spcBef>
                <a:spcPts val="64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Commanders need to b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prepared 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with enough activities for the entire period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lnSpc>
                <a:spcPct val="110000"/>
              </a:lnSpc>
              <a:spcBef>
                <a:spcPts val="64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Wed. night is ideal as part of family night, but watch conflicts with youth group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Guidelines for Outpost Meeting Area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ach age group needs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separate area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-322200">
              <a:lnSpc>
                <a:spcPct val="110000"/>
              </a:lnSpc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ables and chairs need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match the needs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of the boy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-322200">
              <a:lnSpc>
                <a:spcPct val="110000"/>
              </a:lnSpc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Storage space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is needed for crafts, supplies, book, etc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ufficie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light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ventilation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should be available to make the area conducive to learning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pace should be sufficiently large to allow for a variety of activitie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762920" y="579600"/>
            <a:ext cx="31798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Break - time</a:t>
            </a:r>
            <a:br>
              <a:rPr sz="44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10 min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73160" y="655560"/>
            <a:ext cx="31798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Break - time</a:t>
            </a:r>
            <a:br>
              <a:rPr sz="44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10 min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048120" y="2662200"/>
          <a:ext cx="3647880" cy="36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662200"/>
                    <a:ext cx="3647880" cy="36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Job Descriptions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utpost Commande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t. Commande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Jr. Commande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r. Guide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2773080"/>
            <a:ext cx="7772400" cy="332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ust meet the basic qualifications of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Commande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ust have a general knowledge of the tota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Royal Ranger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rogram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ust have completed or be enrolled in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Leadership Training Cours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" name=""/>
          <p:cNvSpPr/>
          <p:nvPr/>
        </p:nvSpPr>
        <p:spPr>
          <a:xfrm>
            <a:off x="286920" y="1736640"/>
            <a:ext cx="783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Book Antiqua"/>
              </a:rPr>
              <a:t>The Senior Commander of an outpost should m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Book Antiqua"/>
              </a:rPr>
              <a:t>the following qualific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599840" y="39996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Qualifications of a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Senior Commander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Qualifications of a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Senior Commander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(con’t.)</a:t>
            </a:r>
            <a:endParaRPr b="0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ust be abl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to work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ith other me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ust be willing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spend time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n behalf of Royal Range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ust be willing to atte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additional training experiences,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if at all possibl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5760" y="3049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Qualifications of a Commander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born-again Christian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well grounded in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Word of God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 loyal to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church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Hav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habits and ideal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which are above reproach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Like boy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nd enjoy working with them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676520"/>
            <a:ext cx="5619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A Royal Rangers commander shoul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87800" y="1600200"/>
            <a:ext cx="575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Book Antiqua"/>
              </a:rPr>
              <a:t>A Royal Rangers commander shoul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4320" y="304920"/>
            <a:ext cx="76978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Qualifications of a Commander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 (con’t)</a:t>
            </a:r>
            <a:endParaRPr b="0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Hav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consistent testimony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in daily Christian living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 able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lead and delegate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uthority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ossess goo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judgmen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 willing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accept responsibility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676520"/>
            <a:ext cx="5619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A Royal Rangers commander shoul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Qualifications of a Commander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(con’t)</a:t>
            </a:r>
            <a:endParaRPr b="0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715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mmand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respect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of other me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Cooperate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with the program of the church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 willing to tak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leadership training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21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years of age or older (lieutenant commanders must be 18 or older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Responsibilities of a Commander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2133720"/>
            <a:ext cx="7467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There should be a commander for each ag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group. This man or woman is responsib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for the following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40384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1000"/>
          </a:bodyPr>
          <a:p>
            <a:pPr marL="140400" indent="-1404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com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trained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in the RR program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140400" indent="-1404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rovid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weekly meeting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hich balanc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fun and accomplishmen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1" name=""/>
          <p:cNvSpPr/>
          <p:nvPr/>
        </p:nvSpPr>
        <p:spPr>
          <a:xfrm>
            <a:off x="-3505320" y="1905120"/>
            <a:ext cx="7315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9T20:03:30Z</dcterms:created>
  <dc:creator>Dwain Klopfenstein/Paul Patterson</dc:creator>
  <dc:description>Taught at 1997 Regional Seminar Class</dc:description>
  <dc:language>en-US</dc:language>
  <cp:lastModifiedBy>Jonathan Trower</cp:lastModifiedBy>
  <cp:lastPrinted>1998-01-27T02:18:50Z</cp:lastPrinted>
  <dcterms:modified xsi:type="dcterms:W3CDTF">1999-07-25T04:42:18Z</dcterms:modified>
  <cp:revision>48</cp:revision>
  <dc:subject>Outpost Council </dc:subject>
  <dc:title>North Texas District Royal Rangers</dc:title>
</cp:coreProperties>
</file>