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5C2-26C0-4BA9-9BE7-CB3931191D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338-6D83-4207-832A-05B8C2CB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F0D-ACFD-493E-BB61-379BC97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EC7-CB72-431C-B727-55053639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759-D1BA-4146-9302-F254CA33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B3D-7699-48AA-B760-C0D63F1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9F9-ADCC-4515-889B-EA01C7F0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7CC-25CA-4511-BCB0-2FE563BE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8E6-9FA3-4A77-B584-B2BE61E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DEB-4E70-4C0C-8D25-077C783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61B-7E7C-46B8-950F-C4D05B29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FF5-A7F8-4CCF-9F96-C397D61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F1C-BC85-47F8-B6EB-1009E03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2C09-B9AC-4BD8-AA1D-E1E4FD00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yond child's develop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dden avoidan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ognized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rui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ractures/dislo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ju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creen you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for proper condu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ob descrip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 adult lea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l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ace and privac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Keep written record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port incide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ve ab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is ruled ou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certain about the find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confirm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st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ck or criticiz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member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evention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Question and Answer tim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RITE YOUR NAME ON BOOKL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SS TO THE FRON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a1cfc"/>
                </a:solidFill>
                <a:latin typeface="Book Antiqua"/>
              </a:rPr>
              <a:t>T E S T     T I M E</a:t>
            </a:r>
            <a:endParaRPr b="0" i="1" lang="en-US" sz="6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25333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NAME THE </a:t>
            </a:r>
            <a:r>
              <a:rPr b="1" lang="en-US" sz="2400" spc="-1" strike="noStrike" u="sng">
                <a:solidFill>
                  <a:srgbClr val="232323"/>
                </a:solidFill>
                <a:uFillTx/>
                <a:latin typeface="Book Antiqua"/>
              </a:rPr>
              <a:t>5</a:t>
            </a: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 OUTPOST COUNCIL POSITION AND THE FUNCTION OF EACH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WHAT WOULD BE THE VALUE OF ROYAL RANGERS IN YOUR CHURCH?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ild exploitation for the sexual gratification of another per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s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unting season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n or women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ea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xu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9:26Z</cp:lastPrinted>
  <dcterms:modified xsi:type="dcterms:W3CDTF">1999-07-25T04:51:19Z</dcterms:modified>
  <cp:revision>62</cp:revision>
  <dc:subject>Outpost Council </dc:subject>
  <dc:title>North Texas District Royal Rangers</dc:title>
</cp:coreProperties>
</file>