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476D0847-61E4-447F-AB53-013CF669911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714-9736-41B2-A2F1-C16D2D06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BDE-6C7B-47F3-BAA2-BC6264C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C3D-CA75-4B01-AB31-C4A8648F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BE2-4247-49EA-9E9F-1F83FD43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29C-5715-461A-A585-BA465E3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573-B4B8-4A47-8C4B-9520C7B8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24B-D280-4DDB-A702-F6A9FB38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F2E-8C0A-4C17-8C62-0AA26CFF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D5B-43BD-48B0-A804-D571BB6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6D3-7106-4A65-A520-2577CF65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3CF-A241-465D-B2D4-C0CA7AE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696-D59A-4451-BA4B-C6B9F6A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DCF7-ECE1-491F-AB1C-E7BCAA18C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.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expenditures will serv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25Z</dcterms:modified>
  <cp:revision>76</cp:revision>
  <dc:subject>Outpost Council </dc:subject>
  <dc:title>North Texas District Royal Rangers</dc:title>
</cp:coreProperties>
</file>