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2090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208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952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217840" y="-1800"/>
            <a:ext cx="398916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398952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217840" y="6513120"/>
            <a:ext cx="398916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132C-0368-4E60-803C-A5ED065EE81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2892600" y="514080"/>
            <a:ext cx="3427200" cy="257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Img"/>
          </p:nvPr>
        </p:nvSpPr>
        <p:spPr>
          <a:xfrm>
            <a:off x="2892600" y="514440"/>
            <a:ext cx="3427200" cy="2570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13B-E4D0-4EA4-BF63-966822C0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8A7F-284B-4688-9607-BCE8DFBA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A09-839F-48CE-890A-9311E43E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CD3-8506-4D0D-A212-26E1BE25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22B1-34C6-4C63-9EDC-C3480802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9E4-EC44-4951-A90C-363562F5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2BC8-BBFA-4CC0-BD6E-34D233D1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A2E-B7A4-4B43-8B59-6CA5DF6F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958A-C369-450E-82E2-5627E617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9A3E-772D-4B6A-A1F8-9138F99E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7AA-60AE-43FF-843C-4C9A74B1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EF76-91DD-41C7-96FB-D35319E4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A5B3-2193-4DD2-B144-40595701A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1600"/>
            </a:br>
            <a:r>
              <a:rPr b="0" i="1" lang="en-US" sz="4800" spc="-1" strike="noStrike">
                <a:solidFill>
                  <a:srgbClr val="000000"/>
                </a:solidFill>
                <a:latin typeface="Book Antiqua"/>
              </a:rPr>
              <a:t> Session 3</a:t>
            </a:r>
            <a:endParaRPr b="0" i="1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00" y="152280"/>
            <a:ext cx="24271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Responsibilities of the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Senior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e senior commander is vital to an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outpost with more than one age group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is duties are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Coordinate activities of the variou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Serve as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between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and commanders, and with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Fill in as needed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in the absence of a commander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Coordinate with the outpost council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to boys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Other Leadership Position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ieutenant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n weekly meetings and extra activitie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unior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 boy ag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while continuing to work on his advancement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a meeting or extra activity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Other Leadership Position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nior Guid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he activities of the various patrol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between commander and patrol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8520" indent="-3085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atrol Guid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sponsible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heir patrol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8520" indent="-3085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ant Patrol Guid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e i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he patrol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Book Antiqua"/>
              </a:rPr>
              <a:t>T R A I N I N G </a:t>
            </a:r>
            <a:endParaRPr b="0" i="1" lang="en-US" sz="7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153280" y="61722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286000" y="2362320"/>
          <a:ext cx="5251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362320"/>
                    <a:ext cx="5251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he Royal Ranger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Leadership Training Course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ch LTC consists of five section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eaders Medal of Achievement is awarded for comple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620120" y="3733920"/>
          <a:ext cx="1181160" cy="22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3733920"/>
                    <a:ext cx="118116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National Training Event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Training Camp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uckaroo/Straight Arrow Training Conferenc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dvanced National Training Camp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nter National Training Camp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Training Trail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Canoe Expedi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Urban Leadership Conferenc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LTC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asic Ranger skills are taugh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tructured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r.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JTC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5 day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dvanced Ranger skills are taugh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laxed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r.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TT (Junior Training Trails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5 day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asic Ranger back packing skills...taugh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mi relax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r.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gle Rock Adventure  (National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ational Merit camp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ack packing trip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Job Description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post Comman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t. Comman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r. Comman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r. Guid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hings Which Impress Boy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oys are impressed by things which ar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ypes of Outdoor Activitie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/ Backpack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amporam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ike Rodeo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eld D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ports D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nter Fun D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ater Activities (swimming, canoeing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What Chartering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Can Do For You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36576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rticip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stinc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3657240"/>
            <a:ext cx="38098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ogni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atisfac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ublicat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"/>
          <p:cNvSpPr/>
          <p:nvPr/>
        </p:nvSpPr>
        <p:spPr>
          <a:xfrm>
            <a:off x="683280" y="2103480"/>
            <a:ext cx="82713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are a number of important benefi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at accompany consistent chartering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y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Steps in Starting an Outpost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700" spc="-1" strike="noStrike">
                <a:solidFill>
                  <a:srgbClr val="000000"/>
                </a:solidFill>
                <a:latin typeface="Book Antiqua"/>
              </a:rPr>
              <a:t> .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 The following people must become enthused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about the ministry: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Steps in Starting an Outpost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Enlist th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Leadership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Make arrangements for meetings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recognition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Guidelines for Outpost Meeting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Meetings should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lnSpc>
                <a:spcPct val="13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Meetings should be at leas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, and preferabl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hours long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lnSpc>
                <a:spcPct val="11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tarting and ending times should coincide with other activities on the same night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6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ufficient commanders and helpers are needed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2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ommanders need to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with enough activities for the entire period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1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Wed. night is ideal as part of family night, but watch conflicts with youth group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Guidelines for Outpost Meeting Area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ach age group need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ables and chairs need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the boy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s needed for crafts, supplies, book, etc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ffici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should be available to make the area conducive to learning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pace should be sufficiently large to allow for a variety of activitie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2773080"/>
            <a:ext cx="7772400" cy="332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meet the basic qualifications of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have a general knowledge of the tot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rogra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have completed or be enrolled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"/>
          <p:cNvSpPr/>
          <p:nvPr/>
        </p:nvSpPr>
        <p:spPr>
          <a:xfrm>
            <a:off x="592920" y="1736640"/>
            <a:ext cx="751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he Senior Commander of an outpost should 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he following qualifi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599840" y="3999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Senior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Senior Commander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(con’t.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be ab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ith other me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be willing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 behalf of Royal Rang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be willing to atte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if at all possibl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5760" y="3049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well grounded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loyal 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hich are above reproach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nd enjoy working with the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"/>
          <p:cNvSpPr/>
          <p:nvPr/>
        </p:nvSpPr>
        <p:spPr>
          <a:xfrm>
            <a:off x="671040" y="1433520"/>
            <a:ext cx="567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 Royal Rangers Commander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71040" y="1433520"/>
            <a:ext cx="567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 Royal Rangers Commander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4320" y="304920"/>
            <a:ext cx="7697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Commander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(con’t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av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 daily Christian liv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able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uthorit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ossess goo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willing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71040" y="1433520"/>
            <a:ext cx="567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 Royal Rangers Commander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Commander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(con’t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715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man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other me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ith the program of the church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willing to ta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years of age or older (Lieutenant Commanders must be 18 or older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Responsibilities of a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2133720"/>
            <a:ext cx="7467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There should be a commander for each ag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group. This man or woman is responsi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for the following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40384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1000"/>
          </a:bodyPr>
          <a:p>
            <a:pPr marL="140400" indent="-1404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co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 the RR progra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140400" indent="-1404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vid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hich balanc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"/>
          <p:cNvSpPr/>
          <p:nvPr/>
        </p:nvSpPr>
        <p:spPr>
          <a:xfrm>
            <a:off x="-3505320" y="1905120"/>
            <a:ext cx="7315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Responsibilities of a Commander </a:t>
            </a:r>
            <a:r>
              <a:rPr b="1" i="1" lang="en-US" sz="2400" spc="-1" strike="noStrike">
                <a:solidFill>
                  <a:srgbClr val="676767"/>
                </a:solidFill>
                <a:latin typeface="Book Antiqua"/>
              </a:rPr>
              <a:t>(con’t.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ssistance with advancement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vi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o the boys throug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and Christian exampl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vide ext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geared to the boys’ age, like camp-outs, hikes, and field day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7-06T06:26:34Z</cp:lastPrinted>
  <dcterms:modified xsi:type="dcterms:W3CDTF">1999-07-25T04:42:46Z</dcterms:modified>
  <cp:revision>50</cp:revision>
  <dc:subject>Outpost Council </dc:subject>
  <dc:title>North Texas District Royal Rangers</dc:title>
</cp:coreProperties>
</file>