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92090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208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399096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218200" y="-1440"/>
            <a:ext cx="399096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1440" y="6515280"/>
            <a:ext cx="399096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218200" y="6515280"/>
            <a:ext cx="399096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753BA6-0FE7-43BC-9904-D23F07FAC9A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230120" y="3255480"/>
            <a:ext cx="6746760" cy="30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2893680" y="515880"/>
            <a:ext cx="3421080" cy="256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230120" y="3255480"/>
            <a:ext cx="6746760" cy="30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Img"/>
          </p:nvPr>
        </p:nvSpPr>
        <p:spPr>
          <a:xfrm>
            <a:off x="2894040" y="515880"/>
            <a:ext cx="3421080" cy="25653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1A46-B389-4D43-B2F7-759C7FC6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0CB1-3E10-4AE8-A9AC-A8D1FB65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A67F-1F87-44BC-8341-333C13B4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9114-B985-4F1C-BA49-CFFCFDD3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6B0E-6FCA-43B2-A52F-08A8E5E9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B3D8-E1A7-42EF-9498-6AC61395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4C4D-BC12-4C3A-BF55-6CC2C559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9593-E33E-4266-8E30-609A33BF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2B91-43FB-42D7-A1A9-90FC851E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CEC5-61E1-402F-966A-1AC9904C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5251-0CC0-45C5-B420-4ABF01AD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57FE-22EA-47FF-AB77-D33DD82A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1ABE-5FD2-4AEE-A183-37FF9F4E2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299880"/>
            <a:ext cx="1304640" cy="114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2057040"/>
            <a:ext cx="75452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Outpost Councilmen</a:t>
            </a:r>
            <a:br>
              <a:rPr sz="48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Leadership Training Course</a:t>
            </a:r>
            <a:br>
              <a:rPr sz="4800"/>
            </a:br>
            <a:r>
              <a:rPr b="0" i="1" lang="en-US" sz="1600" spc="-1" strike="noStrike">
                <a:solidFill>
                  <a:srgbClr val="114ffb"/>
                </a:solidFill>
                <a:latin typeface="Book Antiqua"/>
              </a:rPr>
              <a:t> </a:t>
            </a: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Session 4 </a:t>
            </a:r>
            <a:br>
              <a:rPr sz="4800"/>
            </a:br>
            <a:br>
              <a:rPr sz="48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  </a:t>
            </a:r>
            <a:r>
              <a:rPr b="0" i="1" lang="en-US" sz="6000" spc="-1" strike="noStrike">
                <a:solidFill>
                  <a:srgbClr val="114ffb"/>
                </a:solidFill>
                <a:latin typeface="Book Antiqua"/>
              </a:rPr>
              <a:t>Child Abuse</a:t>
            </a:r>
            <a:endParaRPr b="0" i="1" lang="en-US" sz="60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00" y="152280"/>
            <a:ext cx="2427120" cy="2133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Physical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on-accidental injur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ating, shak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uman bites, strangulation mark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ur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tches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mmerse in scalding hot wate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Physical Abuse </a:t>
            </a:r>
            <a:r>
              <a:rPr b="0" i="1" lang="en-US" sz="3200" spc="-1" strike="noStrike">
                <a:solidFill>
                  <a:srgbClr val="114ffb"/>
                </a:solidFill>
                <a:latin typeface="Book Antiqua"/>
              </a:rPr>
              <a:t>(con’t)</a:t>
            </a:r>
            <a:endParaRPr b="0" i="1" lang="en-US" sz="3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hild Abuse Prevention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stablish procedures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stablis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oyal Rangers lead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hild Abuse Prevention  (con’t)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quired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spect thei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unusual behavior and occurrenc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child abuse to pastor or church boar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ndatory by the law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Reporting Child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o Must Report 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ch state has different statutes for report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en &amp; Where to Repor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hen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asonable caus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ou don’t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port to the pasto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Happen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vestigation results in 3 thing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560" y="17136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How to Deal With I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ovide private time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what the child s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omise not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r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to do the right thing”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How to Deal With It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114ffb"/>
                </a:solidFill>
                <a:latin typeface="Book Antiqua"/>
              </a:rPr>
              <a:t>con’t)</a:t>
            </a:r>
            <a:endParaRPr b="0" i="1" lang="en-US" sz="3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on’t expre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amil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ssure them ... done the right th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termine immediate need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ell them .. required by law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o proper authorit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exual Child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tercourse, sodomy, oral-genitals stimulation, verbal stimula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hibitionism (enjoy watching)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ndling, pornograph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hild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A report of suspected abuse is the attempt to protect a chil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reatment for the victims and their families is essential to stopping abuse once it has occurre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is no ministry in th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ssembl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God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hat win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re souls than Royal Rangers.”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erry Raburn, Past National Director,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ivision of Church Ministri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Mission of Royal Ranger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reach, teach and keep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oys for Christ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cope of this problem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ver 1,000,000 abuse cases a yea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2,000 - 3,000 deaths each yea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 in 5 be sexually abused by 18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re than 1/3 are children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5 years and olde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33% girls by 18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7% boys by 18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xual abuse last 1-4 yea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Leader Selection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ally know your Royal Ranger lea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2743200"/>
            <a:ext cx="26672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hurche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lways needing lea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e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ad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n and wife tea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Open Door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all year around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creening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ll out Children/You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terview  applican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ll reference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evious church attendance/involv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olice records (if you suspect a cause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Various Forms of Child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bus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hysica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Recognition of Abuse (Physical or Emotional)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nowledge or behavi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requent complaints .. headache, backache, stomachach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certain adul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cline in school performanc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20:03:30Z</dcterms:created>
  <dc:creator>Dwain Klopfenstein/Paul Patterson</dc:creator>
  <dc:description>Taught at 1997 Regional Seminar Class</dc:description>
  <dc:language>en-US</dc:language>
  <cp:lastModifiedBy>Jonathan Trower</cp:lastModifiedBy>
  <cp:lastPrinted>1998-01-09T03:55:52Z</cp:lastPrinted>
  <dcterms:modified xsi:type="dcterms:W3CDTF">1999-07-25T04:51:26Z</dcterms:modified>
  <cp:revision>68</cp:revision>
  <dc:subject>Outpost Council </dc:subject>
  <dc:title>North Texas District Royal Rangers</dc:title>
</cp:coreProperties>
</file>