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3BE-A806-4798-9E4D-F7AB4665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BFF-F3D5-4E25-A261-AB4227A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519-17D3-442A-967D-30712D05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31D-E648-4CAA-88BE-9E2E387E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EC8D-F933-4B2F-9057-53788B7C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26B3-ECAA-47CD-976E-A6A326D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876-2823-4695-85AF-3DA8B4D8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EF5C-DA37-41C4-BD47-1A5C596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AB7E-E2C2-4A98-9541-CF9AE85B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E300-76F7-4078-A69F-D0E8963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5BC9-2B8B-4A55-B909-391786FB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717-627E-4DE3-990C-1F2F3533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4322-DFB7-4BE9-9B33-67D8A51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AF38-4A96-41C0-9210-CC1A066D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BCE1-C0E4-4004-916E-F0F6519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1E48-868F-4F99-8AEF-050F9E48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03FE-38F2-4D41-A610-ED1A320A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5A8-8C84-4262-AF7B-9A5029C2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E88-19FF-4CFD-8A21-D9DC977F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406-2852-4A74-8831-EDFF5524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9D2-D13D-42A0-B2AD-A76348A6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AC2-587B-462C-8299-036B9FB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73A-7049-4FDC-B496-BF50DE4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413-DF22-4593-84B1-9EDBFCF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749-0FC8-435A-9592-1F271C53ED04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Arial Black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875-CA3C-45BB-BE5C-918E1A617FE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 Commanders 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341440" cy="2477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retary/Treasurer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rds keeping- PCA assign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king notes at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nances raised by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2022480" cy="259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dministrative Assista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slet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ri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sig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in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i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utpost reco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eparing flyers, announc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1898640" cy="1425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anquet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velops menu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termines c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tains the foo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ing arran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vide for kitchen staf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od ser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095880" y="2743200"/>
          <a:ext cx="1621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743200"/>
                    <a:ext cx="1621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Uniform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ut-grown unifo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en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tches replac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iforms could be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d or given to other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1737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ransport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arrang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ransportation &amp; driv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cor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corates for special 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2492640" cy="2170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und raising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coordinat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und raising effor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nacks after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ndy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ristmas card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lenda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r wash, paper coll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tivitie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onsors at special ev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rip to the zo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unk in or lock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Gym nigh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inewood derb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Need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orks one-on-one with boys who have special need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nguage barri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ttention deficit disorder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hysical disabilitie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ny other disabilities that would keep the boy from advancing to the GM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ditional are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raf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v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ecial ceremon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resh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opt-a-Ranger 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Do’s &amp; Don'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’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et a commit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gular meetin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ordinate with comman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cognize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ken of apprec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n’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commanders duties to the P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load committe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vide rigid deta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too many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752840" cy="192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commander is faced with not having enough time to oversee or administer all of the tasks required in the operation of a highly successful outpos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Recogni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gnition encourages others to get involv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laqu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ow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ift 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recognition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 front of the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tor particip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hat is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How do I organized i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assignme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Committe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’s and Don’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any churches have a wealth of resour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nd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gnificant oth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 boy’s potential can be fully developed with the help of the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before starting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276720" cy="1541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9920" y="3352680"/>
            <a:ext cx="274320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ministry affects not only the boy but also his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heir children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hieve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v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recogniz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o be part o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ir children’s lives, i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only they were ask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19160" cy="138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PCA is a group of parents,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uardians, grandparents or other family members who are willing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im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al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love to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 in a limited manne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a resource for the local outp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dentify the areas you need help i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nnounce the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parent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family member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rt meeting on ti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ll planned organized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y within the time allotted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895480" cy="2210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isplay a list of task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head project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ip cha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alk bo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ster bo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and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ther visual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 not assign commanders’ responsibilities to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09680" cy="1814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CA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ordinates the activities of the committe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ducts monthly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or quarterly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be part of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r. Commander provides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formation on scheduled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182556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Vice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ssist the Coordinator in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rying out his/her du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s as support to the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oyal Rangers Ministr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17:59:07Z</dcterms:created>
  <dc:creator>Marvin Lemke</dc:creator>
  <dc:description/>
  <dc:language>en-US</dc:language>
  <cp:lastModifiedBy>Jonathan Trower</cp:lastModifiedBy>
  <cp:lastPrinted>1998-02-18T19:31:02Z</cp:lastPrinted>
  <dcterms:modified xsi:type="dcterms:W3CDTF">1999-07-23T20:05:04Z</dcterms:modified>
  <cp:revision>60</cp:revision>
  <dc:subject/>
  <dc:title>Royal Rangers</dc:title>
</cp:coreProperties>
</file>