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3.png" ContentType="image/png"/>
  <Override PartName="/ppt/media/image22.png" ContentType="image/png"/>
  <Override PartName="/ppt/media/image26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BB2-D5D4-46C6-8D49-72E666E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D40-D085-421E-8511-AED1865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698-16E0-4809-B9AB-08B2AE79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4B2-421B-49D1-AE57-5F3E29AB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D94-A3EA-4CDC-80C4-CCFA1CA7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134-1BB7-464A-B2D2-D7216044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6B8D-A556-436D-80FC-00D10D42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A51-81BD-4794-AFEF-9DDC545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FC57-2607-4219-9ECF-D92B509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F83E-18BE-4D74-9555-543371E6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8291-338D-41BA-847F-81051774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BE1-CCAF-492A-9638-E11FD748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E3C-3F45-4E54-8CF1-15206C36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E911-3C47-47B0-BA99-B19BCDA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1A0E-2016-4BEE-A48C-8F991E90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122-7688-4FD7-A2A3-497A4273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78D-4A24-41CE-9712-B8574CFF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7CA-5713-415F-B826-E056001D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350-EFB5-4E20-8BA1-95F858B1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1E6-DCC9-4C4F-B6BD-AE3C4838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A80-10CD-49F1-BEA8-BFB92C2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D8B-A369-43C6-B687-F973F853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FFB-7E09-4D8C-9BAF-348A970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1AA-7477-4272-AD27-0DB8848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DCF1-AEFE-44B2-93C6-7650A511FD7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EFF7-AE79-4358-AC5A-9E495FD2D33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Leadership Training Course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(NIV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3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ll have sinned and fall short of the glory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6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e wages of sin is death, but the gift of God is eternal life in Christ Jesus our Lor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hn 1: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t to all who received him, to those wh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his name,  he gave the right to become children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John 1: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 confess our sins, he is faithful and just and will forgive us our sins and purify us from all unrighteousness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lation 3:2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 am! I stand at the door and knock. If anyone hears my voice and opens the door, I will go in and eat with him, and he with me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t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ably one-on-one, away from the rest of the group and sitting close enough to share your B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boy’s name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ak in a relaxing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 vo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48400" y="3886200"/>
          <a:ext cx="2595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8400" y="3886200"/>
                    <a:ext cx="2595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 question / eliminating oppos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ants to go to heaven when he dies and make sure he understands that just believing in Jesus is not en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’s infallibl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with the boy that the Bible is error-free and thank God for giving us his wo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sinned (Romans 3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717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 is death (first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ing the Giver (second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ing the gift (John 1: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ession of sins (1 John 1:9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ing the door (Revelation 3:2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vitation &amp; sinners pr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ould like to ask Jesus into his heart and pray the sinners prayer with hi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-che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ew with the boy and quiz him on what he has d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ing the 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ain how to pr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Bible rea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witnessing (telling ot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church and Sunday school attend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 gr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time aside for studying and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4952880"/>
            <a:ext cx="104328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ltc" descr=""/>
          <p:cNvPicPr/>
          <p:nvPr/>
        </p:nvPicPr>
        <p:blipFill>
          <a:blip r:embed="rId3"/>
          <a:stretch/>
        </p:blipFill>
        <p:spPr>
          <a:xfrm>
            <a:off x="7391520" y="1981080"/>
            <a:ext cx="116208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4T16:47:35Z</dcterms:modified>
  <cp:revision>14</cp:revision>
  <dc:subject/>
  <dc:title>No Slide Title</dc:title>
</cp:coreProperties>
</file>