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0DEC-C409-452C-8464-6EB5A251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C428-10C7-4A9F-92C5-96668E14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120E-A009-4FD4-9596-39976848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C41B-2A8D-4B84-9389-DDCDFBC1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AB20-3C40-4A3F-BA8F-DBDA40CB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5BE4-717E-4505-B91E-24D00B86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913E-F6BC-449D-A461-40DE39D8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7BE2-C854-4234-A387-45D7BB2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96DF-E6E4-4214-AF9B-C430EE93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B1FD-9A93-4A05-A866-49DF5A35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60A3-BA3F-4DB2-B385-7549C259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4D0E-1762-4528-AE25-F8BC142F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F64B-00B6-4BA5-BBDF-E0EEFC6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283C-778B-491F-B243-195114C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6653-193A-4113-B362-4F05A81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9297-4317-458E-9810-DAAF4003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A252-FB85-4976-BBC3-1234DE0C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CBC8-8CA2-43FE-BC75-98A04C1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1B06-8CD3-4DAA-B1BC-7E5BD20E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4257-229C-4191-8020-96D5A242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AD8A-D0AF-4013-A1E4-E44DF9E4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FFA7-D638-461D-8AA7-7B0D878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9E2F-B25A-4BEF-AFAD-CA27E1D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680F-18C4-4499-8E2F-3A532192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Training Camp or BS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934320" y="2819520"/>
            <a:ext cx="846000" cy="1703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848720" y="2819520"/>
            <a:ext cx="846000" cy="1703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Jonathan Trower</cp:lastModifiedBy>
  <dcterms:modified xsi:type="dcterms:W3CDTF">1999-07-24T17:00:44Z</dcterms:modified>
  <cp:revision>11</cp:revision>
  <dc:subject/>
  <dc:title>Royal Rangers Leadership Training Course  Section V: Teaching and Communication</dc:title>
</cp:coreProperties>
</file>