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8834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5322-09F5-43A1-BD59-CC8F724C8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CCA4-46C1-48C6-82BB-BE6B03C8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2F5A-06AE-4825-8579-7532B4A7D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E1ED-A18C-458A-BF75-3188647DA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7FFB-E350-494B-BAD3-4D892279B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AB4B-191E-4602-B4E0-D6AE0EF5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CF66-C2F2-457B-B574-F48BD465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C828-E7BE-4A36-BEFE-C9CC32ED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C6CF-4EE7-469E-B02D-BF12B9F4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7161-9F7E-4DCB-AB7F-C72F519B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6CF8-AA48-434C-AF0A-D4604CAF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114D-7094-4B17-9F90-0307912C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7B93-9D59-4C09-BD8E-1A7AC5C9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4A53-89CC-4220-93F3-9EB06E6D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CBE6-7193-4464-BDBC-5EC797D1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D49B-F06C-4A73-B694-10B61A9D9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6111-7BF2-43E1-B53F-C6D948F4D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E82F-01F3-4598-923D-3CBB39FB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E221-2AA0-4BE1-A440-7983EE93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101D-0717-4014-A50D-D4AFBD82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EA63-8D79-4B39-92EA-EF0AF0B7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B5D5-FB3F-4846-BB3E-D0BB5D65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227D-A71F-480C-A195-F3FADE49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9A1F-034B-4635-AA55-BBC60FF4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badi MT Condensed Light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L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badi MT Condensed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Ligh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Ligh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badi MT Condensed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Ligh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Ligh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Ligh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Ligh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badi MT Condensed Light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badi MT Condensed Ligh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badi MT Condensed Light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badi MT Condensed Ligh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badi MT Condensed Light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1BE1-2700-48EF-B3DA-189D070F410D}" type="slidenum">
              <a:rPr b="0" lang="en-US" sz="1400" spc="-1" strike="noStrike">
                <a:solidFill>
                  <a:srgbClr val="ffffff"/>
                </a:solidFill>
                <a:latin typeface="Abadi MT Condensed Ligh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badi MT Condensed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badi MT Condensed Light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badi MT Condensed Light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badi MT Condensed Ligh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badi MT Condensed Light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badi MT Condensed Ligh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badi MT Condensed Light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2456-FE69-4987-A3B8-3407C02941D6}" type="slidenum">
              <a:rPr b="0" lang="en-US" sz="1400" spc="-1" strike="noStrike">
                <a:solidFill>
                  <a:srgbClr val="ffffff"/>
                </a:solidFill>
                <a:latin typeface="Abadi MT Condensed Ligh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L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badi MT Condensed Ligh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badi MT Condensed Ligh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badi MT Condensed Ligh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badi MT Condensed Ligh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badi MT Condensed Ligh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badi MT Condensed Ligh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badi MT Condensed Light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badi MT Condensed Ligh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badi MT Condensed Ligh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badi MT Condensed Ligh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badi MT Condensed Ligh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badi MT Condensed Ligh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badi MT Condensed Ligh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badi MT Condensed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30099"/>
                </a:solidFill>
                <a:latin typeface="Arial"/>
              </a:rPr>
              <a:t>URBAN COMMANDERS TRAINING GUID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Intercultural Ministrie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8483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panic population growing 5 times faster then the total population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Angeles is considered the second largest “Mexican City”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0 Census 22.4 million Hispanic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rican-American increased to 30 million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an-Pacific Islander increased to 2.8 million (40% increase)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Intercultural Ministrie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yal Rangers ministry can successfully communicate an interest with this growing populat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, we must stop stereotyping peopl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, we must recognize and learn both the differences and similarities of different culture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Intercultural Ministrie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panics love their cultur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come from different countries, with different experiences, for different reasons, with different expectations.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ite the diversity, there are two strong unifying forc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2" marL="1097280" indent="-219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panic cultur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2" marL="1097280" indent="-219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lturation proces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n-Americans love their culture and their historic roots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ties must be respected and understood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ys respond more rapidly to African- American leadership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uned to verbal and nonverbal cues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ne of voice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ce of words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 language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Intercultural Ministrie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Intercultural Ministry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ers must learn about each boy’s cultural background, whether African-American, Hispanic, Asian, etc.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ust realize that: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of us is uniqu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culture is unique 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then we can begi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ridge the cultu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p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3741840" cy="1676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cbcbcb"/>
                </a:solidFill>
                <a:latin typeface="Arial"/>
              </a:rPr>
              <a:t>Improving Intercultural Ministry</a:t>
            </a:r>
            <a:endParaRPr b="0" lang="en-US" sz="43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representation at all levels of Royal Rangers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ized leadership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in areas of concern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h as: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, gangs, peer pressur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national training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ers working i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cultural ministry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553080" y="3276720"/>
            <a:ext cx="2590920" cy="3009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The Urban Royal Ranger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distinctly different from the rural or suburban boy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ideas, values, disposi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general outlook on lif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shaped by his environment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ers, know you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ys, how they liv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hey think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hey behav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553080" y="3733920"/>
            <a:ext cx="2076480" cy="2590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cbcbcb"/>
                </a:solidFill>
                <a:latin typeface="Arial"/>
              </a:rPr>
              <a:t>Attitudes Inner-City/Rural Boys</a:t>
            </a:r>
            <a:endParaRPr b="0" lang="en-US" sz="43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7010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p wit and short temper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l one moment &amp; fighting mad the next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put on the tough-guy exterior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reet-hard look is a form of  protection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environment labels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meek as weak”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629400" y="4572000"/>
            <a:ext cx="2151000" cy="2286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81080" y="22856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The Camping Program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657600" y="3657240"/>
            <a:ext cx="2286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tion 3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9480" y="3124080"/>
            <a:ext cx="2827440" cy="31640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410080" y="3389400"/>
            <a:ext cx="2387880" cy="3468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The Camping Program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ing card to inner-city boy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long to be out-of-door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es them to another life styl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rtunity for growth - new skill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rol system- teamwork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friendship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pe from the concrete jungl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705720" y="3733920"/>
            <a:ext cx="2136600" cy="26668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Royal Ranger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12372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ey ministry that provides evangelism, Christian adult male role models, rewards to build self-esteem, and disciplin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76280" y="2286000"/>
            <a:ext cx="238140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Urban Commander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b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son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ssion and good male role model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 &amp; understand the city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genuine burden for urban boy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8600" y="4419720"/>
            <a:ext cx="8534520" cy="2133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Peer Pressure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ds react to peer pressu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 negative pressu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o positive - through 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uitful Royal Ranger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400800" y="2438280"/>
            <a:ext cx="2532240" cy="3429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cbcb"/>
                </a:solidFill>
                <a:latin typeface="Arial"/>
              </a:rPr>
              <a:t>Financing Urban Royal Rangers</a:t>
            </a:r>
            <a:endParaRPr b="0" lang="en-US" sz="42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k churches in suburban/rural area tha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provide support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-a-Ranger” program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ess boys in Royal Rangers t-shirt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boys wear award vest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324480" y="4114800"/>
            <a:ext cx="2217960" cy="2444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Urban Commander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urdened heart, a commitment to ministry and a calling from God are what every urban commander needs to succeed as a Royal Rangers leader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a ministry tool tha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reach urban boys no oth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can offer.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t wisely. 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t with God’s anointing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010280" y="3962520"/>
            <a:ext cx="1731960" cy="28954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8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The Camping Program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 to the last section of the book (past page 67) and read and complete pages 3 through 7.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352680" y="3854520"/>
            <a:ext cx="2525760" cy="2766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Royal Rangers Ministry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066320" y="3505320"/>
            <a:ext cx="312444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Section 4 </a:t>
            </a:r>
            <a:br>
              <a:rPr sz="3200"/>
            </a:b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Applying the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Royal Ranger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Ministry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92" name="RR-EMBLC" descr=""/>
          <p:cNvPicPr/>
          <p:nvPr/>
        </p:nvPicPr>
        <p:blipFill>
          <a:blip r:embed="rId1"/>
          <a:stretch/>
        </p:blipFill>
        <p:spPr>
          <a:xfrm>
            <a:off x="5181480" y="3429000"/>
            <a:ext cx="3276720" cy="2889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Outreach Ministry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hree-fold approach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27920" indent="-280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rget an urban area for 3-4 months</a:t>
            </a:r>
            <a:endParaRPr b="0" lang="en-US" sz="30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27920" indent="-280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s Ministry </a:t>
            </a:r>
            <a:endParaRPr b="0" lang="en-US" sz="3000" spc="-1" strike="noStrike">
              <a:solidFill>
                <a:srgbClr val="ffffff"/>
              </a:solidFill>
              <a:latin typeface="Abadi MT Condensed Light"/>
            </a:endParaRPr>
          </a:p>
          <a:p>
            <a:pPr lvl="2" marL="1119960" indent="-2239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ing children into a structured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rch setting</a:t>
            </a:r>
            <a:endParaRPr b="0" lang="en-US" sz="3000" spc="-1" strike="noStrike">
              <a:solidFill>
                <a:srgbClr val="ffffff"/>
              </a:solidFill>
              <a:latin typeface="Abadi MT Condensed Light"/>
            </a:endParaRPr>
          </a:p>
          <a:p>
            <a:pPr lvl="2" marL="1119960" indent="-2239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y need to designate a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parate day</a:t>
            </a:r>
            <a:endParaRPr b="0" lang="en-US" sz="30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27920" indent="-280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mily involvement</a:t>
            </a:r>
            <a:endParaRPr b="0" lang="en-US" sz="3000" spc="-1" strike="noStrike">
              <a:solidFill>
                <a:srgbClr val="ffffff"/>
              </a:solidFill>
              <a:latin typeface="Abadi MT Condensed Light"/>
            </a:endParaRPr>
          </a:p>
          <a:p>
            <a:pPr lvl="2" marL="1119960" indent="-2239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olve families in RR events</a:t>
            </a:r>
            <a:endParaRPr b="0" lang="en-US" sz="3000" spc="-1" strike="noStrike">
              <a:solidFill>
                <a:srgbClr val="ffffff"/>
              </a:solidFill>
              <a:latin typeface="Abadi MT Condensed Light"/>
            </a:endParaRPr>
          </a:p>
          <a:p>
            <a:pPr lvl="3" marL="15681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934320" y="3809880"/>
            <a:ext cx="1838160" cy="3048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Geographic Consideration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dget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ipment - camping, sport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mp-outs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iform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hievement badge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cement trail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ching “values”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ching vocational skill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800600" y="3505320"/>
            <a:ext cx="4343400" cy="2865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bcbcb"/>
                </a:solidFill>
                <a:latin typeface="Arial"/>
              </a:rPr>
              <a:t>Applying the Royal Rangers Ministry</a:t>
            </a:r>
            <a:endParaRPr b="0" lang="en-US" sz="37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523880" y="1752480"/>
            <a:ext cx="6858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 to page eight in the back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tion of your book,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d &amp; complete pages 8-10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162920" y="2514600"/>
            <a:ext cx="1458720" cy="3581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Royal Rangers Ministry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304920" y="3428640"/>
            <a:ext cx="49528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tion 5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ngelism Beyond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hurch Wall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495680" y="3276720"/>
            <a:ext cx="3214800" cy="33526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Royal Rangers Ministry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62520" y="198108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n evangelistic tool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en applied correct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an be used to reach a multitude of urban boys for Christ.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5800" y="2357280"/>
            <a:ext cx="3048120" cy="2689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Establishing an Outreach Ministry</a:t>
            </a:r>
            <a:endParaRPr b="0" lang="en-US" sz="40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verall objectiv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h boys in the neighborhood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a foundation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 into a church setting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boys to the Royal Rangers program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iple into the Kingdom of God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010280" y="3200400"/>
            <a:ext cx="1716120" cy="2438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Outreach Ministry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fold approach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ool to reach boy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ere they liv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eavor to place th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cal church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eavor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ach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their parent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095880" y="2590920"/>
            <a:ext cx="2332080" cy="30114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Establishing an Outreach Ministry</a:t>
            </a:r>
            <a:endParaRPr b="0" lang="en-US" sz="40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- gang members need more love, hand shakes, &amp; Christian influenc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e a place you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meet regularl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ty of activiti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will attract boy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172120" y="3352680"/>
            <a:ext cx="3209760" cy="2832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Establishing an Outreach Ministry</a:t>
            </a:r>
            <a:endParaRPr b="0" lang="en-US" sz="40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plan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Pastor’s approval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yer support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 backing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power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 building to meet in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791320" y="2209680"/>
            <a:ext cx="2438280" cy="2059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Establishing an Outreach Ministry</a:t>
            </a:r>
            <a:endParaRPr b="0" lang="en-US" sz="40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commanders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ing to go the second mile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 for meeting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rch  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areas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419720" y="3962520"/>
            <a:ext cx="3504960" cy="2251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Establishing an Outreach Ministry</a:t>
            </a:r>
            <a:endParaRPr b="0" lang="en-US" sz="40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895120" y="1828800"/>
            <a:ext cx="5867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ey the neighborhood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 out flyers about program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up front with the boys -don’t make them participate in prayer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yourself well-know in neighborhood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home visits - this is the key to success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2160360" cy="2667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bcbcb"/>
                </a:solidFill>
                <a:latin typeface="Arial"/>
              </a:rPr>
              <a:t> </a:t>
            </a:r>
            <a:r>
              <a:rPr b="1" lang="en-US" sz="3900" spc="-1" strike="noStrike">
                <a:solidFill>
                  <a:srgbClr val="cbcbcb"/>
                </a:solidFill>
                <a:latin typeface="Arial"/>
              </a:rPr>
              <a:t>Establishing an Outreach Ministry</a:t>
            </a:r>
            <a:endParaRPr b="0" lang="en-US" sz="39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Rule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e Objectives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h boys with the gospel 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rate into the church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through with your pla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start something you d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plan to continue or cannot continue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248520" y="2362320"/>
            <a:ext cx="1817640" cy="2209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3324240" y="2081160"/>
          <a:ext cx="2162160" cy="90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24240" y="2081160"/>
                    <a:ext cx="2162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Suggested Activitie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rts - favorite sports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on achievement badges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 about camping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 features (interesting)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ipleship (Insight Group curriculum)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 boys in what they know (rap)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095880" y="1752480"/>
            <a:ext cx="2210040" cy="2362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The Urban Young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52578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verty, gang activity, drug abuse, illiteracy, teenage pregnancy, AIDS, pornography, single-parent homes.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2601720" cy="3048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Urban Condition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3341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y kids do not live in the city; they “survive“ in the city. 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become emotional calloused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no love on the mean streets 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reets are hard and so are the kids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kids becom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ocent victims of crime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629400" y="1981080"/>
            <a:ext cx="2209680" cy="4114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Urban Teen Problem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/growing in Christian faith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ling with negative peer pressur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make and keep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iend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ohol and drug abus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self-worth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athy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791320" y="4495680"/>
            <a:ext cx="2514600" cy="1944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260280"/>
            <a:ext cx="7772400" cy="172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Intercultural Ministrie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ited States is quickly becoming a multicultural society. If the current conditions continue until the 21 century. The United States will becom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ation with n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cial or ethnic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ity.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800600" y="3809880"/>
            <a:ext cx="3429000" cy="26416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Intercultural Ministrie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boys have the same needs: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loved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long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accepted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sec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410080" y="2971800"/>
            <a:ext cx="185256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Urban Teen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s of interest in church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usive or dysfunctional familie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e of hopelessness about the futur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ng to people of other ethnic background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community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caring adult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692760" y="4114800"/>
            <a:ext cx="1460520" cy="2362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3T01:01:02Z</dcterms:created>
  <dc:creator>Marvin Lemke</dc:creator>
  <dc:description/>
  <dc:language>en-US</dc:language>
  <cp:lastModifiedBy>Jonathan Trower</cp:lastModifiedBy>
  <cp:lastPrinted>1997-10-12T10:49:28Z</cp:lastPrinted>
  <dcterms:modified xsi:type="dcterms:W3CDTF">1999-07-23T21:04:51Z</dcterms:modified>
  <cp:revision>15</cp:revision>
  <dc:subject/>
  <dc:title>  </dc:title>
</cp:coreProperties>
</file>