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FA1-7310-4697-BBC1-E5FF937B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D7C-6831-4261-A4FE-05F30730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83A-361E-4FCA-AB47-BDC52571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601-1B0D-4D2A-9544-33D470F8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35DA-97DE-46C7-962B-87A47E3C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8D25-0B79-47B4-90B1-71AD7C54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E463-A48A-4674-B4B9-1F3D382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670F-324B-46D4-BA9D-2F4E4B17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C3BE-2D44-479D-9A50-0CDF14AA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EE82-7E36-40AB-AC0D-5599AC8B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B65-F2F4-4A76-85FA-C984E348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C3C-0DC2-4AAB-AA40-0E54682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3015-2955-46D7-9641-937BA42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6ECF-4BD2-4085-B347-7EF8623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8F06-230B-40E3-9E96-279F5114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F84B-55E6-42F3-8D10-2A21E154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0721-C509-4CF5-A9B5-8882DEAE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001-3433-4F76-9657-14424F02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3D3-3706-4CD3-B7D3-C0F6784B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4B2-9ACE-49D7-8C01-5530A42D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6B0-EAC2-4F51-AE64-2D87F612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4D2-8AC3-41E6-B297-D46EAC95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F27-14A7-41F8-BC4B-ABFB4A1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206-F452-4CA6-BFBB-DBF2322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2718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003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003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CFAF-01AE-4466-BAD0-017579C34F35}" type="slidenum"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F93-6303-4D5F-841B-04D45049B5D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URBAN 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COMMANDERS 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onsequences for Breaking Rule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1st 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-   Give a reminder of the rul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- Apply discipline appropriate to the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         infraction, move the talker etc.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- Take a boy to the Sr. Commander,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         parents or guardian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e consistent and realistic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lways pray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with your Range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5131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reating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a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Safe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creening of volunte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upervision of staff -- use the buddy syste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riving children to and from event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vernight activities, field trip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Meeting with boys in your home or thei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Meeting in secluded church rooms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r rooms without window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Camping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892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hildren need to be touched in good way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handshake, shoulder hug, gentle pat on back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003b7"/>
                </a:solidFill>
                <a:uFillTx/>
                <a:latin typeface="Times New Roman"/>
              </a:rPr>
              <a:t>Unacceptable touching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sitting on lap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ack rub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patting the buttock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kissing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681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ouching offens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Fondling - oral, genital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nal stimulation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Non-violent intercours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Incest-rape and assaul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1654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Non-touching offens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Verbal stimulation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bscene phone call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Indecent exposur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Peeping in windows or doo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llowing boy to witness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dult relations  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2967120"/>
            <a:ext cx="265608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ng a Safe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Identification of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aring for abused/neglected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igns of abu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sponding to disclosure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of abu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3b7"/>
                </a:solidFill>
                <a:latin typeface="Times New Roman"/>
              </a:rPr>
              <a:t>report it to your Pastor firs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101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ng a Safe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Go to the back section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of the book, read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nd complete pages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15 and 16.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3014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cognition- in front of pe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rizes - external &amp; internal motiva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sponsibility -age &amp; abiliti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Involvement / Participa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rust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28306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hallenge the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ave faith in kid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ompliments (honest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Unusual happenings - variety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eer pressure (positive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ompetition  (friendly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 secure meeting place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29718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ove - unconditional agape lov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cceptance - unconditional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raise - honest prai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Encouragement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oys desire &amp; need i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ugs - good touch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o not invade boys’ spa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151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ook for creative ways to disciplin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quiet seat, time out, whistle, worship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Motivate boys to want to be in your progra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exciting program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variety of activitie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649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4 D’s that are blind spot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traction - an outside for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interest - something you control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comfort - irritant that distract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turbance - a true annoyan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44197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Discipline includes instruction, correction,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nd encouragement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Your objective </a:t>
            </a:r>
            <a:r>
              <a:rPr b="1" lang="en-US" sz="3200" spc="-1" strike="noStrike" u="sng">
                <a:solidFill>
                  <a:srgbClr val="1003b7"/>
                </a:solidFill>
                <a:uFillTx/>
                <a:latin typeface="Times New Roman"/>
              </a:rPr>
              <a:t>is not to teach a lesson,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ut to teach Royal Rang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t guidelines to help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ys maintain self-contro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036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Discipline for Safe Activiti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ys misbehave when they are: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red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rightened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Need atten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ave trouble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with self-contro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28954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ample Rules for Ranger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isten when the instructor is talking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No chewing gum or candy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Keep your hands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o yourself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28004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22:17:12Z</dcterms:created>
  <dc:creator>Marvin Lemke</dc:creator>
  <dc:description/>
  <dc:language>en-US</dc:language>
  <cp:lastModifiedBy>Jonathan Trower</cp:lastModifiedBy>
  <dcterms:modified xsi:type="dcterms:W3CDTF">1999-07-23T21:12:51Z</dcterms:modified>
  <cp:revision>19</cp:revision>
  <dc:subject/>
  <dc:title>Methods To Motivate Boys</dc:title>
</cp:coreProperties>
</file>