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0BF8-761A-4101-AE38-9E45A4CE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383F-02C7-41F5-A424-03C57CE5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648-6037-4C52-A25E-101FF16D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9768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6200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33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9768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6200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62E1-698D-4CCE-9239-E642C297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7529-369B-4E56-A55D-D3B4BD09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B2D8-645D-483E-BF5F-78DF9254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77B0-6BA4-4873-B68A-F19A6636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56EF-9474-4452-A7D6-5262BD24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BFB2-BE74-4117-9080-47B864CB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A0FF-94B1-49A8-AC00-9076A436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C205-1124-4EA1-A74A-F9EF208D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E455-F6A1-4B51-93E5-26AA367D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6020-A46E-4905-92F8-30813FBF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2B28-5A2B-4FC5-9D13-F5EA57E7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6B4D-D7A3-4613-B445-2996D5E6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B367-FC89-4A1E-A8D6-8EC20DFE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9768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6200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133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29768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6200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039A-D463-4B76-AD6E-133284BE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095B-6D6E-4A19-A383-A481D8AE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702-59F0-44CD-9A22-BF221D8D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9A8-56C0-4AAB-88C4-C08DC8A7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C7E-4E9F-413C-BBE3-DEAB986B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D2EB-AA14-4BB3-A8D1-FDE6D23F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EE29-680C-4843-9FAA-32F3A2D3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EE1A-B3B4-4F73-8AA5-FB87D46F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2968-7A06-46B5-AE1D-3BA499A0D4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75E4-C841-4911-99C3-6D8A559AD2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660033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660033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660033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660033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URBAN COMMANDERS </a:t>
            </a:r>
            <a:br>
              <a:rPr sz="4000"/>
            </a:b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TRAINING GUIDE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Section 10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Raising Funds 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And The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Adopt-an-Outpost Program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162920" y="2666880"/>
            <a:ext cx="1365120" cy="1752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Goals of adopted outpost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train pastor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train leader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provide curriculum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coordinate with district commander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A key to developing a viable </a:t>
            </a:r>
            <a:br>
              <a:rPr sz="3200"/>
            </a:b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outpost is training leaders </a:t>
            </a:r>
            <a:br>
              <a:rPr sz="3200"/>
            </a:b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and pastors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553080" y="1905120"/>
            <a:ext cx="143676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Benefits: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reaching boys for Christ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reaching families for Christ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establishing Christian boy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strengthening the leaders</a:t>
            </a:r>
            <a:br>
              <a:rPr sz="2800"/>
            </a:b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enabling them to lead boy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72200" y="3200400"/>
            <a:ext cx="2282760" cy="2590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What an adopted church should receive: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LTC training for pastor and 2 leader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Free LTC materia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Chartering for one year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Royal Rangers poster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Outpost record book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Bible studie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Devotional handbook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District 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Approval of District Superintendent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Coordination of District Commander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District Commander approves projects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District PR Coordinator promotes program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District Training Coordinator trains the leaders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Follow the district procedures   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248520" y="3581280"/>
            <a:ext cx="2438280" cy="2286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Read and complete  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Pages 25 &amp; 26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133720" cy="1833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How can Area, Section &amp;</a:t>
            </a:r>
            <a:br>
              <a:rPr sz="3200"/>
            </a:b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District help!!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Urban Pow-Wow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Other Royal Rangers activitie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Visit the urban outpost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Prayer Task Force trip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Teen Challenge program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TE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Complete pages 27-31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open book test.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1T02:59:00Z</dcterms:created>
  <dc:creator>Marvin Lemke</dc:creator>
  <dc:description/>
  <dc:language>en-US</dc:language>
  <cp:lastModifiedBy>Jonathan Trower</cp:lastModifiedBy>
  <dcterms:modified xsi:type="dcterms:W3CDTF">1999-07-23T22:06:21Z</dcterms:modified>
  <cp:revision>14</cp:revision>
  <dc:subject/>
  <dc:title>Section 10</dc:title>
</cp:coreProperties>
</file>