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FE92-C6E7-4F9E-98BA-44D05546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C1E-2AB8-48B0-B80C-139B2702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9DF-A1E7-4890-B56D-07AFCA96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7EA-B1EA-4075-8704-0A0D3AB00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0EF3-7161-430F-AAAC-EAB41406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2B3-CF9B-4335-BE9E-5E4EA962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DC6-2ACE-4BBD-94A4-0AAB390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187-22F0-4715-AA62-9689049F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6A9-5C36-44E9-9D34-EE05E7D9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1DE-3C03-4F54-9FFD-F8AB9985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1178-08C8-4F59-BAC9-923DD339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9E36-F7EE-4AFE-A4C5-A542298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E16F-46E4-4522-AF9E-F40ACDEA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4CCC-C92E-4292-A41B-EEB0D16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AF2-592F-4503-8D6C-4E939B7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01A-6D34-44DD-B7AD-FB59DF3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D56-7C53-48A3-BE91-26CABA9E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CFC7-84CA-4945-BA6F-BE0BE63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C8C-D946-4130-BAE6-35D5AEB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8374-94E4-4227-816C-AD3ECC2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500-9F1D-4F78-B179-B6926873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5D7E-8FC5-454E-86FD-D017CCE8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653-1578-4E8F-84F8-E3F0934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2DC-CAC1-4DD3-9643-E37CD95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3DE-D4B2-47D6-8BA4-BA5EF4E1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FF6-5A22-480F-AAD8-4829D44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B6C-6D97-4989-9B7C-EB0DC92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7ED-6C7A-4061-9FE7-1794551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7D2-ADD6-478E-B165-9DB64DC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5A50-C40D-41E0-993C-B18A258AA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6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 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 Day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rtunity to hit the 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exploring in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ite activity of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WOODLND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n ad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good sh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right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safe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lert for poisonous plants and other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d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sh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Field Trip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s a great part in your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family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CHEMIST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ASTRN1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681360" cy="3174840"/>
          </a:xfrm>
          <a:prstGeom prst="rect">
            <a:avLst/>
          </a:prstGeom>
          <a:ln w="0">
            <a:noFill/>
          </a:ln>
        </p:spPr>
      </p:pic>
      <p:pic>
        <p:nvPicPr>
          <p:cNvPr id="180" name="OBJ208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19814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572000" y="3657600"/>
            <a:ext cx="4107600" cy="2815920"/>
            <a:chOff x="4572000" y="3657600"/>
            <a:chExt cx="4107600" cy="28159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4572000" y="3657600"/>
              <a:ext cx="4107600" cy="28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6890400" y="5380560"/>
              <a:ext cx="4330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day camp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189" name="WOODLND3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day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495680"/>
            <a:ext cx="16351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15360" y="1828800"/>
            <a:ext cx="134928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5330880"/>
            <a:ext cx="2286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4114800"/>
            <a:ext cx="3581640" cy="1422360"/>
            <a:chOff x="5181480" y="4114800"/>
            <a:chExt cx="3581640" cy="14223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181480" y="4114800"/>
              <a:ext cx="35816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616440" y="468468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oyal Rang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206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41008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B/SA LTC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a Day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and Its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-B-C’s of Day Camp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 the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Your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e Camp 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aims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 and Interests of Camp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675080" cy="169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537320" y="304920"/>
            <a:ext cx="1606680" cy="2904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08360" y="2755800"/>
            <a:ext cx="4535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 - Carefully select your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90920" y="2398680"/>
          <a:ext cx="451152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98680"/>
                    <a:ext cx="45115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ff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omma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 Coordin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 Study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 Your D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early in planing you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day may prove to be the best day for the cam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date and plan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DSKCLND2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8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e Your Day Camp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! Location! Lo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within 30 minutes of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s, playgrounds, farms or even your own church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-The Key to Su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is vital to your day cam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a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materials needed fo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429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Program 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balance betwee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shoul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should be simple enough for the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t relax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 in B/SA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L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 Indian lore, costumes, gam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F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camp for the who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, games, contests and crafts. Can be used to a theme for your devo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’s Her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camp to teach boys about God’s great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meal of each item, based on number leaders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lead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Day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Day Camp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m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SANDWCH1" descr=""/>
          <p:cNvPicPr/>
          <p:nvPr/>
        </p:nvPicPr>
        <p:blipFill>
          <a:blip r:embed="rId1"/>
          <a:stretch/>
        </p:blipFill>
        <p:spPr>
          <a:xfrm flipH="1" rot="10800000">
            <a:off x="4114800" y="312372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306" name="FOOD56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73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7" name="FOOD302" descr=""/>
          <p:cNvPicPr/>
          <p:nvPr/>
        </p:nvPicPr>
        <p:blipFill>
          <a:blip r:embed="rId3"/>
          <a:stretch/>
        </p:blipFill>
        <p:spPr>
          <a:xfrm flipH="1">
            <a:off x="3276360" y="3048120"/>
            <a:ext cx="9954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WTMELON1" descr=""/>
          <p:cNvPicPr/>
          <p:nvPr/>
        </p:nvPicPr>
        <p:blipFill>
          <a:blip r:embed="rId4"/>
          <a:stretch/>
        </p:blipFill>
        <p:spPr>
          <a:xfrm>
            <a:off x="3733920" y="4572000"/>
            <a:ext cx="22860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6019920" y="2971800"/>
            <a:ext cx="1523880" cy="1233360"/>
            <a:chOff x="6019920" y="2971800"/>
            <a:chExt cx="1523880" cy="1233360"/>
          </a:xfrm>
        </p:grpSpPr>
        <p:pic>
          <p:nvPicPr>
            <p:cNvPr id="310" name="APPLE" descr=""/>
            <p:cNvPicPr/>
            <p:nvPr/>
          </p:nvPicPr>
          <p:blipFill>
            <a:blip r:embed="rId5"/>
            <a:stretch/>
          </p:blipFill>
          <p:spPr>
            <a:xfrm>
              <a:off x="6629400" y="304812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PPLE" descr=""/>
            <p:cNvPicPr/>
            <p:nvPr/>
          </p:nvPicPr>
          <p:blipFill>
            <a:blip r:embed="rId6"/>
            <a:stretch/>
          </p:blipFill>
          <p:spPr>
            <a:xfrm>
              <a:off x="6019920" y="297180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PPLE" descr=""/>
            <p:cNvPicPr/>
            <p:nvPr/>
          </p:nvPicPr>
          <p:blipFill>
            <a:blip r:embed="rId7"/>
            <a:stretch/>
          </p:blipFill>
          <p:spPr>
            <a:xfrm>
              <a:off x="6324480" y="3352680"/>
              <a:ext cx="914400" cy="8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7848720" y="2057400"/>
          <a:ext cx="91440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2057400"/>
                    <a:ext cx="914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467480" y="4572000"/>
          <a:ext cx="146376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572000"/>
                    <a:ext cx="1463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17000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1306440" cy="949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1255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324480" y="2514600"/>
          <a:ext cx="16765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14600"/>
                    <a:ext cx="16765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91320" y="1711440"/>
          <a:ext cx="2590560" cy="76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11440"/>
                    <a:ext cx="259056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4952880" y="3733920"/>
            <a:ext cx="1675800" cy="1007640"/>
            <a:chOff x="4952880" y="3733920"/>
            <a:chExt cx="1675800" cy="1007640"/>
          </a:xfrm>
        </p:grpSpPr>
        <p:sp>
          <p:nvSpPr>
            <p:cNvPr id="333" name=""/>
            <p:cNvSpPr/>
            <p:nvPr/>
          </p:nvSpPr>
          <p:spPr>
            <a:xfrm>
              <a:off x="6152400" y="3733920"/>
              <a:ext cx="476280" cy="100764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6640" y="4401720"/>
              <a:ext cx="304920" cy="20268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433400"/>
              <a:ext cx="1182600" cy="13608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51520" y="451188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51520" y="445104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81680" y="4453920"/>
              <a:ext cx="92880" cy="98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343400" y="1981080"/>
          <a:ext cx="121932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12193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OBJ385" descr=""/>
          <p:cNvPicPr/>
          <p:nvPr/>
        </p:nvPicPr>
        <p:blipFill>
          <a:blip r:embed="rId3"/>
          <a:stretch/>
        </p:blipFill>
        <p:spPr>
          <a:xfrm flipH="1" rot="10800000">
            <a:off x="3962520" y="3580920"/>
            <a:ext cx="3124080" cy="106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831000" y="1905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 Leaders Man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330560" cy="1092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4800600"/>
            <a:ext cx="1452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3048120" y="4800600"/>
            <a:ext cx="1199520" cy="477720"/>
            <a:chOff x="3048120" y="4800600"/>
            <a:chExt cx="1199520" cy="477720"/>
          </a:xfrm>
        </p:grpSpPr>
        <p:sp>
          <p:nvSpPr>
            <p:cNvPr id="348" name=""/>
            <p:cNvSpPr/>
            <p:nvPr/>
          </p:nvSpPr>
          <p:spPr>
            <a:xfrm>
              <a:off x="3965400" y="499104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98960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5880" y="499248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7160" y="500220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3760" y="501804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2560" y="504504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4160" y="50943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50864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2400" y="50814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3960" y="499428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39800" y="480204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83696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89120" y="480204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57520" y="48006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8520" y="484020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9280" y="492120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5640" y="499248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960" y="503388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0200" y="504504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9040" y="49989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880" y="493884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490212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1040" y="490212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490860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6040" y="494172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8880" y="501156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8880" y="497520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19240" y="500544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52640" y="501804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93960" y="50306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8520" y="504360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8040" y="503568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9880" y="500220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3520" y="497376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7440" y="497376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7440" y="500688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08200" y="507672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7400" y="512748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73440" y="512748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6800" y="510840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1960" y="509580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70000" y="5094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7880" y="509436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0880" y="500868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38320" y="500868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3040" y="499428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4120" y="501336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4480" y="499428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9720" y="501156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82800" y="486720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9160" y="51433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9120" y="520524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1320" y="525132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1160" y="52372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52800" y="517212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7080" y="507672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3320" y="498456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06720" y="491652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2200" y="487692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52640" y="486576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1360" y="486720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81360" y="487980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89280" y="492120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5640" y="496872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7560" y="496872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4160" y="4975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4920" y="500364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9040" y="504972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29040" y="510552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515304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517536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5200" y="516096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86120" y="512424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36800" y="5124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9160" y="51274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46280" y="485604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0680" y="498780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4960" y="500364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8200" y="480852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73280" y="487188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3920" y="499428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9560" y="490392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9480" y="4989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9640" y="499248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38360" y="499428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8520" y="500220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01920" y="501156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30280" y="50166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9000" y="501336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7360" y="50054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490860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62160" y="490860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9680" y="491328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76280" y="49179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6120" y="491976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7760" y="491472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84360" y="490860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55640" y="49021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0520" y="490212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68680" y="490212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9480" y="490392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0880" y="494028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040" y="491472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9960" y="492120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01920" y="4927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36760" y="493056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6920" y="492588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98520" y="491796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7600" y="491184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491976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1160" y="492444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79520" y="492264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491796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51000" y="491328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490680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4680" y="490860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3800" y="48099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1280" y="490536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4840" y="484344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0120" y="480852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35280" y="486396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495144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6200" y="481644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97120" y="489564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8520" y="495612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66960" y="485928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39880" y="508788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503712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6320" y="504828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1520" y="505152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6640" y="502272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2720" y="50529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6440" y="505440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00440" y="504180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2360" y="502740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504360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6040" y="48751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7280" y="487836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9200" y="491004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7640" y="519264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4280" y="518616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27240" y="517356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2800" y="507996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5960" y="51879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02040" y="516420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4640" y="49593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8400" y="50086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4440" y="487044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35080" y="488304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492444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38400" y="504360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36960" y="511632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1320" y="51879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66920" y="500076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33520" y="5013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2400" y="5130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63800" y="512748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22400" y="51274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2000" y="50007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06520" y="500868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02596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504648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58920" y="513540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17880" y="521820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5960" y="52498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4400" y="49831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28960" y="494676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60560" y="493560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89280" y="490536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3000" y="50706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89360" y="523080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06600" y="504180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14520" y="504036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05160" y="50799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1000" y="504360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520" y="5014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71680" y="501156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7240" y="501156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87520" y="51116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67000" y="511632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4400" y="51134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71680" y="501480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5560" y="50148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0520" y="501480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4400" y="50166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9720" y="501660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43240" y="501804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71680" y="502128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5560" y="502272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502452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4400" y="502596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7920" y="502596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3886200" y="5638680"/>
          <a:ext cx="11606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638680"/>
                    <a:ext cx="11606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181480" y="48006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8006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2972160" y="2895480"/>
            <a:ext cx="1371240" cy="577800"/>
            <a:chOff x="2972160" y="2895480"/>
            <a:chExt cx="1371240" cy="577800"/>
          </a:xfrm>
        </p:grpSpPr>
        <p:sp>
          <p:nvSpPr>
            <p:cNvPr id="547" name=""/>
            <p:cNvSpPr/>
            <p:nvPr/>
          </p:nvSpPr>
          <p:spPr>
            <a:xfrm flipH="1">
              <a:off x="2975760" y="2895480"/>
              <a:ext cx="65988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508200" y="3179880"/>
              <a:ext cx="8856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607200" y="3128760"/>
              <a:ext cx="2880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191400" y="3125880"/>
              <a:ext cx="7200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187080" y="3079800"/>
              <a:ext cx="41976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143880" y="2981160"/>
              <a:ext cx="49032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982240" y="2903400"/>
              <a:ext cx="26244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008880" y="2897280"/>
              <a:ext cx="2170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155760" y="2951280"/>
              <a:ext cx="46116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154320" y="2977920"/>
              <a:ext cx="5760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153960" y="2975040"/>
              <a:ext cx="471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154320" y="2970000"/>
              <a:ext cx="38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152160" y="2965320"/>
              <a:ext cx="2880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151800" y="2960640"/>
              <a:ext cx="2268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152160" y="2955960"/>
              <a:ext cx="165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152160" y="2951280"/>
              <a:ext cx="1008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342600" y="3125880"/>
              <a:ext cx="25416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07840" y="3179880"/>
              <a:ext cx="1011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619800" y="3128760"/>
              <a:ext cx="1872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603240" y="3122640"/>
              <a:ext cx="72180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603240" y="3125880"/>
              <a:ext cx="71784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3602880" y="3128760"/>
              <a:ext cx="7117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605040" y="3130560"/>
              <a:ext cx="70560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606840" y="3133800"/>
              <a:ext cx="69948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606840" y="3135240"/>
              <a:ext cx="69516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9360" y="3138480"/>
              <a:ext cx="68688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781080" y="32227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787200" y="3186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64880" y="320976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766680" y="3192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80196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799800" y="322092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783240" y="3203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832920" y="3238560"/>
              <a:ext cx="1008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83904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16360" y="3225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18160" y="320652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853440" y="32148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851280" y="3235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83508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882600" y="3257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89304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68200" y="324468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73600" y="3225600"/>
              <a:ext cx="82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13200" y="323532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01320" y="32558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88720" y="3240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936240" y="3279600"/>
              <a:ext cx="79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944520" y="32432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919680" y="3267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926160" y="32497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964680" y="325764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5280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940200" y="326376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98592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996000" y="3263760"/>
              <a:ext cx="1044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971520" y="3289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75480" y="3271680"/>
              <a:ext cx="100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01508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00464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992400" y="32860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205160" y="3349440"/>
              <a:ext cx="1321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277880" y="3349440"/>
              <a:ext cx="475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205160" y="336528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206960" y="3468600"/>
              <a:ext cx="39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257000" y="3365280"/>
              <a:ext cx="8064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335480" y="3349440"/>
              <a:ext cx="180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211280" y="3352680"/>
              <a:ext cx="13032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284000" y="3352680"/>
              <a:ext cx="475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211280" y="336852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213080" y="3471840"/>
              <a:ext cx="39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263120" y="3368520"/>
              <a:ext cx="78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339080" y="3352680"/>
              <a:ext cx="396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94080" y="338148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293720" y="3381480"/>
              <a:ext cx="126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296240" y="338148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298040" y="3384360"/>
              <a:ext cx="82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38280" y="344016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238280" y="3440160"/>
              <a:ext cx="1008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240440" y="344016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242600" y="34434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41880" y="3443400"/>
              <a:ext cx="82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244760" y="3443400"/>
              <a:ext cx="79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 flipH="1">
            <a:off x="38098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mastering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 necessary for carrying out varies activities on day camps, hikes, or other outdoors activities with your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leave it cleaner than we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 animals do not make good p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971800" cy="18082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1525680" cy="24447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706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6323040" y="3581280"/>
          <a:ext cx="255096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581280"/>
                    <a:ext cx="255096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49560" cy="2957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0" name="g0143296" descr=""/>
          <p:cNvPicPr/>
          <p:nvPr/>
        </p:nvPicPr>
        <p:blipFill>
          <a:blip r:embed="rId1"/>
          <a:stretch/>
        </p:blipFill>
        <p:spPr>
          <a:xfrm>
            <a:off x="5649840" y="3778200"/>
            <a:ext cx="3494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572000" y="4422600"/>
          <a:ext cx="41544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422600"/>
                    <a:ext cx="41544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81000"/>
          <a:ext cx="2362320" cy="20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1000"/>
                    <a:ext cx="23623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7086600" y="0"/>
          <a:ext cx="955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0"/>
                    <a:ext cx="955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Activ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commended for Buckaroos or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 flipH="1">
            <a:off x="-36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 flipH="1">
            <a:off x="525744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 flipH="1">
            <a:off x="2590560" y="510552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648320" y="3386160"/>
          <a:ext cx="358128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386160"/>
                    <a:ext cx="358128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Day campi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 it is camping in the day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opportunity to experience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situations for boys to use team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YTENT" descr=""/>
          <p:cNvPicPr/>
          <p:nvPr/>
        </p:nvPicPr>
        <p:blipFill>
          <a:blip r:embed="rId1"/>
          <a:stretch/>
        </p:blipFill>
        <p:spPr>
          <a:xfrm>
            <a:off x="3505320" y="1362240"/>
            <a:ext cx="2666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562720" y="2125800"/>
          <a:ext cx="284004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25800"/>
                    <a:ext cx="28400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2732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skills, self expression, creativity, resourcefulness, and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imagination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rafts boys will learn,create and g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3" name="INDIAN" descr=""/>
          <p:cNvPicPr/>
          <p:nvPr/>
        </p:nvPicPr>
        <p:blipFill>
          <a:blip r:embed="rId1"/>
          <a:stretch/>
        </p:blipFill>
        <p:spPr>
          <a:xfrm flipH="1">
            <a:off x="7467120" y="0"/>
            <a:ext cx="1676520" cy="2374920"/>
          </a:xfrm>
          <a:prstGeom prst="rect">
            <a:avLst/>
          </a:prstGeom>
          <a:ln w="0">
            <a:noFill/>
          </a:ln>
        </p:spPr>
      </p:pic>
      <p:pic>
        <p:nvPicPr>
          <p:cNvPr id="784" name="DEER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ALMTREE" descr=""/>
          <p:cNvPicPr/>
          <p:nvPr/>
        </p:nvPicPr>
        <p:blipFill>
          <a:blip r:embed="rId3"/>
          <a:stretch/>
        </p:blipFill>
        <p:spPr>
          <a:xfrm>
            <a:off x="0" y="573120"/>
            <a:ext cx="2631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Trail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den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th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aft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bby 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s from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Buckaroos &amp;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leaders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ay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7T01:39:49Z</dcterms:modified>
  <cp:revision>23</cp:revision>
  <dc:subject/>
  <dc:title>Royal Rangers Leadership Training Course</dc:title>
</cp:coreProperties>
</file>