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235E-E4D1-4EB7-9949-4FF34DEB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9437-5A5A-4191-8273-B2ED56B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31FB-8CC8-4057-8CC9-5E3E31B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B5D9-5074-487E-A8B3-5341C2FB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FF4B-2A5D-428E-83EC-A3697D8F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5637-CDD5-4D29-BDE8-10E646C3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0F9-8320-4148-A6E4-7B997CCD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9089-A30A-44FA-B671-A27D9BC5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ED5C-B9AF-4626-8A11-CE1350D3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9477-8DC7-4E36-8C3C-C3BACF1C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B3F0-7D41-476F-BBFB-7B0B5AF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13DE-1659-4A25-A097-A91404D4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4F34-A745-4222-9524-9A2CFFB4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9F9D-5D61-4125-B777-D1E4D7C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6072-67F1-4A9F-8ACE-2E8BA5AC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6A8D-2355-410E-8C35-32F9E70A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A116-ACF0-4E2B-983C-649645D4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A4A3-3C49-44AE-B75A-244A6907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0E1D-2AA5-49FF-A7B6-2F3516B4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BBD0-F921-43CA-9A82-9B73CEC8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7E1B-5284-4072-B3BF-E28BB3D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CF48-11BB-4426-985A-97F1B3D2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6021-3AA0-4085-80A4-9E481D29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A41B-CBE3-4F6E-93EC-62027D4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 Buckaroo/Straight Arr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ckaroo Straight Arrow Training Conference  or National Training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838080" cy="1676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 flipH="1" rot="10800000">
            <a:off x="7010280" y="2590920"/>
            <a:ext cx="846360" cy="1676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David Elliott</cp:lastModifiedBy>
  <dcterms:modified xsi:type="dcterms:W3CDTF">1999-07-21T03:21:31Z</dcterms:modified>
  <cp:revision>11</cp:revision>
  <dc:subject/>
  <dc:title>Royal Rangers Leadership Training Course  Section V: Teaching and Communication</dc:title>
</cp:coreProperties>
</file>