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83413" cy="12023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84000" cy="120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1800"/>
            <a:ext cx="3027240" cy="601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57480" y="-1800"/>
            <a:ext cx="3027600" cy="601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360" y="11420640"/>
            <a:ext cx="3027240" cy="604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3957480" y="11420640"/>
            <a:ext cx="3027600" cy="604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96A8-80C2-4D14-9105-270BF6BFCEF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931680" y="5708520"/>
            <a:ext cx="5121000" cy="541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492120" y="902880"/>
            <a:ext cx="6006960" cy="450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move the slid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931680" y="5708520"/>
            <a:ext cx="5121000" cy="541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of the later LTC courses put out by Nat’l off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 teaching this course so the outpost councilmen knows what their roll is in the Royal Ranger pro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rse is usually an 6-8 hour cou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ensed to 4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Teaching concept  will be fo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 -- each should have a book and out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. notes on the outline sheets su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ill be taken up and graded at end of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writing and filling in the bla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ompletion of  the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es will be given upon comple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nd Answers are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not chase rabbits with ideas or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questions requiring more detail answers will have to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break time or after class in order to save tim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ldImg"/>
          </p:nvPr>
        </p:nvSpPr>
        <p:spPr>
          <a:xfrm>
            <a:off x="492120" y="903240"/>
            <a:ext cx="6006960" cy="4505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931680" y="5708520"/>
            <a:ext cx="5121000" cy="541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every one to two years to bring leaders in and reevaluate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ldImg"/>
          </p:nvPr>
        </p:nvSpPr>
        <p:spPr>
          <a:xfrm>
            <a:off x="492120" y="903240"/>
            <a:ext cx="6006960" cy="4505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EA9A-918C-422C-A15B-846BDCB7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BE6B-F469-4916-8A43-DB259CFF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0EBD-9404-4929-B7A0-0AEFFC82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8C64-4CC5-4113-8829-164C70E4C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5260-7325-4781-9292-2081A607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688D-0B2E-4D31-9E15-2E127037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BBD5-C9D6-4F5E-8D51-D0E7A522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0F93-4C84-48D1-BF4E-DA41806F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DC52-E81F-4DFE-AF75-5F411373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B990-9B77-4274-9387-0351357D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C1D8-B621-481C-9A4C-BD8F2228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D31C-044B-48D7-9707-61DD0315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DB43-A15B-4AC6-BCB7-8C4024F04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400" y="299880"/>
            <a:ext cx="1304640" cy="114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Outpost Councilmen</a:t>
            </a:r>
            <a:br>
              <a:rPr sz="4800"/>
            </a:b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Leadership Training Course</a:t>
            </a:r>
            <a:br>
              <a:rPr sz="4800"/>
            </a:br>
            <a:r>
              <a:rPr b="0" i="1" lang="en-US" sz="1600" spc="-1" strike="noStrike">
                <a:solidFill>
                  <a:srgbClr val="114ffb"/>
                </a:solidFill>
                <a:latin typeface="Book Antiqua"/>
              </a:rPr>
              <a:t> </a:t>
            </a:r>
            <a:br>
              <a:rPr sz="1600"/>
            </a:b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 Session 1</a:t>
            </a:r>
            <a:endParaRPr b="0" i="1" lang="en-US" sz="48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  <mc:AlternateContent>
    <mc:Choice Requires="p14">
      <p:transition spd="slow" advTm="7000" p14:dur="2000"/>
    </mc:Choice>
    <mc:Fallback>
      <p:transition spd="slow" advTm="7000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Philosophy of a Successful Outpost Council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ordina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legation of responsibilit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magina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mprovisa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2400"/>
            </a:br>
            <a:r>
              <a:rPr b="0" i="1" lang="en-US" sz="4300" spc="-1" strike="noStrike">
                <a:solidFill>
                  <a:srgbClr val="114ffb"/>
                </a:solidFill>
                <a:latin typeface="Book Antiqua"/>
              </a:rPr>
              <a:t>How Much Time Will It Take?</a:t>
            </a:r>
            <a:endParaRPr b="0" i="1" lang="en-US" sz="43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 much time as a man is willing to give.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five position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require various amoun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n a monthly basi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36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o Can Serve?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y man in church who ha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love for boy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ho is willing to devot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tim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effort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necessary to fulfill the duties of a council member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dedicated Christia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nd able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lead me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ior experience with Royal Rangers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helpful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but not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requirement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2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en Should It Be Formed?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deally, in place before an outpost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organized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ne should be organized to begin providing the vital support from this group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me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3600"/>
            </a:br>
            <a:r>
              <a:rPr b="0" i="1" lang="en-US" sz="4200" spc="-1" strike="noStrike">
                <a:solidFill>
                  <a:srgbClr val="114ffb"/>
                </a:solidFill>
                <a:latin typeface="Book Antiqua"/>
              </a:rPr>
              <a:t>How Should They Be Selected?</a:t>
            </a:r>
            <a:endParaRPr b="0" i="1" lang="en-US" sz="4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re are two possible methods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y may b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ppointed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by the church boar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y may b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elected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from the ranks of the local men’s grou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2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o Else Should Serve?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1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pastor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 should </a:t>
            </a:r>
            <a:r>
              <a:rPr b="0" i="1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always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 be a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member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ven if not in one of the five leadership position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 given a vote in all business conducted by the council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1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senior commander 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should also be a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member of the council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 given a vote in the council meeting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32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at Are Its First Duties?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elect commander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for each age group and arrange for training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select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ime and plac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for the meeting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gather the materials necessary for the weekly meeting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32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at Are Its First Duties? </a:t>
            </a:r>
            <a:br>
              <a:rPr sz="4400"/>
            </a:b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Become familiar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with the Royal Rangers Ministry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cruit, interview &amp; screen 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all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taff position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velop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policies and procedur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ure adequ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meeting plac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for all ag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ure need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financ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re available.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114ffb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2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at Are Its First Duties?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aintain stock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ooks, uniforms and award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ublicize and promote Royal Rangers programs and event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lan and execute Councils of Achievement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2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at Are Its First Duties?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 in the weekly meetings as needed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eet regularly to transact business and execute responsibiliti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ppoint the leadership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mmanders and Lt. Commander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cruit Royal Rangers staff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stablish standards and goal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llow for growth and developmen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4070520"/>
            <a:ext cx="7688160" cy="20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Outpost Council </a:t>
            </a:r>
            <a:r>
              <a:rPr b="0" i="1" lang="en-US" sz="4000" spc="-1" strike="noStrike">
                <a:solidFill>
                  <a:srgbClr val="114ffb"/>
                </a:solidFill>
                <a:latin typeface="Book Antiqua"/>
              </a:rPr>
              <a:t>Positions</a:t>
            </a:r>
            <a:endParaRPr b="0" i="1" lang="en-US" sz="40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hairman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ecretary/Treasure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Advancement Coordinato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Equipment and Camping Coordinato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Promotion and Publicity Coordinator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Break - time</a:t>
            </a:r>
            <a:br>
              <a:rPr sz="4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10 minute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114ffb"/>
                </a:solidFill>
                <a:latin typeface="Book Antiqua"/>
              </a:rPr>
              <a:t>Outpost Council</a:t>
            </a: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	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finition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special committee composed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hree to five men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ho have the basic responsibilities of the administration of the Royal Rangers program within the local church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114ffb"/>
                </a:solidFill>
                <a:latin typeface="Book Antiqua"/>
              </a:rPr>
              <a:t>Why be involved</a:t>
            </a:r>
            <a:endParaRPr b="0" i="1" lang="en-US" sz="7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800680" y="1989000"/>
          <a:ext cx="1505160" cy="40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00680" y="1989000"/>
                    <a:ext cx="150516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2433240" y="2212920"/>
            <a:ext cx="1227600" cy="29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Book Antiqua"/>
              </a:rPr>
              <a:t>?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763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re is no ministry in th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Assembli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God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that wins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ore souls than Royal Rangers.”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erry Raburn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Pas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National Director,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ivision of Church Ministri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Age When Saved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1% saved before the age of 4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85% saved between the ages of 4 and 14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10% saved between the ages of 15 and 30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nly 4 percent saved after the age of 30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ource: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Handbook of Children’s Evangelism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 advTm="15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Mission of Royal Ranger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o reach, teach, and kee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boys for Christ.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Royal Rangers Goal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90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instruct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Bible doctrin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090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challenge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hristian service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090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inspire a belief in the fundamenta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beliefs of our church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090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satisfy the boys’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basic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need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activity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9T20:03:30Z</dcterms:created>
  <dc:creator>Dwain Klopfenstein/Paul Patterson</dc:creator>
  <dc:description>Taught at 1997 Regional Seminar Class</dc:description>
  <dc:language>en-US</dc:language>
  <cp:lastModifiedBy>Jonathan Trower</cp:lastModifiedBy>
  <cp:lastPrinted>1998-01-28T23:39:54Z</cp:lastPrinted>
  <dcterms:modified xsi:type="dcterms:W3CDTF">1999-07-25T04:22:02Z</dcterms:modified>
  <cp:revision>75</cp:revision>
  <dc:subject>Outpost Council </dc:subject>
  <dc:title>North Texas District Royal Rangers</dc:title>
</cp:coreProperties>
</file>