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12023725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120240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5210280" cy="35064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t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14800" y="-1440"/>
            <a:ext cx="5210280" cy="35064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6633720"/>
            <a:ext cx="5210280" cy="35100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b">
            <a:noAutofit/>
          </a:bodyPr>
          <a:lstStyle>
            <a:lvl1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14800" y="6633720"/>
            <a:ext cx="5210280" cy="35100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fld id="{0C2AAB16-4CE8-452E-81F0-993F91AF16A5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603440" y="3316320"/>
            <a:ext cx="8818560" cy="314496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4269960" y="523800"/>
            <a:ext cx="3490920" cy="261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1603440" y="3316320"/>
            <a:ext cx="8818560" cy="314496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4270320" y="523800"/>
            <a:ext cx="3490920" cy="26179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CC14-874F-4131-BC2F-93A864F5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98D2-079B-4227-B852-8DB97B9D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DA9-F3C3-43D2-8B45-85E176C3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0AD7-4293-4B14-91A7-50C0FDA2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1434-CF8C-4BAB-9AF4-8D3FDF8C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9A37-2C0C-4085-A5D7-3CE710FE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8C94-49F9-4E7D-9495-F45F03E8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8266-8355-450A-B635-82DB9C83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6676-3C19-4DF7-8708-F9A85724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C044-802A-4882-947A-CD27FCFB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7A22-226E-4DF8-9038-AF5A2949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E55E-8F12-4F86-910A-F897CFEA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53FF-3490-4F47-99F3-26AD11F56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1828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114ffb"/>
                </a:solidFill>
                <a:latin typeface="Book Antiqua"/>
              </a:rPr>
              <a:t> </a:t>
            </a:r>
            <a:br>
              <a:rPr sz="16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 Session 2</a:t>
            </a:r>
            <a:endParaRPr b="0" i="1" lang="en-US" sz="48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00" y="152280"/>
            <a:ext cx="242712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everal Ways to Determine If a Project Is Permissibl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approved by the council, pastor, and comman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void date conflicts with other church activities or fund-rais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s the plan free of gambling or chance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an the product be sold on its merits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everal Ways to Determine If a Project Is Permissible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 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ll those who buy get their money’s worth from the product or service they receive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8000" indent="-28800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s it reasonably certain that people who need work or business will not lose it as a result of the sales effort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8000" indent="-28800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ll the plan protect the name and goodwill of Royal Rangers and prevent it from being capitalized on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Insuranc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tatistics show that most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accidents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happen at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home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least hazardous part of a boy’s life is likely to be when he is on a Royal Rangers outing with adult supervision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Due to rash of lawsuits and claims today, however, it is recommended that the church carry adequate insurance at all times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s is a PR job -- should publicize all activities of the outpost through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Announcements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from pulpit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hurch bulletins /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 bulletin board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Outpost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newsletter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Newspaper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Poster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ctivities to promote includ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ampouts.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uncil of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 achieve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pecial award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presentation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angers of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month/yea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ew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member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the outp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 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dfc5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sponsible for planning ways to increase outpost membership by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ncouraging boys to bring friend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tact drop outs …. to encourage them to rejoin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king all visitors feel welcome, and following up on them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 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ke a presentation about Royal Rangers in Sunday School and children’s church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llowing up on visitors to a Kid’s Crusade or VBS, inviting them to Royal Ranger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ducting door-to-door campaign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ulletin board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.show photos of even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t up a mode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ampsit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ocal parades..booths at local fair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volve boys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local community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ings to invi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guest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nduc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father/son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ctiviti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po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open hous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Coordinator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ke sure the outpost has adequate equipment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75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esent equipment needs to the council, along with possible funding methods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6120" y="45684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fundraising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commanders in arranging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uppl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needed for each trip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with activitie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amp-ou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Chairman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Planning and conducting 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monthly council meeting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Assigning specific areas of responsibility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Making sure the council functions are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coordinated and completed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Advise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assist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other council members and commanders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termine Equipment Need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Is it a viable ne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th a large piece of equipment (canoe), where and how securely will it be stor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r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funds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vailable for the purchas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eep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inventory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list up-to-dat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quipment Care and Upkeep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ure all equipmen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waterproof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oom or building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Keep all equipment together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one location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mpt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fix or repai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y equip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hop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round for the best price and value when purchasing equip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with travel and camp-ou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rrang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transportatio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o and from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rrange and secu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proper supplie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: food, camping gear, fuel, coolers, etc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Help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n the actual camp as need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Advancement Coordinator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advancement coordinator is responsible for: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-26280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Arranging f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immediate recognition of a boy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when an advancement is earned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-26280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hairing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advancement review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proces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-26280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Working closely with the commanders i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planning and carrying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out Councils of Achievement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-26280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erving a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the chairman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for special ceremonie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Advancement Review Proces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Review boar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consists of advancement coordinator, commander, and one council membe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gins when a bo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is clos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to completing an awar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ke the review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n hono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ather than tes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26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relaxed setting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ask the boy questions on his skills related to the award he is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completing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e should be able to knowledgeably answ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se question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Advancement Review Process </a:t>
            </a:r>
            <a:r>
              <a:rPr b="0" i="1" lang="en-US" sz="36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f he has problems in an area, provi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utoring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and review him again in two week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Never refus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utright to allow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war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ke sure a boy does not have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wait long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r the award after the review proces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y Have Ceremonies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formally acknowledg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ccomplishment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the boy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provide an opportunity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hare the Royal Rangers program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with parents and others in the church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help crea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incentiv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or further advance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provide an opportunity to give recognition of th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 parent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thus increasing their desire to help their son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resenting Awards to Boy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resent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award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during the outpost meeting with all the boys present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award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may b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presented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by the commander, senior commander, or the advancement coordinator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ake sure the boy is recognized in front of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entire church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at the next Council of Achievement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690840" indent="-26568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esent certificate of achievement at that time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Suggested Agenda for Monthly Outpost Council Meeting</a:t>
            </a:r>
            <a:endParaRPr b="0" i="1" lang="en-US" sz="4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hairma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calls the meeting to order and opens in praye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ecretary/Treasur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ads the minutes of the previous meeting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enior command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discipline problems, attendance, needs of the outpost, boys saved and filled with the Spirit, etc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5438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Suggested Agenda for Monthly Outpost Council Meeting 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ch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ouncilman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ports on his area of responsibility.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ecretary/Treasur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financial status of the outp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dvancement coordinato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boys who are going through the review proces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Secretary/Treasurer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uties of Secretar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Keep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minutes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of each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 council meeting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Distribute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copies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after each meeting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end notices to the council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date, time,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 location of meeting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Suggested Agenda for Monthly Outpost Council Meeting 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Equipment and camping coordinato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equipment needs and camping opportunitie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Publicity and promotions coordinato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reports on membership drives, promotions, and recent PR effort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y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old and new busines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s address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djourn with pray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or Royal Rangers ministry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1646280"/>
            <a:ext cx="731520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1cfc"/>
                </a:solidFill>
                <a:latin typeface="Book Antiqua"/>
              </a:rPr>
              <a:t>B   R   E   A   K</a:t>
            </a:r>
            <a:r>
              <a:rPr b="0" lang="en-US" sz="3200" spc="-1" strike="noStrike">
                <a:solidFill>
                  <a:srgbClr val="3a1cfc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1cfc"/>
                </a:solidFill>
                <a:latin typeface="Book Antiqua"/>
              </a:rPr>
              <a:t>FOR</a:t>
            </a:r>
            <a:r>
              <a:rPr b="0" lang="en-US" sz="3200" spc="-1" strike="noStrike">
                <a:solidFill>
                  <a:srgbClr val="3a1cfc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a1cfc"/>
                </a:solidFill>
                <a:latin typeface="Book Antiqua"/>
              </a:rPr>
              <a:t>LUNCH</a:t>
            </a: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Secretary/Treasure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uties of Treasure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Provide leadership in preparing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outpost budget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Keep sound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financial records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Be accountable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for all outpost fund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Outpost Budge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develop a budget and estimate expenses for the coming year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Past 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expenditures will serve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 as a guide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Consider: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524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growth in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Book Antiqua"/>
              </a:rPr>
              <a:t>outpost</a:t>
            </a: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524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replacement of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Book Antiqua"/>
              </a:rPr>
              <a:t>equipment</a:t>
            </a: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524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commander’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Book Antiqua"/>
              </a:rPr>
              <a:t>requests.</a:t>
            </a:r>
            <a:endParaRPr b="0" lang="en-US" sz="2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Outpost Budget 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come sources: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Dues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Budget allowance from church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Fundraising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Special offerings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Weekly Dues System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idely us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outpos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ues cover basic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udget item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patches, craft projects)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quarter a week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equals over $13 per year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ome outposts charge an annual fee, but you fail to gain benefits of paying dues with this system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Advantages of Boys Paying Their Own Due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earn how to budge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ncom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ained to br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offerings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God’s house to support his work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feeling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ontributing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 part of themselves to the outpost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t helps to develop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oy’s character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en he is expected to come up with his dues each week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Fundraising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cision made jointly with outpos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council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comman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hould no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onflict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ith ou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Christian principl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1-28T23:47:28Z</cp:lastPrinted>
  <dcterms:modified xsi:type="dcterms:W3CDTF">1999-07-25T04:32:19Z</dcterms:modified>
  <cp:revision>74</cp:revision>
  <dc:subject>Outpost Council </dc:subject>
  <dc:title>North Texas District Royal Rangers</dc:title>
</cp:coreProperties>
</file>