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05B7-C09D-46A0-B3B8-024FC818D5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96B-AE90-46A1-893E-AA6DB877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FD9-C604-4263-A149-58AC388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351-12CA-49D2-B9F0-C2B81090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9B4-940C-4577-80C3-C3445957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1D4-BAC1-4131-8765-6E1DA59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23E-9045-4262-8009-13D9D89A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E76-3C0F-4328-91F6-DFAAC9F4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848-BD3B-424D-8FFB-B524E7A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060-97FF-4B4C-981D-73B6512A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97C-D581-48D2-A8DA-01CCC53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A51-156B-427F-A080-F5D127C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68F-7542-4F92-9171-B849D86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E09-F289-4F9E-AB70-ED550106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vid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iritual guidanc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studies, devotion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ie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age group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liaison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ection, district, and national Royal Ranger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resentation of awards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15-17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s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uld not be in charg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ais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unsel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ing or Day Camp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us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ik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ow Wo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onor Bou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ommander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prepara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harter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weekl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1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1 1/2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repared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parate are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atch the nee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torage spac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gh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ventil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2920" y="57960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3160" y="65556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8120" y="2662200"/>
          <a:ext cx="36478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62200"/>
                    <a:ext cx="36478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mman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oyal Rang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 Cour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286920" y="1736640"/>
            <a:ext cx="78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o work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end tim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ditional training experience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rn-again Christi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ord of Go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abits and ideal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ike boy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800" y="1600200"/>
            <a:ext cx="575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sistent testimon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 and deleg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udg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cept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oper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rain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eekly meeti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 and accomplish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8:50Z</cp:lastPrinted>
  <dcterms:modified xsi:type="dcterms:W3CDTF">1999-07-25T04:42:18Z</dcterms:modified>
  <cp:revision>48</cp:revision>
  <dc:subject>Outpost Council </dc:subject>
  <dc:title>North Texas District Royal Rangers</dc:title>
</cp:coreProperties>
</file>