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920908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208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98952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217840" y="-1800"/>
            <a:ext cx="398916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398952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217840" y="6513120"/>
            <a:ext cx="398916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25B9-BB7F-4529-9A5F-283F0854EE6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1226880" y="3255480"/>
            <a:ext cx="6753240" cy="30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2892600" y="514080"/>
            <a:ext cx="3427200" cy="257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move the slid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1226880" y="3255480"/>
            <a:ext cx="6753240" cy="30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of the later LTC courses put out by Nat’l off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 teaching this course so the outpost councilmen knows what their roll is in the Royal Ranger pro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rse is usually an 6-8 hour cou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ensed to 4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Teaching concept  will be fo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 -- each should have a book and out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. notes on the outline sheets suppl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ill be taken up and graded at end of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writing and filling in the bla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ompletion of  the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icates will be given upon comple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nd Answers are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not chase rabbits with ideas or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questions requiring more detail answers will have to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break time or after class in order to save tim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Img"/>
          </p:nvPr>
        </p:nvSpPr>
        <p:spPr>
          <a:xfrm>
            <a:off x="2892600" y="514440"/>
            <a:ext cx="3427200" cy="2570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1226880" y="3255480"/>
            <a:ext cx="6753240" cy="30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of the later LTC courses put out by Nat’l off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 teaching this course so the outpost councilmen knows what their roll is in the Royal Ranger pro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rse is usually an 6-8 hour cou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ensed to 4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Teaching concept  will be fo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 -- each should have a book and out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. notes on the outline sheets suppl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ill be taken up and graded at end of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writing and filling in the bla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ompletion of  the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icates will be given upon comple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nd Answers are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not chase rabbits with ideas or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questions requiring more detail answers will have to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break time or after class in order to save tim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ldImg"/>
          </p:nvPr>
        </p:nvSpPr>
        <p:spPr>
          <a:xfrm>
            <a:off x="2892600" y="514440"/>
            <a:ext cx="3427200" cy="2570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7AC2-163E-42AE-AD23-F4464BC24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5884-3396-4088-B23F-6567B01A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8352-E873-455A-BFBF-8D3CE2C36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0582-0230-45B9-A71C-F0602AE46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31AB-3DCD-4C62-B500-795D48DC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BD5E-3D3D-4386-98CB-09ED07C0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A17B-2B03-429E-83D5-966FBCAE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1A08-A41C-4A01-9FF5-ED211815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9343-4266-43E4-9F37-310FFC7C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1EA8-AD11-457E-8FB0-638EDF9D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58CF-5752-463B-B55F-E2B2B649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BEBC-02BB-4795-8695-E8CF7D33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C598-5AE0-4637-B67F-07DC88CAA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400" y="299880"/>
            <a:ext cx="1304640" cy="114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2057040"/>
            <a:ext cx="75452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Outpost Councilmen</a:t>
            </a:r>
            <a:br>
              <a:rPr sz="4800"/>
            </a:b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Leadership Training Course</a:t>
            </a:r>
            <a:br>
              <a:rPr sz="4800"/>
            </a:br>
            <a:r>
              <a:rPr b="0" i="1" lang="en-US" sz="1600" spc="-1" strike="noStrike">
                <a:solidFill>
                  <a:srgbClr val="114ffb"/>
                </a:solidFill>
                <a:latin typeface="Book Antiqua"/>
              </a:rPr>
              <a:t> </a:t>
            </a: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Session 4 </a:t>
            </a:r>
            <a:br>
              <a:rPr sz="4800"/>
            </a:br>
            <a:br>
              <a:rPr sz="48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  </a:t>
            </a:r>
            <a:r>
              <a:rPr b="0" i="1" lang="en-US" sz="6000" spc="-1" strike="noStrike">
                <a:solidFill>
                  <a:srgbClr val="114ffb"/>
                </a:solidFill>
                <a:latin typeface="Book Antiqua"/>
              </a:rPr>
              <a:t>Child Abuse</a:t>
            </a:r>
            <a:endParaRPr b="0" i="1" lang="en-US" sz="6000" spc="-1" strike="noStrike">
              <a:solidFill>
                <a:srgbClr val="114ffb"/>
              </a:solidFill>
              <a:latin typeface="Book Antiqu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00" y="152280"/>
            <a:ext cx="2427120" cy="21337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Recognition of Abuse (Physical or Emotional)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Knowledge or behavi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beyond child's developmen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requent complaints .. headache, backache, stomachach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Sudden avoidanc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certain adult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cline in school performanc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Physical Abus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on-accidental injur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ating, shak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uman bites, strangulation mark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ur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atches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mmerse in scalding hot wate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Physical Abuse </a:t>
            </a:r>
            <a:r>
              <a:rPr b="0" i="1" lang="en-US" sz="3200" spc="-1" strike="noStrike">
                <a:solidFill>
                  <a:srgbClr val="114ffb"/>
                </a:solidFill>
                <a:latin typeface="Book Antiqua"/>
              </a:rPr>
              <a:t>(con’t)</a:t>
            </a:r>
            <a:endParaRPr b="0" i="1" lang="en-US" sz="3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cognized Abus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nexplain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bruis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nexplain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fractures/disloc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nexplain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bur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nexplain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injuri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hild Abuse Prevention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Screen your lea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stablish procedures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policies for proper conduc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stablis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job description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for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oyal Rangers leader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hild Abuse Prevention  (con’t)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2 adult leader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required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all activiti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spect thei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space and privacy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Keep written record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unusual behavior and occurrenc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Report incidenc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child abuse to pastor or church board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andatory by the law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Reporting Child Abus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o Must Report 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ach state has different statutes for reporting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en &amp; Where to Repor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hen yo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suspe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reasonable caus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ou don’t have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prove abus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port to the pasto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at Happen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nvestigation results in 3 thing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buse or neglect is ruled ou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Uncertain about the finding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buse or neglect confirme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7560" y="17136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How to Deal With I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rovide private time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talk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Listen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what the child say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promise not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tel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r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to do the right thing”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How to Deal With It </a:t>
            </a:r>
            <a:r>
              <a:rPr b="0" i="1" lang="en-US" sz="2800" spc="-1" strike="noStrike">
                <a:solidFill>
                  <a:srgbClr val="114ffb"/>
                </a:solidFill>
                <a:latin typeface="Book Antiqua"/>
              </a:rPr>
              <a:t>(</a:t>
            </a:r>
            <a:r>
              <a:rPr b="0" i="1" lang="en-US" sz="3200" spc="-1" strike="noStrike">
                <a:solidFill>
                  <a:srgbClr val="114ffb"/>
                </a:solidFill>
                <a:latin typeface="Book Antiqua"/>
              </a:rPr>
              <a:t>con’t)</a:t>
            </a:r>
            <a:endParaRPr b="0" i="1" lang="en-US" sz="3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on’t expre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hock or criticiz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famil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ssure them ... done the right th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etermine immediate need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ell them .. required by law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repor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Report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to proper authoriti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hild Abus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Remember: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A report of suspected abuse is the attempt to protect a child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Prevention: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Treatment for the victims and their families is essential to stopping abuse once it has occurred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re is no ministry in th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Assembli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God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that wins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ore souls than Royal Rangers.”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erry Raburn, Past National Director,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ivision of Church Ministri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Mission of Royal Ranger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o reach, teach and keep 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boys for Christ.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Question and Answer tim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OUTLIN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RITE YOUR NAME ON BOOKLE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ASS TO THE FRONT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3a1cfc"/>
                </a:solidFill>
                <a:latin typeface="Book Antiqua"/>
              </a:rPr>
              <a:t>T E S T     T I M E</a:t>
            </a:r>
            <a:endParaRPr b="0" i="1" lang="en-US" sz="6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2533320"/>
            <a:ext cx="75438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2323"/>
                </a:solidFill>
                <a:latin typeface="Book Antiqua"/>
              </a:rPr>
              <a:t>NAME THE </a:t>
            </a:r>
            <a:r>
              <a:rPr b="1" lang="en-US" sz="2400" spc="-1" strike="noStrike" u="sng">
                <a:solidFill>
                  <a:srgbClr val="232323"/>
                </a:solidFill>
                <a:uFillTx/>
                <a:latin typeface="Book Antiqua"/>
              </a:rPr>
              <a:t>5</a:t>
            </a:r>
            <a:r>
              <a:rPr b="1" lang="en-US" sz="2400" spc="-1" strike="noStrike">
                <a:solidFill>
                  <a:srgbClr val="232323"/>
                </a:solidFill>
                <a:latin typeface="Book Antiqua"/>
              </a:rPr>
              <a:t> OUTPOST COUNCIL POSITION AND THE FUNCTION OF EACH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232323"/>
                </a:solidFill>
                <a:latin typeface="Book Antiqua"/>
              </a:rPr>
              <a:t>WHAT WOULD BE THE VALUE OF ROYAL RANGERS IN YOUR CHURCH?</a:t>
            </a:r>
            <a:br>
              <a:rPr sz="2400"/>
            </a:br>
            <a:br>
              <a:rPr sz="2400"/>
            </a:b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Sexual Child Abus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Child exploitation for the sexual gratification of another pers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Include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tercourse, sodomy, oral-genital stimulation, verbal stimula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hibitionism (enjoy watching)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ndling, pornograph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Scope of this problem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ver 1,000,000 abuse cases a yea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2,000 - 3,000 deaths each yea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1 in 5 be sexually abused by 18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ore than 1/3 are children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5 years and olde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33% girls by 18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17% boys by 18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xual abuse last 1-4 yea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Leader Selection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really know your Royal Rangers lea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2743200"/>
            <a:ext cx="26672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000000"/>
                </a:solidFill>
                <a:latin typeface="Book Antiqua"/>
              </a:rPr>
              <a:t>?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hurche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lways needing lea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e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adi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n and wife tea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Open Door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Hunting season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(all year around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Men or women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eams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Husband &amp; wif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Screening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ll out Children/You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applica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nterview  applican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heck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ll referenc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horoughl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revious church attendance/involv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olice records (if you suspect a cause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Various Forms of Child Abus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Sexual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bus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Physical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bus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9T20:03:30Z</dcterms:created>
  <dc:creator>Dwain Klopfenstein/Paul Patterson</dc:creator>
  <dc:description>Taught at 1997 Regional Seminar Class</dc:description>
  <dc:language>en-US</dc:language>
  <cp:lastModifiedBy>Jonathan Trower</cp:lastModifiedBy>
  <cp:lastPrinted>1998-01-27T02:19:26Z</cp:lastPrinted>
  <dcterms:modified xsi:type="dcterms:W3CDTF">1999-07-25T04:51:19Z</dcterms:modified>
  <cp:revision>62</cp:revision>
  <dc:subject>Outpost Council </dc:subject>
  <dc:title>North Texas District Royal Rangers</dc:title>
</cp:coreProperties>
</file>