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1720" cy="350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3360" y="-1440"/>
            <a:ext cx="5211720" cy="350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1720" cy="351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3360" y="6633720"/>
            <a:ext cx="5211720" cy="351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2053-1FB1-4A77-AEF8-BFFFF8F4CA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74640" y="525240"/>
            <a:ext cx="348804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4275000" y="525600"/>
            <a:ext cx="3488040" cy="261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every one to two years to bring leaders in and reevaluat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4275000" y="525600"/>
            <a:ext cx="3488040" cy="2616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4C4-99FB-46FD-92A6-4EECF286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5FD-F339-47C9-91E6-06694CDA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7CF-7A47-4586-8260-9B46960F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006-B82E-41C7-BFCF-A3238D61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221-3430-451C-8814-19809D8A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437-0F35-4BF1-B4B2-C9F934B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08C-A63B-4F52-BCD8-0304E400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F8C-78B2-48AE-AACC-8F300DE3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34F-BC0B-4D08-ACC9-04CC4EB0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A48-B202-4341-9098-2BDCCB8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D3C-C6C2-4947-A623-6E33FAC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33D-6D60-45F1-A5E6-873DEAC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073-19CC-49A0-956A-54CC5F764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1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Can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 man in church who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o is willing to devo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necessary to fulfill the duties of a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abl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experience with Royal Ranger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but no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Should It Be Formed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ally, in place before an outpos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should be organized to begin providing the vital support from this group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How Should They Be Selected?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two possible method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by the church bo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rom the ranks of the local men’s grou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Else Should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shoul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if not in one of the five leadership posi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all business conducted by the counci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hould also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the council meeting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each age group and arrange for training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lec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ather the materials necessary for the weekly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br>
              <a:rPr sz="4400"/>
            </a:b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Royal Rangers Ministr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ruit, interview &amp; screen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vel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ure adequ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all ag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ur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re available.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intain stock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oks, uniforms and awar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ize and promote Royal Rangers programs and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 and execute Councils of Achievemen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the weekly meetings as need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et regularly to transact business and execute responsibil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ppoint the leadership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ers and Lt. Command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ruit Royal Rangers staf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ablish standards and goa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ow for growth and develo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070520"/>
            <a:ext cx="76881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Council </a:t>
            </a:r>
            <a:r>
              <a:rPr b="0" i="1" lang="en-US" sz="4000" spc="-1" strike="noStrike">
                <a:solidFill>
                  <a:srgbClr val="114ffb"/>
                </a:solidFill>
                <a:latin typeface="Book Antiqua"/>
              </a:rPr>
              <a:t>Positions</a:t>
            </a:r>
            <a:endParaRPr b="0" i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Outpost Council</a:t>
            </a: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	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special committe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o have the basic responsibilities of the administration of the Royal Ranger program within the local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Why be involved</a:t>
            </a:r>
            <a:endParaRPr b="0" i="1" lang="en-US" sz="7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800680" y="1989000"/>
          <a:ext cx="150516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0680" y="1989000"/>
                    <a:ext cx="150516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433240" y="2212920"/>
            <a:ext cx="12276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ge When Saved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% saved before the age of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85% saved between the ages of 4 and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0% saved between the ages of 15 and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ly 4 percent saved after the age of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urce: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andbook of Children’s Evangelis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 advTm="1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reach, teach, and keep boys for Christ.</a:t>
            </a:r>
            <a:r>
              <a:rPr b="0" lang="en-US" sz="3200" spc="-1" strike="noStrike">
                <a:solidFill>
                  <a:srgbClr val="ff0909"/>
                </a:solidFill>
                <a:latin typeface="Book Antiqu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oyal Rangers Goal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instruct in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challenge for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inspire a belief in the fundamental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satisfy the boys’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 need for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ilosophy of a Successful Outpost Council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legation of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provi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Much Time Will It Tak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 much time as a man is willing to give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 various amoun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n a monthly basi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7-06T05:42:57Z</cp:lastPrinted>
  <dcterms:modified xsi:type="dcterms:W3CDTF">1999-07-25T04:22:08Z</dcterms:modified>
  <cp:revision>77</cp:revision>
  <dc:subject>Outpost Council </dc:subject>
  <dc:title>North Texas District Royal Rangers</dc:title>
</cp:coreProperties>
</file>