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12023725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12024000" cy="69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5210280" cy="35064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0" bIns="0" anchor="t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14800" y="-1440"/>
            <a:ext cx="5210280" cy="35064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360" y="6633720"/>
            <a:ext cx="5210280" cy="35100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0" bIns="0" anchor="b">
            <a:noAutofit/>
          </a:bodyPr>
          <a:lstStyle>
            <a:lvl1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14800" y="6633720"/>
            <a:ext cx="5210280" cy="35100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fld id="{DAEECE1F-AE84-42FC-9E35-AC6F6A4B9506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1603440" y="3316320"/>
            <a:ext cx="8818560" cy="314496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4269960" y="523800"/>
            <a:ext cx="3490920" cy="261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move the slid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1603440" y="3316320"/>
            <a:ext cx="8818560" cy="314496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of the later LTC courses put out by Nat’l off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 teaching this course so the outpost councilmen knows what their roll is in the Royal Ranger pro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rse is usually an 6-8 hour cou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ensed to 4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Teaching concept  will be fo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 -- each should have a book and out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. notes on the outline sheets suppl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ill be taken up and graded at end of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writing and filling in the bla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ompletion of  the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icates will be given upon complete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nd Answers are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not chase rabbits with ideas or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questions requiring more detail answers will have to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break time or after class in order to save tim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ldImg"/>
          </p:nvPr>
        </p:nvSpPr>
        <p:spPr>
          <a:xfrm>
            <a:off x="4270320" y="523800"/>
            <a:ext cx="3490920" cy="26179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06E3-3BA2-418A-A9CC-88E7185AF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8EC6-6A82-4F17-A742-3D90F271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7B83-1D28-4362-8BB3-686B02ED7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AEF7-A9AB-4C6F-9616-5AC2A1F08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1FE3-9046-44C1-90C1-D1E8A42E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7B3A-062F-45B8-A6C6-17BBECE8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E4BE-720A-4292-8543-412BE87B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485E-8120-4833-84BF-518D98FB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F2A8-8A06-4AD3-902E-2806A429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CD66-0A39-4321-8AD4-72AAF08F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5127-9864-4931-94E2-18354B47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2D55-4ED3-4E91-98E2-EAE7BB22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1E82-096B-4C2A-822D-A73F1FB43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400" y="299880"/>
            <a:ext cx="1304640" cy="114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0160" y="1828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Outpost Councilmen</a:t>
            </a:r>
            <a:br>
              <a:rPr sz="4800"/>
            </a:b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Leadership Training Course</a:t>
            </a:r>
            <a:br>
              <a:rPr sz="4800"/>
            </a:br>
            <a:r>
              <a:rPr b="0" i="1" lang="en-US" sz="1600" spc="-1" strike="noStrike">
                <a:solidFill>
                  <a:srgbClr val="114ffb"/>
                </a:solidFill>
                <a:latin typeface="Book Antiqua"/>
              </a:rPr>
              <a:t> </a:t>
            </a:r>
            <a:br>
              <a:rPr sz="1600"/>
            </a:b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 Session 2</a:t>
            </a:r>
            <a:endParaRPr b="0" i="1" lang="en-US" sz="4800" spc="-1" strike="noStrike">
              <a:solidFill>
                <a:srgbClr val="114ffb"/>
              </a:solidFill>
              <a:latin typeface="Book Antiqu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00" y="152280"/>
            <a:ext cx="2427120" cy="21337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Several Ways to Determine If a Project Is Permissibl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approved by the council, pastor, and commander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void date conflicts with other church activities or fund-raiser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s the plan free of gambling or chance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an the product be sold on its merits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Several Ways to Determine If a Project Is Permissible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 </a:t>
            </a:r>
            <a:endParaRPr b="0" i="1" lang="en-US" sz="3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ill those who buy get their money’s worth from the product or service they receive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88000" indent="-28800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s it reasonably certain that people who need work or business will not lose it as a result of the sales effort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88000" indent="-28800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ill the plan protect the name and goodwill of Royal Rangers and prevent it from being capitalized on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Insuranc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Statistics show that most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 happen at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The least hazardous part of a boy’s life is likely to be when he is on a Royal Rangers outing with adult supervision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Due to rash of lawsuits and claims today, however, it is recommended that the church carry adequate insurance at all times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Promotion &amp; Publicity Coordinator</a:t>
            </a:r>
            <a:endParaRPr b="0" i="1" lang="en-US" sz="3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fc5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s is a PR job -- should publicize all activities of the outpost through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from pulpit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hurch bulletins /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newsletter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Promotion &amp; Publicity Coordinator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fc5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ctivities to promote include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uncil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presentation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angers of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ew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f the outpos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Promotion &amp; Publicity Coordinator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 </a:t>
            </a:r>
            <a:endParaRPr b="0" i="1" lang="en-US" sz="3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dfc5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sponsible for planning ways to increase outpost membership by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ncouraging boys to bring friend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ntact drop outs …. to encourage them to rejoin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king all visitors feel welcome, and following up on them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Promotion &amp; Publicity Coordinator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 </a:t>
            </a:r>
            <a:endParaRPr b="0" i="1" lang="en-US" sz="3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ke a presentation about Royal Rangers in Sunday School and children’s church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llowing up on visitors to a Kid’s Crusade or VBS, inviting them to Royal Ranger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nducting door-to-door campaign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Promotion &amp; Publicity Coordinator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.show photos of event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t up a mode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ocal parades..Booths at local fair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nvolve boys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utings to invi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nduc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ctiviti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utpo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Equipment &amp; Camping Coordinator</a:t>
            </a:r>
            <a:endParaRPr b="0" i="1" lang="en-US" sz="3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ake sure the outpost has adequate equipment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75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esent equipment needs to the council, along with possible funding methods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6120" y="456840"/>
            <a:ext cx="6935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Equipment &amp; Camping </a:t>
            </a:r>
            <a:br>
              <a:rPr sz="3800"/>
            </a:b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Coordinator  </a:t>
            </a:r>
            <a:r>
              <a:rPr b="0" i="1" lang="en-US" sz="28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 commanders in arranging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needed for each trip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 with activities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Duties of the Outpost Council Chairman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 monthly council meeting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_______________________________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Making sure the council functions are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 other council members and commanders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Equipment &amp; Camping </a:t>
            </a:r>
            <a:br>
              <a:rPr sz="3800"/>
            </a:b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Coordinator  </a:t>
            </a:r>
            <a:r>
              <a:rPr b="0" i="1" lang="en-US" sz="28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termine Equipment Need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ith a large piece of equipment (canoe), where and how securely will it be stored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r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vailable for the purchas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Keep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list up-to-date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Equipment &amp; Camping </a:t>
            </a:r>
            <a:br>
              <a:rPr sz="3800"/>
            </a:b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Coordinator  </a:t>
            </a:r>
            <a:r>
              <a:rPr b="0" i="1" lang="en-US" sz="28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quipment Care and Upkeep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ure all equipment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oom or building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Keep all equipment together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romptl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ny equipmen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hop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round for the best price and value when purchasing equipmen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Equipment &amp; Camping </a:t>
            </a:r>
            <a:br>
              <a:rPr sz="3800"/>
            </a:b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Coordinator  </a:t>
            </a:r>
            <a:r>
              <a:rPr b="0" i="1" lang="en-US" sz="28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 with travel and camp-out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rrang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to and from cam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rrange and secu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: food, camping gear, fuel, coolers, etc...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in the actual camp as neede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Duties of the Outpost Council Advancement Coordinator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The advancement coordinator is responsible for: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1" marL="668520" indent="-257040">
              <a:spcBef>
                <a:spcPts val="64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Arranging f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when an advancement is earned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668520" indent="-257040">
              <a:spcBef>
                <a:spcPts val="64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hairing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process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668520" indent="-257040">
              <a:spcBef>
                <a:spcPts val="64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Working closely with the commanders i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out Councils of Achievement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668520" indent="-257040">
              <a:spcBef>
                <a:spcPts val="64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Serving a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for special ceremonies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Advancement Review Proces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consists of advancement coordinator, commander, and one council member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gins when a bo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to completing an awar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ke the review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ather than tes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26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, ask the boy questions on his skills related to the award he is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 completing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e should be able to knowledgeably answ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se question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Advancement Review Process </a:t>
            </a:r>
            <a:r>
              <a:rPr b="0" i="1" lang="en-US" sz="36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f he has problems in an area, provi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and review him again in two week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utright to allow an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ake sure a boy does not have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for the award after the review proces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y Have Ceremonies?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o formally acknowledg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f the boy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1680" indent="-3016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o provide an opportunity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with parents and others in the church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1680" indent="-3016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o help creat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for further advancemen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1680" indent="-3016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o provide an opportunity to give recognition of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, thus increasing their desire to help their son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Presenting Awards to Boy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resent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during the outpost meeting with all the boys present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spcBef>
                <a:spcPts val="751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may b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by the commander, senior commander, or the advancement coordinator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spcBef>
                <a:spcPts val="751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Make sure the boy is recognized in front of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at the next Council of Achievement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690840" indent="-26568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esent certificate of achievement at that time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114ffb"/>
                </a:solidFill>
                <a:latin typeface="Book Antiqua"/>
              </a:rPr>
              <a:t>Suggested Agenda for Monthly Outpost Council Meeting</a:t>
            </a:r>
            <a:endParaRPr b="0" i="1" lang="en-US" sz="4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calls the meeting to order and opens in prayer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eads the minutes of the previous meeting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eports on discipline problems, attendance, needs of the outpost, boys saved and filled with the Spirit, etc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5438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114ffb"/>
                </a:solidFill>
                <a:latin typeface="Book Antiqua"/>
              </a:rPr>
              <a:t>Suggested Agenda for Monthly Outpost Council Meeting </a:t>
            </a:r>
            <a:r>
              <a:rPr b="0" i="1" lang="en-US" sz="32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3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ach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reports on his area of responsibility.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eports on financial status of the outpos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eports on boys who are going through the review proces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Duties of the Outpost Council Secretary/Treasurer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152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fc53"/>
              </a:buClr>
              <a:buSzPct val="75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uties of Secretar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Keep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of each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Distribute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after each meeting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Send notices to the council of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114ffb"/>
                </a:solidFill>
                <a:latin typeface="Book Antiqua"/>
              </a:rPr>
              <a:t>Suggested Agenda for Monthly Outpost Council Meeting </a:t>
            </a:r>
            <a:r>
              <a:rPr b="0" i="1" lang="en-US" sz="32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3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eports on equipment needs and camping opportunitie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eports on membership drives, promotions, and recent PR effort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ny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is addresse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for Royal Rangers ministry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Duties of the Outpost Council Secretary/Treasurer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fc53"/>
              </a:buClr>
              <a:buSzPct val="75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uties of Treasure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Provide leadership in preparing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Keep sound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for all outpost funds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Outpost Budge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develop a budget and estimate expenses for the coming year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_____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 expenditures will serv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Consider: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524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ook Antiqua"/>
              </a:rPr>
              <a:t>growth in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r>
              <a:rPr b="0" lang="en-US" sz="2100" spc="-1" strike="noStrike">
                <a:solidFill>
                  <a:srgbClr val="000000"/>
                </a:solidFill>
                <a:latin typeface="Book Antiqua"/>
              </a:rPr>
              <a:t>, </a:t>
            </a:r>
            <a:endParaRPr b="0" lang="en-US" sz="21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524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ook Antiqua"/>
              </a:rPr>
              <a:t>replacement of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Book Antiqua"/>
              </a:rPr>
              <a:t>____________</a:t>
            </a:r>
            <a:r>
              <a:rPr b="0" lang="en-US" sz="2100" spc="-1" strike="noStrike">
                <a:solidFill>
                  <a:srgbClr val="000000"/>
                </a:solidFill>
                <a:latin typeface="Book Antiqua"/>
              </a:rPr>
              <a:t>,</a:t>
            </a:r>
            <a:endParaRPr b="0" lang="en-US" sz="21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524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ook Antiqua"/>
              </a:rPr>
              <a:t>commander’s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Book Antiqua"/>
              </a:rPr>
              <a:t>__________.</a:t>
            </a:r>
            <a:endParaRPr b="0" lang="en-US" sz="2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Outpost Budget 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ncome sources: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Weekly Dues System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idely us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ues cover basic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patches, craft projects)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equals over $13 per year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ome outposts charge an annual fee, but you fail to gain benefits of paying dues with this system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Advantages of Boys Paying Their Own Due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earn how to budge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income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rained to br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to God’s house to support his work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feeling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 part of themselves to the outpost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t helps to develop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when he is expected to come up with his dues each week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Fundraising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cision made jointly with outpos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 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hould no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with ou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9T20:03:30Z</dcterms:created>
  <dc:creator>Dwain Klopfenstein/Paul Patterson</dc:creator>
  <dc:description>Taught at 1997 Regional Seminar Class</dc:description>
  <dc:language>en-US</dc:language>
  <cp:lastModifiedBy>Jonathan Trower</cp:lastModifiedBy>
  <cp:lastPrinted>1998-01-28T23:47:28Z</cp:lastPrinted>
  <dcterms:modified xsi:type="dcterms:W3CDTF">1999-07-25T04:32:25Z</dcterms:modified>
  <cp:revision>76</cp:revision>
  <dc:subject>Outpost Council </dc:subject>
  <dc:title>North Texas District Royal Rangers</dc:title>
</cp:coreProperties>
</file>