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2828-BCB6-4E52-B16C-4D238E610B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042-C2A3-46A8-855C-3F956225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6E0-809D-42E9-8873-0631CF4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554-8F21-416A-AED4-A5B4F081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48C-E6A5-4667-A828-9F9A651E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F85-FE70-44C3-BD69-13DF85F7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5D1-7B07-427E-B225-65E79C12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22B-6368-40CD-86E1-E1515A24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313-5151-4348-A1D8-5B900FCA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2A9-7A1E-4E15-9BE6-905E0509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249-B028-4E61-BCA7-7EC0B4CE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05E-1136-4D2A-9790-EA4EA2F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37F-791B-4AF9-9DBB-43C850AB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B32C-AD71-4073-95B6-AE40BE7C7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 Session 3</a:t>
            </a:r>
            <a:endParaRPr b="0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th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senior commander is vital to 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utpost with more than one age group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s duties are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activities of the variou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rve as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between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and commanders, and with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ill in as needed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in the absence of a commander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with the outpost council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to boy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eutenan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weekly meetings and extra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unior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boy a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ile continuing to work on his advancemen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a meeting or extra activit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nior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activities of the various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tween commander and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ir patro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ant 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patrol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ook Antiqua"/>
              </a:rPr>
              <a:t>T R A I N I N G </a:t>
            </a:r>
            <a:endParaRPr b="0" i="1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53280" y="61722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0" y="2362320"/>
          <a:ext cx="5251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5251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 Royal Ranger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LTC consists of fiv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ders Medal of Achievement is awarded for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0120" y="3733920"/>
          <a:ext cx="11811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733920"/>
                    <a:ext cx="1181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National Training Event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ckaroo/Straight Arrow Training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vanced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nter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Trai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Canoe Expedi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Urban Leadership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LT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uctur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JT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vanced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x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TT (Junior Training Trail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back packing skills...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 relax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gle Rock Adventure  (Nation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tional Merit cam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k packing trip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Job Descrip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t.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r.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r. Guid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ings Which Impress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are impressed by things which a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ypes of Outdoor Activitie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 Backp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mporam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ke Rode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ld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orts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nter Fun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Activities (swimming, canoe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What Charter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an Do For You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36572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isf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683280" y="2103480"/>
            <a:ext cx="8271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a number of important benef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at accompany consistent chartering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 .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The following people must become enthused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about the ministry: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Enlis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Leadership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ke arrangements for meeting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recogni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3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at lea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and preferab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hours lo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tarting and ending times should coincide with other activities on the same nigh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ufficient commanders and helpers are need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2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anders need to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ith enough activities for the entire perio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d. night is ideal as part of family night, but watch conflicts with youth group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 Area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age group need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s and chairs ne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needed for crafts, supplies, book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ffici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hould be available to make the area conducive to lear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ace should be sufficiently large to allow for a variety of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277308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meet the basic qualification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a general knowledge of the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completed or be enroll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592920" y="1736640"/>
            <a:ext cx="751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Senior Commander of an outpost should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following qual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5998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behalf of Royal Rang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atte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if at all possi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well ground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loyal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are above reproa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enjoy working with th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4320" y="304920"/>
            <a:ext cx="7697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daily Christian liv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uthor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ssess 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program of the 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ears of age or older (Lieutenant Commanders must be 18 or older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13372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ere should be a commander for each 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group. This man or woman is respon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r the followi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the RR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bal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"/>
          <p:cNvSpPr/>
          <p:nvPr/>
        </p:nvSpPr>
        <p:spPr>
          <a:xfrm>
            <a:off x="-3505320" y="1905120"/>
            <a:ext cx="731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 </a:t>
            </a:r>
            <a:r>
              <a:rPr b="1" i="1" lang="en-US" sz="2400" spc="-1" strike="noStrike">
                <a:solidFill>
                  <a:srgbClr val="676767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ssistance with advanc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o the boys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Christian examp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ext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geared to the boys’ age, like camp-outs, hikes, and field day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7-06T06:26:34Z</cp:lastPrinted>
  <dcterms:modified xsi:type="dcterms:W3CDTF">1999-07-25T04:42:46Z</dcterms:modified>
  <cp:revision>50</cp:revision>
  <dc:subject>Outpost Council </dc:subject>
  <dc:title>North Texas District Royal Rangers</dc:title>
</cp:coreProperties>
</file>