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820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820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4722C1-72BD-47CF-89D5-6A3F8352C9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3680" y="515880"/>
            <a:ext cx="3421080" cy="25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2894040" y="515880"/>
            <a:ext cx="3421080" cy="2565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997-4441-4D7E-9463-115E1835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56C-F5D9-4574-B215-31B572A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02C-C615-4C37-A971-654A86F7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6EF-A5F0-4A6A-A825-90527B16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DA5-F1F3-4B2C-8152-73CC755C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0EB-628C-476B-835E-970DB6E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C4C-8B98-4407-9D9C-25B08E3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921-95D5-40C8-9216-25A0DC4E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51C-997A-46C2-802C-C0E435C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80B-5A11-47C5-ACB3-B021C5FD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31E-A00E-46FC-9BB5-6981A4E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28C-6B9B-49BF-8CB7-913473C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54E0-5250-46BA-A049-B4D89641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s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hysic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09T03:55:52Z</cp:lastPrinted>
  <dcterms:modified xsi:type="dcterms:W3CDTF">1999-07-25T04:51:26Z</dcterms:modified>
  <cp:revision>68</cp:revision>
  <dc:subject>Outpost Council </dc:subject>
  <dc:title>North Texas District Royal Rangers</dc:title>
</cp:coreProperties>
</file>