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FFA-55E5-46DD-BC5B-11EB9EDF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330-20DE-4890-93EB-B12D9FEC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ACE-92AF-4AED-819A-A85F08E8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6C3-6DBE-49AC-8727-F34B4FAC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634C-639F-40AA-BD78-FF3B4EF6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F2B6-B531-42DF-BCC3-22CEC277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C9F-DCA3-4607-B340-B4372A56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2E4F-9321-4BEE-B4F2-01687453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F8B-B1E8-458A-9101-9EE0F386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5280-4BF2-4534-9298-97BD950C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9FB0-050A-4165-9173-0473D461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498-C6A1-4E77-9E3E-32C092C5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2A4F-BE10-4930-9517-ECB6D57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E2C1-FA78-4772-A8FC-EC1F10C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CD36-B188-4EE9-A123-2029FBF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CC57-2B60-41E0-A942-CD47CAF6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A131-1D6F-4959-BAD0-2EE2FBE0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F72-3A66-43A5-AD23-8A574F1E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2AA-E0CB-4F8D-9CA5-4C2A398F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E5F-B307-43BD-AB32-5EF29525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649-4F73-4FE5-9DAA-969116DA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DD9-BE05-4788-9CFC-90885FA9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1FF-0FF3-465B-B152-86D34F8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5B5-E38D-4067-9511-F9E5F72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C158-AD7A-4BBF-B263-560A4217B5A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Arial Black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0F1C-6E60-43DB-9E9B-290F5467839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 Commanders 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341440" cy="2477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retary/Treasurer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cords keeping- PCA assign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king notes at meeting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nances raised by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also be involved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2022480" cy="2590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dministrative Assista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slett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ri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sig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in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i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utpost reco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eparing flyers, announc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advTm="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1898640" cy="1425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Banquet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velops menu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termines co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tains the foo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ing arran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vide for kitchen staf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od ser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ean u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095880" y="2743200"/>
          <a:ext cx="16210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743200"/>
                    <a:ext cx="16210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Uniform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ut-grown uniform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ean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end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tches replac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iforms could be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d or given to other bo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3505320" cy="1737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ransportation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ponsible for arranging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ransportation &amp; driv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mp-ou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shing tr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/SA fun d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coration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corates for special ev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38680" y="3124080"/>
            <a:ext cx="2492640" cy="2170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und raising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ponsible for coordinating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fund raising effor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nacks after chu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ndy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hristmas cards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lendar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r wash, paper colle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advTm="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ctivities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ponsors at special ev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B/SA fun day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rip to the zoo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Bunk in or lock in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Gym nigh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Camp-ou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ishing Trip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inewood derb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pecial Needs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orks one-on-one with boys who have special need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nguage barrie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ttention deficit disorder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hysical disabilitie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ny other disabilities that would keep the boy from advancing to the GM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dditional are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raf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v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pecial ceremon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resh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opt-a-Ranger pro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Do’s &amp; Don'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o’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et a commit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gular meeting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ordinate with comman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cognize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ken of apprec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on’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sign commanders duties to the P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verload committe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vide rigid deta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sign too many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752840" cy="1920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Royal Rangers commander is faced with not having enough time to oversee or administer all of the tasks required in the operation of a highly successful outpost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Recognition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cognition encourages others to get involv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laqu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low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ift certific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pecial recognition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 front of the chu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tor particip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hat is the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How do I organized i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ggested assignme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ggested Committe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o’s and Don’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Many churches have a wealth of resour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ndpar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gnificant oth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 boy’s potential can be fully developed with the help of the famil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t Pastor’s approval before starting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3276720" cy="1541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9920" y="3352680"/>
            <a:ext cx="274320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Royal Rangers ministry affects not only the boy but also his famil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arents want their children to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chieve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dvan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be recogniz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arents want to be part of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ir children’s lives, if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only they were ask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819160" cy="1387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PCA is a group of parents,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uardians, grandparents or other family members who are willing to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tim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tal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love to bo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e in a limited manne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be a resource for the local outpo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971800" cy="1859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CA Organizational Meeting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dentify the areas you need help i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t Pastor’s approval for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nnounce the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vite parent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vite family member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tart meeting on ti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ell planned organized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tay within the time allotted for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895480" cy="2210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CA Organizational Meeting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isplay a list of task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verhead project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lip cha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halk bo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oster boa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andou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ther visual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o not assign commanders’ responsibilities to the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09680" cy="1814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CA Coordinator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ordinates the activities of the committe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ducts monthly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or quarterly meeting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be part of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r. Commander provides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formation on scheduled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182556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Vice Coordinator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ssist the Coordinator in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rying out his/her du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es as support to the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oyal Rangers Ministr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also be involved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17:59:07Z</dcterms:created>
  <dc:creator>Marvin Lemke</dc:creator>
  <dc:description/>
  <dc:language>en-US</dc:language>
  <cp:lastModifiedBy>Jonathan Trower</cp:lastModifiedBy>
  <cp:lastPrinted>1998-02-18T19:31:02Z</cp:lastPrinted>
  <dcterms:modified xsi:type="dcterms:W3CDTF">1999-07-23T20:05:04Z</dcterms:modified>
  <cp:revision>60</cp:revision>
  <dc:subject/>
  <dc:title>Royal Rangers</dc:title>
</cp:coreProperties>
</file>