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3.png" ContentType="image/png"/>
  <Override PartName="/ppt/media/image22.png" ContentType="image/png"/>
  <Override PartName="/ppt/media/image26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056-06ED-472D-8950-0C9093F6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979-B2AF-41C4-9AAD-76667CF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AF3-B0D1-4C82-B30E-C49DB88B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407-4F44-4193-9948-6F3AA19C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E7D8-5C69-4064-903F-B062D28A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12B1-D81F-4EF8-A1DB-C5D7ED7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84BB-5237-42D2-AB3A-D2E7C834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EE06-74D0-40A4-AABA-DAA6131C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81C8-4136-472D-A8CC-539A66CE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141E-2A07-4E2A-9792-5B1AA1B0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B1E3-9E34-4C76-8ED3-428DE26D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296-1A0C-43DC-8722-190A9467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8B81-4509-40A8-A127-1E68080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95A5-65FE-4EDC-A1EC-887D422F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6C3-751E-4EE5-B859-5242878C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0988-1840-4D07-9BB1-A066EC9A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273D-0676-4109-87A2-9FA03049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212-9BC9-4FAB-8096-7209F1A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9E5-49E6-4698-BE20-FC8741D3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E15-BC98-47AA-9298-F612FE8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054-3340-44E0-BBFF-0A6FAC60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816-B39C-4F79-852F-FD7B736E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3DC-7D4F-4AC5-9644-64C689C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5FE-3398-4738-A707-AE129358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DBF2-BA79-4285-BF9D-9F85689B3EF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05E2-CCBC-487E-A6B8-42BC2DD7EE8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Leadership Training Course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(NIV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3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all have sinned and fall short of the glory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6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e wages of sin is death, but the gift of God is eternal life in Christ Jesus our Lor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hn 1: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t to all who received him, to those who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in his name,  he gave the right to become children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John 1: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we confess our sins, he is faithful and just and will forgive us our sins and purify us from all unrighteousness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lation 3:2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 am! I stand at the door and knock. If anyone hears my voice and opens the door, I will go in and eat with him, and he with me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t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ferably one-on-one, away from the rest of the group and sitting close enough to share your B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boy’s name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ak in a relaxing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l voi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548400" y="3886200"/>
          <a:ext cx="2595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8400" y="3886200"/>
                    <a:ext cx="2595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ig question / eliminating oppos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ants to go to heaven when he dies and make sure he understands that just believing in Jesus is not en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’s infallibl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 with the boy that the Bible is error-free and thank God for giving us his wor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f sinned (Romans 3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717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 is death (first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ing the Giver (second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ing the gift (John 1:1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ession of sins (1 John 1:9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ing the door (Revelation 3:20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vitation &amp; sinners pr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ould like to ask Jesus into his heart and pray the sinners prayer with hi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-che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iew with the boy and quiz him on what he has do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ing the Gi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ain how to pr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Bible rea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witnessing (telling othe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church and Sunday school attend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 gra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t time aside for studying and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24680" y="4952880"/>
            <a:ext cx="104328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ltc" descr=""/>
          <p:cNvPicPr/>
          <p:nvPr/>
        </p:nvPicPr>
        <p:blipFill>
          <a:blip r:embed="rId3"/>
          <a:stretch/>
        </p:blipFill>
        <p:spPr>
          <a:xfrm>
            <a:off x="7391520" y="1981080"/>
            <a:ext cx="1162080" cy="17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4T16:47:35Z</dcterms:modified>
  <cp:revision>14</cp:revision>
  <dc:subject/>
  <dc:title>No Slide Title</dc:title>
</cp:coreProperties>
</file>