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1B43-968B-4AF1-BBE0-DBA09A80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F0CF-9EFB-406A-BAE0-1A91D945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CC73-E42E-481E-9FD2-D1BEC425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4A4E-45CD-4C5E-A644-C7B9978C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3B6E-506D-4362-8A52-40860C95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3C05-5E3A-4C44-AFD5-5356490C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046-D9D3-42B5-BAC5-FC58917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9AD-E217-47F9-ABC8-CA10142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B6F6-BFCC-4162-85BE-A27F0D26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367E-E91E-421D-B09F-44D51499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4D2E-DCFE-4829-B684-BCDF6AA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2C22-B514-45B6-B505-47CE61E3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ED87-F611-4E32-BE03-C94953F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AF69-B5D3-41A5-9173-B5B27198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0031-8B9F-4468-BA58-037DD474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3CA-DE21-4F06-B023-8EB5DA4F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A469-E862-4EDA-8AB5-06CAF3EC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4295-BAD2-44B4-9D32-124556C9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9C8B-EA2C-42B1-A1FF-28966B27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B2F2-5403-47C7-8FD1-F96ECE3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BF6E-2719-436A-B24F-42F24B3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E19C-B7CE-47DA-AE81-4CDDBDF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795C-A15B-47E5-BB41-26F6829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8C73-C58E-4BFC-BAF1-804A5B4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Training Camp or BS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934320" y="2819520"/>
            <a:ext cx="846000" cy="1703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848720" y="2819520"/>
            <a:ext cx="846000" cy="1703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Jonathan Trower</cp:lastModifiedBy>
  <dcterms:modified xsi:type="dcterms:W3CDTF">1999-07-24T17:00:44Z</dcterms:modified>
  <cp:revision>11</cp:revision>
  <dc:subject/>
  <dc:title>Royal Rangers Leadership Training Course  Section V: Teaching and Communication</dc:title>
</cp:coreProperties>
</file>