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8834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463-92D1-4214-8437-0C546975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1EC-A153-4A9D-9CB7-60F22C97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277-D62C-4848-816C-1D9712C7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BEF-89F4-4BED-88A6-A9F8215A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8989-05A5-490D-A49E-DB8AF76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E91-404A-4CFC-99F9-2DE0919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5CE5-7EAF-43A5-9F66-E13D7FD7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C10-7A41-4AB0-96AE-7822315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056F-A9E2-4A88-BBF6-4B8BC140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4495-3503-4888-AE64-A4A7B79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950-CF13-44E6-8DF0-5440E9F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397-9FCA-4636-BB48-B5A1A0E7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99E3-65AE-4233-AC0D-B92DA439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1954-3571-4B23-B61B-195AB1E0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1465-8E2A-4D43-8D94-08CB3C08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F03F-A959-47C1-83C5-6840BBDF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F497-3DB9-41EA-A43E-9B7FA965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2B0-9146-4A23-8251-E5CC055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6C6-07A6-4ACE-8672-E9752CE2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FCA-0113-45CE-87FF-ADBD374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B24-180F-41F7-9388-B03CAA61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903-07A5-4C0E-9052-9879BC5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57B-D9AA-4E9E-882D-F3957B7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199-6FF2-4697-9EDC-AAA5F72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955-4F42-4E0B-B65A-2A56AFAF16F1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2D4-7C0D-4698-8E46-9D581FFE4DE3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URBAN COMMANDERS TRAINING 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population growing 5 times faster then the total popul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 is considered the second largest “Mexican City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 Census 22.4 million Hispanic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increased to 30 mill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n-Pacific Islander increased to 2.8 million (40% increase)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yal Rangers ministry can successfully communicate an interest with this growing popul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we must stop stereotyping peop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we must recognize and learn both the differences and similarities of different cultur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s love their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come from different countries, with different experiences, for different reasons, with different expectations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diversity, there are two strong unifying forc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lturation proces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-Americans love their culture and their historic roo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ies must be respected and underst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respond more rapidly to African- American leadership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uned to verbal and nonverbal cu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e of voic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wor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must learn about each boy’s cultural background, whether African-American, Hispanic, Asian, etc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alize that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us is uniqu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ulture is unique 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n we can beg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dge the cult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3741840" cy="167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Improving Intercultural Ministry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representation at all levels of Royal Ranger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n areas of concer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: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, gangs,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national training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working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2590920" cy="3009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Royal Rang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istinctly different from the rural or sub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ideas, values, dispo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l outlook on lif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haped by his environmen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, know yo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, how they li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think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beha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207648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Attitudes Inner-City/Rural Boys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 wit and short temp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one moment &amp; fighting mad the nex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ut on the tough-guy exterio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-hard look is a form of  protec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nvironment labels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meek as weak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215100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657600" y="3657240"/>
            <a:ext cx="2286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2827440" cy="316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10080" y="3389400"/>
            <a:ext cx="2387880" cy="346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card to inner-city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ng to be out-of-doo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s them to another life sty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growth - new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ol system- teamwor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friendshi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pe from the concrete jung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213660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ministry that provides evangelism, Christian adult male role models, rewards to build self-esteem, and disciplin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6280" y="2286000"/>
            <a:ext cx="23814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ion and good male role mod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&amp; understand the c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enuine burden for 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8534520" cy="213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Peer Pressure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react to peer press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negative press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positive - through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ful Royal Rang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5322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Arial"/>
              </a:rPr>
              <a:t>Financing Urban Royal Rangers</a:t>
            </a:r>
            <a:endParaRPr b="0" lang="en-US" sz="42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churches in suburban/rural area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rovide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-a-Ranger”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ss boys in Royal Rangers t-shi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oys wear award ves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217960" cy="244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rdened heart, a commitment to ministry and a calling from God are what every urban commander needs to succeed as a Royal Rangers lead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ministry tool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ach urban boys no 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an offer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sel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th God’s anoint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10280" y="3962520"/>
            <a:ext cx="1731960" cy="2895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the last section of the book (past page 67) and read and complete pages 3 through 7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3854520"/>
            <a:ext cx="2525760" cy="2766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312444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tion 4 </a:t>
            </a:r>
            <a:br>
              <a:rPr sz="3200"/>
            </a:b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Applying the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Royal Range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2" name="RR-EMBLC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288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ree-fold approach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an urban area for 3-4 month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 Ministry 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 children into a structure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rch setting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need to designate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day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involvement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 families in RR event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68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3809880"/>
            <a:ext cx="183816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Geographic Considera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ment - camping, spo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p-out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hievement badg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ment trai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“values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vocational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4343400" cy="2865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bcbcb"/>
                </a:solidFill>
                <a:latin typeface="Arial"/>
              </a:rPr>
              <a:t>Applying the Royal Rangers Ministry</a:t>
            </a:r>
            <a:endParaRPr b="0" lang="en-US" sz="37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6858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page eight in the bac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of your book,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&amp; complete pages 8-10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458720" cy="358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342864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ngelism Beyond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urch Wa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214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6252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evangelistic tool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 applied cor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n be used to reach a multitude of urban boys for Christ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357280"/>
            <a:ext cx="3048120" cy="268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object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 boys in the neighborho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found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into a church sett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boys to the Royal Rangers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e into the Kingdom of G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71612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fold approa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to reach bo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 they l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place th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l chur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h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ir paren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332080" cy="3011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- gang members need more love, hand shakes, &amp; Christian influe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a place yo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eet regular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activ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ill attract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172120" y="3352680"/>
            <a:ext cx="3209760" cy="283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astor’s approva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yer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back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pow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building to meet i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438280" cy="205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mmander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go the second mil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for meeting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rea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3504960" cy="225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the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ut flyers about program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 front with the boys -don’t make them participate in prayer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yourself well-know in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home visits - this is the key to succes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160360" cy="2667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39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ul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boys with the gospel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into the church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rough with your pl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tart something you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lan to continue or cannot continu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81764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324240" y="2081160"/>
          <a:ext cx="216216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4240" y="2081160"/>
                    <a:ext cx="2162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uggested Activit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- favorite spor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chievement badg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about camp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features (interesting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eship (Insight Group curriculum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boys in what they know (rap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Young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5257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, gang activity, drug abuse, illiteracy, teenage pregnancy, AIDS, pornography, single-parent homes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60172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ndi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kids do not live in the city; they “survive“ in the cit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come emotional callouse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love on the mean streets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ets are hard and so are the ki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kids bec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cent victims of cri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22096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 Problem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/growing in Christian fai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negative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and kee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e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and drug abus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lf-wor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th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2514600" cy="19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is quickly becoming a multicultural society. If the current conditions continue until the 21 century. The United States will beco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tion with n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al or ethn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429000" cy="2641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ys have the same needs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lov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lo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ccept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ec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1852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interest in churc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ive or dysfunctional famili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hopelessness about the fu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ng to people of other ethnic backgrou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mun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aring adul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92760" y="4114800"/>
            <a:ext cx="14605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01:01:02Z</dcterms:created>
  <dc:creator>Marvin Lemke</dc:creator>
  <dc:description/>
  <dc:language>en-US</dc:language>
  <cp:lastModifiedBy>Jonathan Trower</cp:lastModifiedBy>
  <cp:lastPrinted>1997-10-12T10:49:28Z</cp:lastPrinted>
  <dcterms:modified xsi:type="dcterms:W3CDTF">1999-07-23T21:04:51Z</dcterms:modified>
  <cp:revision>15</cp:revision>
  <dc:subject/>
  <dc:title>  </dc:title>
</cp:coreProperties>
</file>