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1F1E-F2E6-487F-80E6-9F7E621C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16EC-FF64-4410-A28F-2E9E680E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36B6-357E-4AF6-B9A5-5F0A2C7E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C18E-1E53-4EC9-AF06-57D3B572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58B2-CE1E-4560-82A1-AD341856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18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9D95-C04C-4C69-B32B-71BB2DCE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1241-3A81-4646-87B3-1E4F5E3F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E5B8-1BF6-4FEE-A084-AD90A330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4F5B-4743-4F7B-A3C6-BD822CF2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18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B3E0-C45C-4260-B31A-185AAC84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6DE6-5501-4C2B-925C-0AE140CA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18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C1EA-2C7A-4C0C-BBAD-D61958E7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F397-88B5-4FF5-A988-9FE680B4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4719-1A8F-4144-9C99-C985C21B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4F53-5814-46CA-89DB-00144D7D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185C-1868-4043-A466-8BB1AF39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1303-57F0-478D-AFB2-01D52CBF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78E-C8B0-49DC-AF59-F686F46A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1ED9-912F-4693-AE9C-6AD4E373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603F-DC37-4B95-B2AB-6ABF36E3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18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95A2-9866-4349-A6A3-99DD17B0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E689-B363-494F-95C8-99EA7928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5A9B-FC5B-49EE-B987-5FA5175E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E599-820A-481A-AB9C-568B5518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03b7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2718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003b7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210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2102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003b7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003b7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18e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18e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18e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18e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18e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951A-5E13-4C50-A302-27C211005C9F}" type="slidenum">
              <a:rPr b="0" lang="en-US" sz="1400" spc="-1" strike="noStrike">
                <a:solidFill>
                  <a:srgbClr val="2718e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03b7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8D6E-6D13-4DF2-ACD4-4D2A1A7FCC8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1003b7"/>
                </a:solidFill>
                <a:latin typeface="Times New Roman"/>
              </a:rPr>
              <a:t>URBAN </a:t>
            </a:r>
            <a:br>
              <a:rPr sz="4400"/>
            </a:br>
            <a:r>
              <a:rPr b="1" lang="en-US" sz="4400" spc="-1" strike="noStrike">
                <a:solidFill>
                  <a:srgbClr val="1003b7"/>
                </a:solidFill>
                <a:latin typeface="Times New Roman"/>
              </a:rPr>
              <a:t>COMMANDERS </a:t>
            </a:r>
            <a:br>
              <a:rPr sz="4400"/>
            </a:br>
            <a:r>
              <a:rPr b="1" lang="en-US" sz="4400" spc="-1" strike="noStrike">
                <a:solidFill>
                  <a:srgbClr val="1003b7"/>
                </a:solidFill>
                <a:latin typeface="Times New Roman"/>
              </a:rPr>
              <a:t>TRAINING</a:t>
            </a:r>
            <a:br>
              <a:rPr sz="4400"/>
            </a:br>
            <a:r>
              <a:rPr b="1" lang="en-US" sz="4400" spc="-1" strike="noStrike">
                <a:solidFill>
                  <a:srgbClr val="1003b7"/>
                </a:solidFill>
                <a:latin typeface="Times New Roman"/>
              </a:rPr>
              <a:t>GUID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Consequences for Breaking Rules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03b7"/>
                </a:solidFill>
                <a:latin typeface="Times New Roman"/>
              </a:rPr>
              <a:t>1st </a:t>
            </a: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-   Give a reminder of the rule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03b7"/>
                </a:solidFill>
                <a:latin typeface="Times New Roman"/>
              </a:rPr>
              <a:t>2nd</a:t>
            </a: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 - Apply discipline appropriate to the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          infraction, move the talker etc.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1003b7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 - Take a boy to the Sr. Commander,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          parents or guardian 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Be consistent and realistic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Always pray</a:t>
            </a:r>
            <a:br>
              <a:rPr sz="2800"/>
            </a:b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with your Ranger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72200" y="4038480"/>
            <a:ext cx="25131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Creating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a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Safe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Outpos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Screening of volunteer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Supervision of staff -- use the buddy system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Driving children to and from event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Overnight activities, field trip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Meeting with boys in your home or their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Meeting in secluded church rooms</a:t>
            </a:r>
            <a:br>
              <a:rPr sz="2800"/>
            </a:b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or rooms without window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Camping 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91320" y="4343400"/>
            <a:ext cx="2892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exual Abus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Children need to be touched in good way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handshake, shoulder hug, gentle pat on back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003b7"/>
                </a:solidFill>
                <a:uFillTx/>
                <a:latin typeface="Times New Roman"/>
              </a:rPr>
              <a:t>Unacceptable touching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sitting on lap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back rub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patting the buttock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kissing</a:t>
            </a:r>
            <a:br>
              <a:rPr sz="2800"/>
            </a:b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86400" y="3124080"/>
            <a:ext cx="268128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exual Abus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Touching offense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Fondling - oral, genital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Anal stimulation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Non-violent intercourse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Incest-rape and assault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257800" y="3352680"/>
            <a:ext cx="31654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exual Abus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03b7"/>
                </a:solidFill>
                <a:latin typeface="Times New Roman"/>
              </a:rPr>
              <a:t>Non-touching offense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Verbal stimulation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Obscene phone call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Indecent exposure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Peeping in windows or door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Allowing boy to witness</a:t>
            </a:r>
            <a:br>
              <a:rPr sz="2800"/>
            </a:b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adult relations   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410080" y="2967120"/>
            <a:ext cx="265608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Creating a Safe Outpos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Identification of children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Caring for abused/neglected children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Signs of abuse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Responding to disclosure 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of abuse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03b7"/>
                </a:solidFill>
                <a:latin typeface="Times New Roman"/>
              </a:rPr>
              <a:t>report it to your Pastor first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3048120"/>
            <a:ext cx="21016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Creating a Safe Outpos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Go to the back section 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of the book, read 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and complete pages 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15 and 16. 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301464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Methods To Motivate Boy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Recognition- in front of peer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Prizes - external &amp; internal motivation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Responsibility -age &amp; abilitie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Involvement / Participation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Trust children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257800" y="3200400"/>
            <a:ext cx="28306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Methods To Motivate Boy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Challenge them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Have faith in kid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Compliments (honest)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Unusual happenings - variety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Peer pressure (positive)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Competition  (friendly)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A secure meeting place 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257800" y="4114800"/>
            <a:ext cx="297180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Methods To Motivate Boy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Love - unconditional agape love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Acceptance - unconditional 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Praise - honest praise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Encouragement 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boys desire &amp; need it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Hugs - good touche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do not invade boys’ space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943600" y="3200400"/>
            <a:ext cx="215100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ips For Motivating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Look for creative ways to discipline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quiet seat, time out, whistle, worship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Motivate boys to want to be in your program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exciting program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variety of activitie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38680" y="3429000"/>
            <a:ext cx="26496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ips For Motivating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4 D’s that are blind spot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Distraction - an outside force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Disinterest - something you control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Discomfort - irritant that distract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Disturbance - a true annoyance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581280" y="4267080"/>
            <a:ext cx="441972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ips For Motivating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Discipline includes instruction, correction,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and encouragement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Your objective </a:t>
            </a:r>
            <a:r>
              <a:rPr b="1" lang="en-US" sz="3200" spc="-1" strike="noStrike" u="sng">
                <a:solidFill>
                  <a:srgbClr val="1003b7"/>
                </a:solidFill>
                <a:uFillTx/>
                <a:latin typeface="Times New Roman"/>
              </a:rPr>
              <a:t>is not to teach a lesson,</a:t>
            </a: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but to teach Royal Ranger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Set guidelines to help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boys maintain self-control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791320" y="3505320"/>
            <a:ext cx="20365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Discipline for Safe Activiti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Boys misbehave when they are: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Bored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Frightened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Need attention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Have trouble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with self-control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29200" y="2895480"/>
            <a:ext cx="289548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ample Rules for Ranger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Listen when the instructor is talking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No chewing gum or candy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Keep your hands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to yourself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724280" y="3200400"/>
            <a:ext cx="280044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0T22:17:12Z</dcterms:created>
  <dc:creator>Marvin Lemke</dc:creator>
  <dc:description/>
  <dc:language>en-US</dc:language>
  <cp:lastModifiedBy>Jonathan Trower</cp:lastModifiedBy>
  <dcterms:modified xsi:type="dcterms:W3CDTF">1999-07-23T21:12:51Z</dcterms:modified>
  <cp:revision>19</cp:revision>
  <dc:subject/>
  <dc:title>Methods To Motivate Boys</dc:title>
</cp:coreProperties>
</file>