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CF2-4C45-41CA-A2E5-B0947D3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652-73A2-4FAF-80B3-EBEF100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FF7-F2D7-4547-ABB6-8A79E8A7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509-F8F5-4E6F-8E5E-CE0B33E2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BF25-9968-4821-BDEC-22B817E5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490-6361-4451-8128-12E7BF8F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9C0F-7ABE-4CFE-8F2D-7062DDDD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FE7-8D91-4513-950F-0C5D74F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4ECF-F736-4F8C-A699-516A7A73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C0FF-919B-45ED-879C-3B873AA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015A-FB73-4D47-A763-C420443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DF3-8677-41AE-A8A8-D22FD22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DCF2-3AFD-4F77-9CDA-FC25ED10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2E7-8A0B-4E4A-BB37-6DF7292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C78-5BF4-493E-B7FB-0C246935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290-1732-4A1A-A27B-45AFFEBE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215-D7DB-4408-B3C0-D2E43063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D63-304F-4134-A4A4-5290748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520-4082-4BD3-95BC-50F1944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54E-2899-4DB0-851E-2E698DC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753-0B6F-4A3B-A2D8-3C9B91C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964-79C3-452B-9B39-C1EE9EE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8A4-0343-4ACD-92FD-633B620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19E-69D1-4A5A-BE4C-6DA7A7CA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27E-84E5-4C1B-A7B3-349943B35FA2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533520" y="-609480"/>
            <a:ext cx="9144000" cy="6858000"/>
            <a:chOff x="-533520" y="-60948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066680" y="-60948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533520" y="-60948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533520" y="-60948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BBA-00C3-46BD-B6AA-42CA45292DD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15424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live in the inner city, you know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o well the problems the boys face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ny young people are bound b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-controlling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as a leader will b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ced with dealing with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ese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9206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645840" cy="3421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seful Ter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Chemical dependenc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Abuse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Idolatr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Life-controlling problem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ything that has control ov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your life that’s displeasing to Go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rugs, pornography, work-a-holic, anger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ossiping, cursing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Home life breeds life-controlling problems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4592520"/>
            <a:ext cx="2020680" cy="2265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use drugs for two reasons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decide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cannot decide not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me environment effects decis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pted by pe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be co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 Escape Mechanism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emicals are dependabl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ways providing relief from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young people depend on th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umbs th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avoid the pa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rough use of chemic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 need to look for oth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ways to solve problem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29528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he Addiction Proces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periment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ser learns how to control emo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lated emotions-decreas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mful dependency/regular basi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feel norm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int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 -- turns into delu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lusion -- user thinks there is no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081160" cy="237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ristian 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ortant part of minist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 all Christian leaders a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ifted in this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unseling isn’t e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effective counseling skil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careful and prayerfu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743200" cy="2292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ribut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atanic involve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center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nforgiv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judi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friendli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ilure to recogniz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fferen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28744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ult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2895480" cy="1928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flict patter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ack of commit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mmunication fail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irrita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8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arting with the basic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anging the individu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deling good relationshi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aching conflict resolu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rifying goa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conciling differenc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5245200"/>
            <a:ext cx="1828800" cy="161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: be sympathetic, kind, lo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l. 5:22, Eph. 4:32, Col. 3:13, 14, 1 Pet. 3:8-4:8, I John 3:11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 not: be proud or arrog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om. 12:16, 1 Corth. 13:4, 2 Tim. 3:1, 2, 4, Jude 16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487600" cy="2293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solving Conflict(s)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pect both par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 both posi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courage open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cus on things that can be chang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eep conflict from escalat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mmarize frequentl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ditional mediation if necessa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ng Poor Interpersonal 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aily walk with Jesu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ayer and medit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vine li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moval of bitter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ing conflic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ffective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tion, avoidance or elimination of conflict-producing 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276720" cy="270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dely accep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equently tolera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lamorized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lev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vert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 was created by Go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volves sinful behavi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hinking- lus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alk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tricts freed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65276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Causes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imul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atmosphe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ual convenien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beral val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appropriate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ternal press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urios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controlled fant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ok at your own attitude &amp;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sten with sensitiv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amine the boy’s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sider your counseling go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with practical iss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boy find forgive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imulate sound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alert for the need for referr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68920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before Marriag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on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sex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ctual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Bible based princip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nest teach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good tas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realistic alternativ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hristian meaningful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97180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Violence 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ppears to be increas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isconcep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ask for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like to be mistreat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pe victims coul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vent the attack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611440" cy="202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 lifestyle, dress, forms of induction, codes vary from city to city and neighborhood to neighborhood. 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tact your local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uthorities fo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formation abou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s in your city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514600" cy="262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Violenc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ab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serve in pare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ulsive behavio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ow self-concep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xual inadequac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in contr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124440" cy="1992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use stag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act stag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hock &amp; disbelie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cess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perience no longer suppress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al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 no longer controll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ild Abuse Sympto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uly, fearful of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poorly groom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undernourish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explained injuries or sick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is withdrawn or depres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clings to adul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sinterested - unable to concentrat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ighly demanding, rigid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ackground and family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ress and significant los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help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sychological-cognitive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 and guil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38564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Effect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happiness and inefficienc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hysical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w self-esteem  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thdraw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destructive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ry temper outburs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57400" cy="182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ign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lk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lan for killing oneself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eeling of hope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uilt feelings-worth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cessive concerns about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endent &amp; dissatisfied at same ti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nowledge of methods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igns Of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suspect one of your Rangers is contemplating suicide, ensure that the boy’s parent(s) or guardian(s) are notified.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ify your past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743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and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ressed people are ofte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ssive, nonverbal, poorly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tivated, with what’s the use attitu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d the psychological and spiritual causes that produced the sympt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ng depres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rust in God, find suppor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to handle anger &amp; guil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coping techniqu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824120" cy="2666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9092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ad and complete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pages 19-2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04120" y="3048120"/>
            <a:ext cx="191592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ducation not import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boys involved than gir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y boys join ga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ighborhood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er pressur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end the neighborhoo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485720" cy="181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jump in - age 11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gangbanger - age 17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Varied hair &amp; dress styl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om dysfunctional famil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cohol &amp; drugs big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rive-by shooti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 respect for oth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on is the name of the ga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062440" cy="2362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traditions/history of gang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peak to the advocates in the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btain experience- talk to authori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ad book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tch video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come streetwise befo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begin communicating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 gang memb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63188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duction Proces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nt-a-b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gger with graffi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-in (rules &amp; purposes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ge 5-10 some age 11-1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itiation Ste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ive-by shootings, other crim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anking syst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imers, soldiers, gang lead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1444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mping Out of a Ga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ever tell a boy to jump ou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er him to author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 out needs to be well plann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style, hairstyle needs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oy remains in the ho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tivities need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volved in school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ther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475000"/>
            <a:ext cx="2590560" cy="2317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9051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o to the back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section of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e book, an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te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page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17 and 18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3:08:14Z</dcterms:created>
  <dc:creator>Marvin Lemke</dc:creator>
  <dc:description/>
  <dc:language>en-US</dc:language>
  <cp:lastModifiedBy>Jonathan Trower</cp:lastModifiedBy>
  <cp:lastPrinted>1997-11-10T20:03:36Z</cp:lastPrinted>
  <dcterms:modified xsi:type="dcterms:W3CDTF">1999-07-23T21:30:45Z</dcterms:modified>
  <cp:revision>51</cp:revision>
  <dc:subject/>
  <dc:title>Section 8 </dc:title>
</cp:coreProperties>
</file>