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460-A47C-4270-94B6-55D4CA8D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D48-5B8E-4C02-A3E0-FB6B706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7E7-EDA3-4739-900C-7C50FDAA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3FD-2A9B-4D0C-81CA-3BF1A86E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E62-5BBF-4124-8518-B49E4112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E5F5-A1E6-424C-8769-C301669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D8CF-C1E5-4BE2-AA6A-BA72E83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22EC-C7E4-49D1-9E72-44DB50C8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2BA5-294D-4575-B6DE-A6CD3CD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23CB-8540-4C3E-A9AE-B619FF3B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4F3A-9997-41E7-A682-2C091E7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720-AE47-4324-95AB-9100D2C5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E250-3804-4543-83A6-6AE8336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E824-C43C-4A1E-BB8F-34CC270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1F03-ECC2-4C2E-8124-7D775F3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F12F-166E-4233-9E92-9EF0419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D56-508F-4898-B69B-3F6570FD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D8E-F9A2-4AB9-A58A-AE1E617E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70F-C79C-41C3-8DF0-CF40AE5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281-B5CF-49B0-8D2C-1E790C43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AA2-29D9-4E6D-A0AB-0F1441A1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8A5-4502-48CA-A635-A4286209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BD9-218B-4145-A6DE-019C1CE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646-3A76-4EED-8356-D7330B3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C153-83C9-444A-AD30-42540FB6E8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6B9-E820-44D1-A667-882C73E71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URBAN COMMANDERS </a:t>
            </a:r>
            <a:br>
              <a:rPr sz="4000"/>
            </a:b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RAINING GUIDE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Section 10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aising Funds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nd The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dopt-an-Outpost Program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365120" cy="175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Goals of adopted outpos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pasto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ovide curriculum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oordinate with district commande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 key to developing a viable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outpost is training leaders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nd pasto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43676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boy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familie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stablishing Christian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trengthening the leaders</a:t>
            </a: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nabling them to lead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72200" y="3200400"/>
            <a:ext cx="228276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What an adopted church should receive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LTC training for pastor and 2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ree LTC materia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hartering for one yea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oyal Rangers post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utpost record 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Bible stud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Devotional hand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District 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pproval of District Superintenden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oordination of District Commander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Commander approves project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PR Coordinator promotes program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Training Coordinator trains the leade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llow the district procedures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ead and complete 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Pages 25 &amp; 26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3372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How can Area, Section &amp;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help!!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Urban Pow-Wow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ther Royal Rangers activit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Visit the urban outpo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ayer Task Force trip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een Challenge program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E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omplete pages 27-31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open book test.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02:59:00Z</dcterms:created>
  <dc:creator>Marvin Lemke</dc:creator>
  <dc:description/>
  <dc:language>en-US</dc:language>
  <cp:lastModifiedBy>Jonathan Trower</cp:lastModifiedBy>
  <dcterms:modified xsi:type="dcterms:W3CDTF">1999-07-23T22:06:21Z</dcterms:modified>
  <cp:revision>14</cp:revision>
  <dc:subject/>
  <dc:title>Section 10</dc:title>
</cp:coreProperties>
</file>