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7.wmf" ContentType="image/x-wmf"/>
  <Override PartName="/ppt/media/image12.wmf" ContentType="image/x-wmf"/>
  <Override PartName="/ppt/media/image31.wmf" ContentType="image/x-wmf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30.wmf" ContentType="image/x-wmf"/>
  <Override PartName="/ppt/media/image8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2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696-9292-4A37-90A9-6D89D7D8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B9EF-14D7-44C0-AE86-C8DD6C46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583-EFC6-4A66-93CE-D5124F53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50F-47BB-4EC5-94BB-01BD2503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18DC-A571-496D-9C42-FF14537C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F090-D3BE-4EAB-B27D-2DF5AC48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9CF4-0D1D-4B02-85BE-810E0313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BAD9-29B2-49EE-82BB-2861EED4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B178-E812-46AC-A2AE-FA63A171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ABAD-725B-4A6F-BC30-F8490F3B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E304-1BA8-49B8-B4E6-20A896F3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727-802B-4F09-B749-BEAF28BF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6B64-DB3D-4607-8A8B-F57D2EF6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E694-20F8-4AB3-AB38-9AA2B23A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FEA3-456D-43AF-BD4B-ACE6E606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7719-55F7-4F71-A6B3-5064FEE3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A3AC-58EF-4095-A2CD-FC8AD639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1AB6-3A1F-4912-AFDB-496E8DDE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09D-02F1-4DDC-905E-6EBD7021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706-85E7-4DC0-90A6-828257F9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A56-B221-40E8-B052-02090AC6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D3B-6E48-4FD6-B2D9-B0F39C4A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ACC4-BFCD-4335-933F-A6AE89B9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5000-0AFB-4D71-A214-1D47D8F9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39360" cy="6856560"/>
            <a:chOff x="0" y="0"/>
            <a:chExt cx="15393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880" y="3586320"/>
              <a:ext cx="618480" cy="183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23" y="7"/>
                  </a:moveTo>
                  <a:arcTo wR="10800" hR="10800" stAng="-5520000" swAng="1092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23" y="7"/>
                  </a:moveTo>
                  <a:arcTo wR="10800" hR="10800" stAng="-5520000" swAng="10920000"/>
                </a:path>
              </a:pathLst>
            </a:cu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2DAD-0966-4F5D-AFF5-699556F7297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0485000">
                  <a:off x="20552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55B5-4574-4012-AA98-3E1451F6AEB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rremblc" descr=""/>
          <p:cNvPicPr/>
          <p:nvPr/>
        </p:nvPicPr>
        <p:blipFill>
          <a:blip r:embed="rId3"/>
          <a:stretch/>
        </p:blipFill>
        <p:spPr>
          <a:xfrm>
            <a:off x="6019920" y="4800600"/>
            <a:ext cx="1985760" cy="1778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7.wmf"/><Relationship Id="rId11" Type="http://schemas.openxmlformats.org/officeDocument/2006/relationships/image" Target="../media/image28.png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ecff"/>
                </a:solidFill>
                <a:latin typeface="Times New Roman"/>
              </a:rPr>
              <a:t>Royal Rangers</a:t>
            </a:r>
            <a:br>
              <a:rPr sz="4200"/>
            </a:br>
            <a:r>
              <a:rPr b="0" lang="en-US" sz="4200" spc="-1" strike="noStrike">
                <a:solidFill>
                  <a:srgbClr val="ccecff"/>
                </a:solidFill>
                <a:latin typeface="Times New Roman"/>
              </a:rPr>
              <a:t>B/SA Leadership Training Course</a:t>
            </a:r>
            <a:endParaRPr b="0" lang="en-US" sz="4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tion II: Understanding and Counseling Bo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’s and Don’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’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very boy the opportunity to receive Jesus into his he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your breath sweet with gum, min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r Bible or New Testament ready to use at every meeting and ou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Don’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 to lead a boy to Christ unless you are a born-again Christi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tempt to lead a boy to Christ unless you have allowed the Holy Spirit to help you master god’s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ce, push, or pressure a boy into accepting Chr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more than one adult talking to the boy about Christ at one 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How to Lead a Boy to Chris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lan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alvation Step 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 loves us so much that he wants us to live with him in heaven (John 3:16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0" name="0235007" descr=""/>
          <p:cNvPicPr/>
          <p:nvPr/>
        </p:nvPicPr>
        <p:blipFill>
          <a:blip r:embed="rId1"/>
          <a:stretch/>
        </p:blipFill>
        <p:spPr>
          <a:xfrm>
            <a:off x="3154320" y="1709640"/>
            <a:ext cx="3475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all do wrong things. God’s word for wrong is sin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 will not let sin come and live with Him in heav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matter how how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rd we try, we can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be good enough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live with Go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437080" y="3581280"/>
            <a:ext cx="3706920" cy="2862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 said that wrong doers must be punish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esus never did anything wrong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esus took the blame for our wrong do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died on the cross as punishment for our wrong do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Jesus took the punishment for us. (Romans 6:23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371600" y="3733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we are really sorry for our wrong-doings and ask Jesus to forgive us, God will forgive us for our wrong doing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we truly mean this, we will be in God’s family (John 1:12; Revelation 3:20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7" name="RELIG093" descr=""/>
          <p:cNvPicPr/>
          <p:nvPr/>
        </p:nvPicPr>
        <p:blipFill>
          <a:blip r:embed="rId1"/>
          <a:stretch/>
        </p:blipFill>
        <p:spPr>
          <a:xfrm>
            <a:off x="3070080" y="304920"/>
            <a:ext cx="3002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I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alvation Prayer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3886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d, I know I have done bad things. I am sorry for the wrong that I did. Thank You for sending Jesus to take my punishment. I want Jesus’ punishment to count for me. Make me Your child. Amen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RAYHNDS" descr=""/>
          <p:cNvPicPr/>
          <p:nvPr/>
        </p:nvPicPr>
        <p:blipFill>
          <a:blip r:embed="rId1"/>
          <a:stretch/>
        </p:blipFill>
        <p:spPr>
          <a:xfrm>
            <a:off x="4010040" y="1600200"/>
            <a:ext cx="1631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II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Assurance of Salvat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view and quiz the boy on what he has  don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arify and assure him that God has done His par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ain that being a Christian is not a matter of feeling but the promise of God’s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te all assign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Studying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Applying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en book t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6 Bible Study Less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alvation Step IV</a:t>
            </a:r>
            <a:br>
              <a:rPr sz="4400"/>
            </a:b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Follow-Up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ain to the boy how to grow spiritual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ain how to talk to God in prayer             (John 16:23-27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the boy to read the Bible. Give him a New Testamen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the boy to tell others about Jesus by witnessing (Acts 1:8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the boy to attend Sunday school and church faithfully ( Hebrews 10:25)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905120" y="16002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Times New Roman"/>
              </a:rPr>
              <a:t>Time to practice!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2095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serv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e the b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isit him in his ho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courage Scripture memoriz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rture him spiritual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ild a personal relationship with hi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to know he is loved when he is good and naugh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derstand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ains sense of security when he knows he is underst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e of belong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feeling of belonging which gives him a sense of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nse of import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s to feel important to others to develop self-confid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aves adventure and fun with boys his own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portunity for develop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to discover talents &amp; skills for sense of achiev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jor Needs Of Boy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uid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ed rules and code of conduct which gives secur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ristian li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given the opportunity to accept Chri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-1828800" y="2209680"/>
          <a:ext cx="57070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2209680"/>
                    <a:ext cx="5707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ings to Consid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 clearly told your Rangers what is expected of them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you explained the reason for each rule of conduct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the rules of conduct just and necessar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 you expecting perfection?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858000" y="4648320"/>
            <a:ext cx="2057400" cy="1981080"/>
            <a:chOff x="6858000" y="4648320"/>
            <a:chExt cx="2057400" cy="198108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6858000" y="4648320"/>
              <a:ext cx="20574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200720" y="4916520"/>
              <a:ext cx="96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54e"/>
                  </a:solidFill>
                  <a:latin typeface="Jester"/>
                </a:rPr>
                <a:t>RUL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ection Outli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oul winning prepara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Soul winning do’s and don’t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How to lead a boy to Christ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eserva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The major needs of boy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ealing with problems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ersonal counseling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Child abuse preven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281160" indent="-28116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Drug abuse prevention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than 90% of bad conduct is caused by one of three thing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a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ecur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xie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1192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Unruly Bo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al with the boy personally. Do not humiliate him in front of the rest of the grou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the boy know you still like him, even though he has been unru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ppeal to the boy’s pride. Name some of his good qualit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Unruly Boy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the boy express himself. Listen, and try to understand what the boy is telling you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compare him with other boys. This could cause resentment and jealous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the use of threats or shame. These seldom solve any problem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firm when dealing with problems but be sure to show love and understanding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Stea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sure stealing is involved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 boys claim theft instead of admit los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make a big issue of theft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Quietly investigate and involve as few people as possib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ect the rights of boy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boy’s person and property should not be searched without eviden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Stea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accuse a boy of stealing without ironclad evidence. A false accusation can hurt him for years to com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guilt is established deal with the matter between you and the bo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turn the propert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y with the boy and encourage him to pray for forgivene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Ly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oys tell lies to get attention, to cover up failure, to get out of trouble, and to protect oth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ying should be exposed; boys must learn that truth pays and the consequence of a lie is worse than telling the truth initial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a boy is suspected of lying, gather the facts, and then confront the boy with the facts. Counsel the boy and pray with him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aling With Problem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he Problem of Vandalism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Malicious destruction of property is caused by a desire for thrills, thoughtlessness, a dare, or revenge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is cannot be tolerated among Royal Rangers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Prevention is better than cure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hasize respect for the property of others at meetings, hikes, camp-outs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If malicious destruction of property occurs, counsel with the boy(s), pray with him, and insure that the property is replaced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iscipli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n be defined as “the making of disciples.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iscipline involves the process of guidance, encouragement, correction, and lov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Disciplin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arries the message, “I love you,” whil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punishment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onveys the attitude of getting eve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7410600" y="1825560"/>
          <a:ext cx="1085760" cy="13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10600" y="1825560"/>
                    <a:ext cx="108576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comfort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ommander controll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ables and chairs the right siz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room temperature comfortab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 the room attractive and clean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the rooms suitable for your age group and activities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391520" y="2895480"/>
            <a:ext cx="1415880" cy="1413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trac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outside sourc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 distractions are uncontroll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ople noi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nvironmental distrac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inimize distractions with a better location or improved seating arrange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eaders Manual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 1998 Revised Ed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ckaroos Leaders Manu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ight Arrows Leaders Manu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ckaroos Handbo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43800" y="2438280"/>
            <a:ext cx="1042920" cy="1443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57800" y="5181480"/>
            <a:ext cx="1330200" cy="1092240"/>
          </a:xfrm>
          <a:prstGeom prst="rect">
            <a:avLst/>
          </a:prstGeom>
          <a:ln w="0">
            <a:noFill/>
          </a:ln>
        </p:spPr>
      </p:pic>
      <p:pic>
        <p:nvPicPr>
          <p:cNvPr id="117" name="bsaltc" descr=""/>
          <p:cNvPicPr/>
          <p:nvPr/>
        </p:nvPicPr>
        <p:blipFill>
          <a:blip r:embed="rId3"/>
          <a:stretch/>
        </p:blipFill>
        <p:spPr>
          <a:xfrm>
            <a:off x="7162920" y="4191120"/>
            <a:ext cx="173484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7520040" y="1673280"/>
          <a:ext cx="1131840" cy="10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0040" y="1673280"/>
                    <a:ext cx="11318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Boredom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poor instruc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thusiasm, planning, preparation, and good teaching methods are essential for making your class exci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ach to the comprehension of the age level of your boy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the element of play to teach your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reas Of Discipline Problems: Disturbanc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ually caused by the boy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ildren who continually disturb the class lack self-control and understanding and should be lovingly disciplined and guid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ersonal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a relaxed atmosph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the boy feel at ease with a pleasant greeting and sm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a good listen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good counselor will encourage the boy to express himsel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worry about periods of sil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 is most likely thinking or trying to put his feelings into wo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tch for nonverbal communic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look in his eyes, facial expressions,   posture, and gest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ver express sho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times a boy will test your reactions with a shocking statement before telling you his real probl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 not criticize or jud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boy probably realizes his mistake, he needs understand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teps Towards Effective Counsel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giving adv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 should try to help the boy discover for himself what to 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ntain confid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ver be guilty of sharing confidential information with oth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7845480" y="1687680"/>
            <a:ext cx="739800" cy="1868400"/>
            <a:chOff x="7845480" y="1687680"/>
            <a:chExt cx="739800" cy="1868400"/>
          </a:xfrm>
        </p:grpSpPr>
        <p:grpSp>
          <p:nvGrpSpPr>
            <p:cNvPr id="227" name=""/>
            <p:cNvGrpSpPr/>
            <p:nvPr/>
          </p:nvGrpSpPr>
          <p:grpSpPr>
            <a:xfrm>
              <a:off x="7845480" y="1687680"/>
              <a:ext cx="739800" cy="1868400"/>
              <a:chOff x="7845480" y="1687680"/>
              <a:chExt cx="739800" cy="1868400"/>
            </a:xfrm>
          </p:grpSpPr>
          <p:graphicFrame>
            <p:nvGraphicFramePr>
              <p:cNvPr id="228" name=""/>
              <p:cNvGraphicFramePr/>
              <p:nvPr/>
            </p:nvGraphicFramePr>
            <p:xfrm>
              <a:off x="7845480" y="1687680"/>
              <a:ext cx="739800" cy="1868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2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845480" y="1687680"/>
                        <a:ext cx="739800" cy="1868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30" name=""/>
              <p:cNvGrpSpPr/>
              <p:nvPr/>
            </p:nvGrpSpPr>
            <p:grpSpPr>
              <a:xfrm>
                <a:off x="7883640" y="2112840"/>
                <a:ext cx="114480" cy="71640"/>
                <a:chOff x="7883640" y="2112840"/>
                <a:chExt cx="114480" cy="7164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7889760" y="2112840"/>
                  <a:ext cx="100080" cy="66960"/>
                  <a:chOff x="7889760" y="2112840"/>
                  <a:chExt cx="100080" cy="66960"/>
                </a:xfrm>
              </p:grpSpPr>
              <p:graphicFrame>
                <p:nvGraphicFramePr>
                  <p:cNvPr id="232" name=""/>
                  <p:cNvGraphicFramePr/>
                  <p:nvPr/>
                </p:nvGraphicFramePr>
                <p:xfrm>
                  <a:off x="7889760" y="2112840"/>
                  <a:ext cx="100080" cy="66960"/>
                </p:xfrm>
                <a:graphic>
                  <a:graphicData uri="http://schemas.openxmlformats.org/presentationml/2006/ole">
                    <p:oleObj r:id="rId3" spid="">
                      <p:embed/>
                      <p:pic>
                        <p:nvPicPr>
                          <p:cNvPr id="233" name="" descr=""/>
                          <p:cNvPicPr/>
                          <p:nvPr/>
                        </p:nvPicPr>
                        <p:blipFill>
                          <a:blip r:embed="rId4"/>
                          <a:stretch/>
                        </p:blipFill>
                        <p:spPr>
                          <a:xfrm>
                            <a:off x="7889760" y="2112840"/>
                            <a:ext cx="100080" cy="66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7910640" y="2151000"/>
                    <a:ext cx="60120" cy="11160"/>
                    <a:chOff x="7910640" y="2151000"/>
                    <a:chExt cx="60120" cy="111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7958160" y="2151000"/>
                      <a:ext cx="1260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7910640" y="2151000"/>
                      <a:ext cx="1404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7934400" y="2151000"/>
                      <a:ext cx="11160" cy="11160"/>
                    </a:xfrm>
                    <a:prstGeom prst="rect">
                      <a:avLst/>
                    </a:prstGeom>
                    <a:solidFill>
                      <a:srgbClr val="063de8"/>
                    </a:solidFill>
                    <a:ln w="12600">
                      <a:solidFill>
                        <a:srgbClr val="063de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83640" y="2133720"/>
                  <a:ext cx="114480" cy="50760"/>
                  <a:chOff x="7883640" y="2133720"/>
                  <a:chExt cx="114480" cy="507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790560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0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88364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927920" y="2133720"/>
                    <a:ext cx="70200" cy="50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31680" rIns="31680" tIns="17640" bIns="1764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318960"/>
                        <a:tab algn="l" pos="638280"/>
                        <a:tab algn="l" pos="957240"/>
                        <a:tab algn="l" pos="1276200"/>
                        <a:tab algn="l" pos="1595520"/>
                        <a:tab algn="l" pos="1914480"/>
                        <a:tab algn="l" pos="2233440"/>
                        <a:tab algn="l" pos="2552760"/>
                        <a:tab algn="l" pos="2871720"/>
                        <a:tab algn="l" pos="3191040"/>
                        <a:tab algn="l" pos="3510000"/>
                        <a:tab algn="l" pos="3828960"/>
                        <a:tab algn="l" pos="4148280"/>
                        <a:tab algn="l" pos="4467240"/>
                        <a:tab algn="l" pos="4786200"/>
                        <a:tab algn="l" pos="5105520"/>
                        <a:tab algn="l" pos="5424480"/>
                        <a:tab algn="l" pos="5743440"/>
                        <a:tab algn="l" pos="6062760"/>
                        <a:tab algn="l" pos="6381720"/>
                      </a:tabLst>
                    </a:pPr>
                    <a:r>
                      <a:rPr b="1" lang="en-US" sz="100" spc="-1" strike="noStrike">
                        <a:solidFill>
                          <a:srgbClr val="fafd00"/>
                        </a:solidFill>
                        <a:latin typeface="Arial"/>
                      </a:rPr>
                      <a:t>6</a:t>
                    </a:r>
                    <a:endParaRPr b="0" lang="en-US" sz="1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7989840" y="2174760"/>
                <a:ext cx="217440" cy="50760"/>
                <a:chOff x="7989840" y="2174760"/>
                <a:chExt cx="217440" cy="50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8020080" y="2189160"/>
                  <a:ext cx="119160" cy="15840"/>
                </a:xfrm>
                <a:prstGeom prst="rect">
                  <a:avLst/>
                </a:prstGeom>
                <a:solidFill>
                  <a:srgbClr val="006699"/>
                </a:solidFill>
                <a:ln w="1260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989840" y="2174760"/>
                  <a:ext cx="2174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eaeaea"/>
                      </a:solidFill>
                      <a:latin typeface="Arial"/>
                    </a:rPr>
                    <a:t>ROYAL RANGERS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4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370720" y="2098800"/>
                <a:ext cx="57240" cy="5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6" name=""/>
              <p:cNvGrpSpPr/>
              <p:nvPr/>
            </p:nvGrpSpPr>
            <p:grpSpPr>
              <a:xfrm>
                <a:off x="8229600" y="2174760"/>
                <a:ext cx="201960" cy="65160"/>
                <a:chOff x="8229600" y="2174760"/>
                <a:chExt cx="201960" cy="65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253360" y="2187720"/>
                  <a:ext cx="106560" cy="19080"/>
                  <a:chOff x="8253360" y="2187720"/>
                  <a:chExt cx="106560" cy="190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8253360" y="2187720"/>
                    <a:ext cx="106560" cy="19080"/>
                  </a:xfrm>
                  <a:prstGeom prst="rect">
                    <a:avLst/>
                  </a:prstGeom>
                  <a:solidFill>
                    <a:srgbClr val="eaeaea"/>
                  </a:solidFill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8258040" y="2195640"/>
                    <a:ext cx="100080" cy="0"/>
                  </a:xfrm>
                  <a:prstGeom prst="line">
                    <a:avLst/>
                  </a:prstGeom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8307360" y="2189160"/>
                    <a:ext cx="0" cy="12600"/>
                  </a:xfrm>
                  <a:prstGeom prst="line">
                    <a:avLst/>
                  </a:prstGeom>
                  <a:ln w="12600">
                    <a:solidFill>
                      <a:srgbClr val="d8e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8229600" y="2174760"/>
                  <a:ext cx="15696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OORDINATOR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229600" y="2189160"/>
                  <a:ext cx="1584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ORGANIZATION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8292240" y="2174760"/>
                  <a:ext cx="12204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1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AMPING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8291160" y="2187720"/>
                  <a:ext cx="140400" cy="5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1680" rIns="31680" tIns="17640" bIns="176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18960"/>
                      <a:tab algn="l" pos="638280"/>
                      <a:tab algn="l" pos="957240"/>
                      <a:tab algn="l" pos="1276200"/>
                      <a:tab algn="l" pos="1595520"/>
                      <a:tab algn="l" pos="1914480"/>
                      <a:tab algn="l" pos="2233440"/>
                      <a:tab algn="l" pos="2552760"/>
                      <a:tab algn="l" pos="2871720"/>
                      <a:tab algn="l" pos="3191040"/>
                      <a:tab algn="l" pos="3510000"/>
                      <a:tab algn="l" pos="3828960"/>
                      <a:tab algn="l" pos="4148280"/>
                      <a:tab algn="l" pos="4467240"/>
                      <a:tab algn="l" pos="4786200"/>
                      <a:tab algn="l" pos="5105520"/>
                      <a:tab algn="l" pos="5424480"/>
                      <a:tab algn="l" pos="5743440"/>
                      <a:tab algn="l" pos="6062760"/>
                      <a:tab algn="l" pos="6381720"/>
                    </a:tabLst>
                  </a:pPr>
                  <a:r>
                    <a:rPr b="0" lang="en-US" sz="100" spc="-1" strike="noStrike">
                      <a:solidFill>
                        <a:srgbClr val="d8e000"/>
                      </a:solidFill>
                      <a:latin typeface="Arial"/>
                    </a:rPr>
                    <a:t>COUNSELOR</a:t>
                  </a:r>
                  <a:endParaRPr b="0" lang="en-US" sz="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5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294760" y="2135160"/>
                <a:ext cx="25200" cy="33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6" name=""/>
              <p:cNvGrpSpPr/>
              <p:nvPr/>
            </p:nvGrpSpPr>
            <p:grpSpPr>
              <a:xfrm>
                <a:off x="8247240" y="2212920"/>
                <a:ext cx="117360" cy="76320"/>
                <a:chOff x="8247240" y="2212920"/>
                <a:chExt cx="117360" cy="76320"/>
              </a:xfrm>
            </p:grpSpPr>
            <p:pic>
              <p:nvPicPr>
                <p:cNvPr id="25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288280" y="2212920"/>
                  <a:ext cx="3816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58" name=""/>
                <p:cNvGrpSpPr/>
                <p:nvPr/>
              </p:nvGrpSpPr>
              <p:grpSpPr>
                <a:xfrm>
                  <a:off x="8247240" y="2212920"/>
                  <a:ext cx="37800" cy="76320"/>
                  <a:chOff x="8247240" y="2212920"/>
                  <a:chExt cx="37800" cy="76320"/>
                </a:xfrm>
              </p:grpSpPr>
              <p:pic>
                <p:nvPicPr>
                  <p:cNvPr id="2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47240" y="2212920"/>
                    <a:ext cx="3780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aphicFrame>
                <p:nvGraphicFramePr>
                  <p:cNvPr id="260" name=""/>
                  <p:cNvGraphicFramePr/>
                  <p:nvPr/>
                </p:nvGraphicFramePr>
                <p:xfrm>
                  <a:off x="8255160" y="2260440"/>
                  <a:ext cx="21960" cy="16200"/>
                </p:xfrm>
                <a:graphic>
                  <a:graphicData uri="http://schemas.openxmlformats.org/presentationml/2006/ole">
                    <p:oleObj r:id="rId9" spid="">
                      <p:embed/>
                      <p:pic>
                        <p:nvPicPr>
                          <p:cNvPr id="261" name="" descr=""/>
                          <p:cNvPicPr/>
                          <p:nvPr/>
                        </p:nvPicPr>
                        <p:blipFill>
                          <a:blip r:embed="rId10"/>
                          <a:stretch/>
                        </p:blipFill>
                        <p:spPr>
                          <a:xfrm>
                            <a:off x="8255160" y="2260440"/>
                            <a:ext cx="21960" cy="162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  <p:pic>
              <p:nvPicPr>
                <p:cNvPr id="26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326440" y="2212920"/>
                  <a:ext cx="3816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63" name=""/>
            <p:cNvSpPr/>
            <p:nvPr/>
          </p:nvSpPr>
          <p:spPr>
            <a:xfrm flipV="1">
              <a:off x="8182080" y="2655720"/>
              <a:ext cx="14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8182080" y="2851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265" name=""/>
            <p:cNvGraphicFramePr/>
            <p:nvPr/>
          </p:nvGraphicFramePr>
          <p:xfrm>
            <a:off x="7989840" y="2451240"/>
            <a:ext cx="274680" cy="745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7989840" y="2451240"/>
                      <a:ext cx="274680" cy="7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eal Group Contro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ood commander-boy relationshi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ust be based on love and resp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remendous aid in good group contro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understanding of what is expec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ke it clear that you expect group co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fair but firm in your expect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eal Group Contro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lf-discipline on the part of each bo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llenge each boy to do his part to keep order b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eing attentiv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owing respec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eying his leade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a well-planned progr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ny group control problems are caused by boredom and lack of intere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ayerfully plan ahe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6350040" y="3971880"/>
          <a:ext cx="1652400" cy="22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040" y="3971880"/>
                    <a:ext cx="165240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A Good Group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iscussion Will Accomplish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 leader the ideal opportunity to emphasiz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racter trai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er attitud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ther ide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s the boys a chance to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und off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t in their “two cents worth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ducting A Group Discuss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 and outline your subject in adv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in mind the goals you want to accomplis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the group feel at ea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e a feeling of informality during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veryone a chance to tal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w out the shy boy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aggressive boys from monopolizing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ul Winning 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ducting A Group Discuss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courage good hum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let discussion get hea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ys views may diff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the discussion mo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k questions which relate to sub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on the sub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marize and restate purpose of discuss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reen your leader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view all applicants and first-year work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workers should fill out the “Application for Children/Youth Work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ify applicant’s ident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each reference/document each conta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ct the minister of each church the applicant has worked i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eep “application” and all records on file in secure/confidential pla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job descriptions for comman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parameters for each leader for which they are responsible and accounta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stablish procedures and policies on proper conduct of l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t procedures &amp; policies on corporal punishment, outpost discipline, dismissal action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ders must abide by these procedures &amp; polici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hild Abuse Prevention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uidelin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quire two adult lead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wo or more responsible adults should be present at all RR fun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rger activities may require more than two lead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void one-on-one activ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rug Abuse Preven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TC Section I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acts About Alcohol and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ther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ng people in grades 7-12 face more exposure to drugs than in earlier gra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nd more than commanders faced at that a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ug exposure can begin in elementary schoo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y are exposed to a wide variety of drugs, including tobacco, alcohol, marijuana, cocaine, and inhala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1474920" cy="111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228600" y="3048120"/>
          <a:ext cx="1447920" cy="33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048120"/>
                    <a:ext cx="1447920" cy="33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Every Ranger Should Know About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 identify the various dru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hort- and long-term effects of drugs, including addiction and dea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experimenting with drugs is using dru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addiction affects individuals and their famil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4114800" y="5257800"/>
          <a:ext cx="1550880" cy="12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257800"/>
                    <a:ext cx="155088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at Every Ranger Should Know About Drug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drug use is related to certain diseases such as AIDS, birth defects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combinations of drugs can be fa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the effects of drugs vary from person to per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steroid use can damage the body and mi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gns of Drug Us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session of drugs or drug paraphernal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ication with drug culture through clothing, jokes, or convers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gns of physical deterio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ramatic changes in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hool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s in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62720" y="4114800"/>
          <a:ext cx="335124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114800"/>
                    <a:ext cx="335124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When is a boy old enough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become a Christian?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343400" y="2057400"/>
          <a:ext cx="165276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057400"/>
                    <a:ext cx="16527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5280" y="4038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N HE IS READY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cere questions about the death of Chr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ngering near after devotion, Bible study, prayer, et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ge in behav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onse to a particular less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intellectual comprehension of the salvation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oncern and conviction of s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96080" y="3124080"/>
          <a:ext cx="14479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3124080"/>
                    <a:ext cx="14479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gns Of Readiness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o Become A Christia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boys must be born aga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God wants them all to be born again       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the Holy Spirit will convict and convert sinn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lieve you were commissioned to spread the W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8001000" y="2819520"/>
            <a:ext cx="837720" cy="847080"/>
            <a:chOff x="8001000" y="2819520"/>
            <a:chExt cx="837720" cy="8470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001000" y="2819520"/>
              <a:ext cx="837720" cy="84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170920" y="3064680"/>
              <a:ext cx="87480" cy="651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79200" y="3034440"/>
              <a:ext cx="128880" cy="691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28880" y="3147480"/>
              <a:ext cx="40680" cy="54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49320" y="3121200"/>
              <a:ext cx="91800" cy="38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eparation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y each day for guidance of the Holy Spir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morize soul winning script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k scripture verses in your Bi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actice, practice, practi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391520" y="4724280"/>
          <a:ext cx="134280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724280"/>
                    <a:ext cx="13428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6T00:53:28Z</dcterms:created>
  <dc:creator>Jonathan Trower</dc:creator>
  <dc:description/>
  <dc:language>en-US</dc:language>
  <cp:lastModifiedBy>Jonathan Trower</cp:lastModifiedBy>
  <dcterms:modified xsi:type="dcterms:W3CDTF">1999-07-26T17:05:31Z</dcterms:modified>
  <cp:revision>19</cp:revision>
  <dc:subject/>
  <dc:title>No Slide Title</dc:title>
</cp:coreProperties>
</file>