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983413" cy="12023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84000" cy="120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302724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7480" y="-1800"/>
            <a:ext cx="3027600" cy="601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11420640"/>
            <a:ext cx="302724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57480" y="11420640"/>
            <a:ext cx="3027600" cy="604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BD2D-0A80-4335-A4D5-249E329688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492120" y="902880"/>
            <a:ext cx="6006960" cy="450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move the slide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of the later LTC courses put out by Nat’l off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 teaching this course so the outpost councilmen knows what their roll is in the Royal Ranger progr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rse is usually an 6-8 hour cou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ensed to 4 h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Teaching concept  will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 -- each should have a book and out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. notes on the outline sheets su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ill be taken up and graded at end of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writing and filling in the bl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s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ompletion of  the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rtificates will be given upon comple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 and Answers are wel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not chase rabbits with ideas or answ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questions requiring more detail answers will have to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l break time or after class in order to save tim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31680" y="5708520"/>
            <a:ext cx="5121000" cy="54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every one to two years to bring leaders in and reevaluate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492120" y="903240"/>
            <a:ext cx="6006960" cy="4505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9CD-F6E1-4742-B59F-17C3AF67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9B2E-A662-43B3-B81F-49AF4B8A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FEFE-F694-4616-840D-33EDEB4E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B16-FD84-4F3B-821C-B717F8B6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132-33F4-4048-81DB-75CB28FE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542-EFC8-44F2-9075-EA6C6357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1DB-F302-4411-987B-253A54C4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F76-FCD7-49AA-AEC7-209AA9AF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73C-1D6D-42B2-AB1E-9E14DCF8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C2E-B6A9-4923-8C08-2F936273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72B-209A-4BBA-922B-E9410729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F66-FBC9-4942-9454-4B44650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25C1-2731-404F-8C4A-9100D2DEF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31480" indent="-226080">
              <a:spcBef>
                <a:spcPts val="799"/>
              </a:spcBef>
              <a:buClr>
                <a:srgbClr val="23232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299880"/>
            <a:ext cx="1304640" cy="1148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Outpost Councilmen</a:t>
            </a:r>
            <a:br>
              <a:rPr sz="48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Leadership Training Course</a:t>
            </a:r>
            <a:br>
              <a:rPr sz="4800"/>
            </a:br>
            <a:r>
              <a:rPr b="0" i="1" lang="en-US" sz="1600" spc="-1" strike="noStrike">
                <a:solidFill>
                  <a:srgbClr val="114ffb"/>
                </a:solidFill>
                <a:latin typeface="Book Antiqua"/>
              </a:rPr>
              <a:t> </a:t>
            </a:r>
            <a:br>
              <a:rPr sz="1600"/>
            </a:br>
            <a:r>
              <a:rPr b="0" i="1" lang="en-US" sz="4800" spc="-1" strike="noStrike">
                <a:solidFill>
                  <a:srgbClr val="114ffb"/>
                </a:solidFill>
                <a:latin typeface="Book Antiqua"/>
              </a:rPr>
              <a:t> Session 1</a:t>
            </a:r>
            <a:endParaRPr b="0" i="1" lang="en-US" sz="4800" spc="-1" strike="noStrike">
              <a:solidFill>
                <a:srgbClr val="114ffb"/>
              </a:solidFill>
              <a:latin typeface="Book Antiqua"/>
            </a:endParaRPr>
          </a:p>
        </p:txBody>
      </p:sp>
    </p:spTree>
  </p:cSld>
  <mc:AlternateContent>
    <mc:Choice Requires="p14">
      <p:transition spd="slow" advTm="7000" p14:dur="2000"/>
    </mc:Choice>
    <mc:Fallback>
      <p:transition spd="slow" advTm="7000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Philosophy of a Successful Outpost Council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ord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legation of responsibility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mprovisation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300" spc="-1" strike="noStrike">
                <a:solidFill>
                  <a:srgbClr val="114ffb"/>
                </a:solidFill>
                <a:latin typeface="Book Antiqua"/>
              </a:rPr>
              <a:t>How Much Time Will It Take?</a:t>
            </a:r>
            <a:endParaRPr b="0" i="1" lang="en-US" sz="43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 much time as a man is willing to give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ve positio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require various amount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n a monthly basi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Can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ny man in church who has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ove for boys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o is willing to devot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time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ffort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necessary to fulfill the duties of a council member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dedicated Christia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and able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lead 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ior experience with Royal Ranger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helpful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but not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requirement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en Should It Be Formed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deally, in place before an outpos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organiz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ne should be organized to begin providing the vital support from this group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men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600"/>
            </a:br>
            <a:r>
              <a:rPr b="0" i="1" lang="en-US" sz="4200" spc="-1" strike="noStrike">
                <a:solidFill>
                  <a:srgbClr val="114ffb"/>
                </a:solidFill>
                <a:latin typeface="Book Antiqua"/>
              </a:rPr>
              <a:t>How Should They Be Selected?</a:t>
            </a:r>
            <a:endParaRPr b="0" i="1" lang="en-US" sz="4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are two possible methods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appoin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by the church boar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y may b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 Antiqua"/>
              </a:rPr>
              <a:t>elected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from the ranks of the local men’s group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o Else Should Serve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pasto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should </a:t>
            </a:r>
            <a:r>
              <a:rPr b="0" i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always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en if not in one of the five leadership position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all business conducted by the council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35880" indent="-335880">
              <a:spcBef>
                <a:spcPts val="774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e </a:t>
            </a:r>
            <a:r>
              <a:rPr b="1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senior commander 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hould also be a </a:t>
            </a:r>
            <a:r>
              <a:rPr b="0" lang="en-US" sz="3100" spc="-1" strike="noStrike" u="sng">
                <a:solidFill>
                  <a:srgbClr val="000000"/>
                </a:solidFill>
                <a:uFillTx/>
                <a:latin typeface="Book Antiqua"/>
              </a:rPr>
              <a:t>member of the council</a:t>
            </a: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27920" indent="-28008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e given a vote in the council meeting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lect commander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each age group and arrange for training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elec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ime and plac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the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gather the materials necessary for the weekly meeting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32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br>
              <a:rPr sz="4400"/>
            </a:b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come familia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th the Royal Rangers Ministry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Recruit, interview &amp; screen </a:t>
            </a: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all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taff position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velop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olicies and procedur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ure adequ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meeting pla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or all ag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ur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financ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re available.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buClr>
                <a:srgbClr val="114ffb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aintain stock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ooks, uniforms and award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ublicize and promote Royal Rangers programs and event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Plan and execute Councils of Achievement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The Outpost Council</a:t>
            </a:r>
            <a:br>
              <a:rPr sz="2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What Are Its First Duties? </a:t>
            </a:r>
            <a:r>
              <a:rPr b="0" i="1" lang="en-US" sz="2400" spc="-1" strike="noStrike">
                <a:solidFill>
                  <a:srgbClr val="114ffb"/>
                </a:solidFill>
                <a:latin typeface="Book Antiqua"/>
              </a:rPr>
              <a:t>(cont’d)</a:t>
            </a:r>
            <a:endParaRPr b="0" i="1" lang="en-US" sz="2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ssist in the weekly meetings as need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eet regularly to transact business and execute responsibilities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05280" indent="-3052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ppoint the leadership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anders and Lt. Command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ruit Royal Rangers staf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stablish standards and goal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660960" indent="-254160">
              <a:spcBef>
                <a:spcPts val="700"/>
              </a:spcBef>
              <a:buClr>
                <a:srgbClr val="333333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llow for growth and developmen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4070520"/>
            <a:ext cx="768816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Outpost Council </a:t>
            </a:r>
            <a:r>
              <a:rPr b="0" i="1" lang="en-US" sz="4000" spc="-1" strike="noStrike">
                <a:solidFill>
                  <a:srgbClr val="114ffb"/>
                </a:solidFill>
                <a:latin typeface="Book Antiqua"/>
              </a:rPr>
              <a:t>Positions</a:t>
            </a:r>
            <a:endParaRPr b="0" i="1" lang="en-US" sz="40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airma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Secretary/Treasur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dvancement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Equipment and Camping Coordinato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114ffb"/>
              </a:buClr>
              <a:buSzPct val="7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Promotion and Publicity Coordinator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Break - time</a:t>
            </a:r>
            <a:br>
              <a:rPr sz="4400"/>
            </a:b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10 minute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Outpost Council</a:t>
            </a: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	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efinition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 special committee compos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three to five men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ho have the basic responsibilities of the administration of the Royal Rangers program within the local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114ffb"/>
                </a:solidFill>
                <a:latin typeface="Book Antiqua"/>
              </a:rPr>
              <a:t>Why be involved</a:t>
            </a:r>
            <a:endParaRPr b="0" i="1" lang="en-US" sz="72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800680" y="1989000"/>
          <a:ext cx="1505160" cy="40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00680" y="1989000"/>
                    <a:ext cx="150516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433240" y="2212920"/>
            <a:ext cx="12276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3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ere is no ministry in the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ssemblie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that wins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ore souls than Royal Rangers.”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rry Rabur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Past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ational Director,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vision of Church Ministr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Age When Saved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% saved before the age of 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85% saved between the ages of 4 and 14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0% saved between the ages of 15 and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-312120">
              <a:spcBef>
                <a:spcPts val="799"/>
              </a:spcBef>
              <a:buClr>
                <a:srgbClr val="232323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nly 4 percent saved after the age of 30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urce: </a:t>
            </a:r>
            <a:r>
              <a:rPr b="0" i="1" lang="en-US" sz="2400" spc="-1" strike="noStrike">
                <a:solidFill>
                  <a:srgbClr val="000000"/>
                </a:solidFill>
                <a:latin typeface="Book Antiqua"/>
              </a:rPr>
              <a:t>Handbook of Children’s Evangelis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The Mission of Royal Ranger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o reach, teach, and k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boys for Christ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114ffb"/>
                </a:solidFill>
                <a:latin typeface="Book Antiqua"/>
              </a:rPr>
              <a:t>Royal Rangers Goals</a:t>
            </a:r>
            <a:endParaRPr b="0" i="1" lang="en-US" sz="4400" spc="-1" strike="noStrike">
              <a:solidFill>
                <a:srgbClr val="114ffb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truct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ible doctrin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challenge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Christian service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inspire a belief in the fundamenta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eliefs of our church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buClr>
                <a:srgbClr val="ff090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o satisfy the boys’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basic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need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ctivity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9T20:03:30Z</dcterms:created>
  <dc:creator>Dwain Klopfenstein/Paul Patterson</dc:creator>
  <dc:description>Taught at 1997 Regional Seminar Class</dc:description>
  <dc:language>en-US</dc:language>
  <cp:lastModifiedBy>Jonathan Trower</cp:lastModifiedBy>
  <cp:lastPrinted>1998-01-28T23:39:54Z</cp:lastPrinted>
  <dcterms:modified xsi:type="dcterms:W3CDTF">1999-07-25T04:22:02Z</dcterms:modified>
  <cp:revision>75</cp:revision>
  <dc:subject>Outpost Council </dc:subject>
  <dc:title>North Texas District Royal Rangers</dc:title>
</cp:coreProperties>
</file>