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120237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2024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5210280" cy="3506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t">
            <a:noAutofit/>
          </a:bodyPr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14800" y="-1440"/>
            <a:ext cx="5210280" cy="35064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6633720"/>
            <a:ext cx="5210280" cy="35100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b">
            <a:noAutofit/>
          </a:bodyPr>
          <a:lstStyle>
            <a:lvl1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14800" y="6633720"/>
            <a:ext cx="5210280" cy="351000"/>
          </a:xfrm>
          <a:prstGeom prst="rect">
            <a:avLst/>
          </a:prstGeom>
          <a:noFill/>
          <a:ln w="0">
            <a:noFill/>
          </a:ln>
        </p:spPr>
        <p:txBody>
          <a:bodyPr lIns="22680" rIns="226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fld id="{A1CD3C7A-729A-49C2-910F-600A7143A6B8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603440" y="3316320"/>
            <a:ext cx="8818560" cy="31449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4269960" y="523800"/>
            <a:ext cx="3490920" cy="261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1603440" y="3316320"/>
            <a:ext cx="8818560" cy="31449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4360" bIns="54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4270320" y="523800"/>
            <a:ext cx="3490920" cy="2617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284-F690-49A9-B393-A72DC127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B91F-A067-40D9-98D7-DC186BA9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6BE8-CE4F-4853-94F0-DB0878B3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854-4737-496B-926E-3ABA3B84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49C-3CBC-443C-9107-8FB0F549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990-CA85-474D-B9C5-E8DA0893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B941-6FAB-4F9F-B678-5297EDBE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7E9-079B-4C37-A96D-3D8F728D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99C-BA53-4AF5-944F-31C6E3ED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466-0D28-4549-9A1D-264BAD8F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60D-67C3-478F-9C38-149F9BF3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5894-6BC7-49E8-BE14-37CE33D9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9DCB-F334-4D4C-9814-DE90EEB86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 Session 2</a:t>
            </a:r>
            <a:endParaRPr b="0" i="1" lang="en-US" sz="48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00" y="152280"/>
            <a:ext cx="2427120" cy="2133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veral Ways to Determine If a Project Is Permissibl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e approved by the council, pastor, and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void date conflicts with other church activities or fund-rais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s the plan free of gambling or chanc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an the product be sold on its merits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Several Ways to Determine If a Project Is Permissible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hose who buy get their money’s worth from the product or service they receiv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s it reasonably certain that people who need work or business will not lose it as a result of the sales effor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8000" indent="-28800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he plan protect the name and goodwill of Royal Rangers and prevent it from being capitalized 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Insuranc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tatistics show that most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ccidents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happen at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home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least hazardous part of a boy’s life is likely to be when he is on a Royal Rangers outing with adult supervision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Due to rash of lawsuits and claims today, however, it is recommended that the church carry adequate insurance at all times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s is a PR job -- should publicize all activities of the outpost through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Announcements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from pulpi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hurch bulletins /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 bulletin board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Outpost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newsletter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Newspaper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Poster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vities to promote includ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ampouts.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uncil of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 achieve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pecial award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presentatio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angers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month/yea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member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outp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dfc5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sponsible for planning ways to increase outpost membership by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couraging boys to bring friend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tact drop outs …. to encourage them to rejoi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ing all visitors feel welcome, and following up on them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 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a presentation about Royal Rangers in Sunday School and children’s church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llowing up on visitors to a Kid’s Crusade or VBS, inviting them to Royal Rang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ec1406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nducting door-to-door campaig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Promotion &amp; Publicity Coordinato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ulletin boar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.show photos of even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t up a mode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ampsit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ocal parades..booths at local fai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volve boys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local community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ings to invi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gue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ndu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ather/s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ctiv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99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utpo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open hous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Coordinator</a:t>
            </a:r>
            <a:endParaRPr b="0" i="1" lang="en-US" sz="3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ke sure the outpost has adequate equipment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75"/>
              </a:spcBef>
              <a:buClr>
                <a:srgbClr val="1212fa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resent equipment needs to the council, along with possible funding methods</a:t>
            </a:r>
            <a:r>
              <a:rPr b="0" lang="en-US" sz="27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6120" y="45684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undraising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commanders in arranging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upp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needed for each trip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with activities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amp-ou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Chairman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Planning and conducting 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monthly council meeting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ssigning specific areas of responsibility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Making sure the council functions are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coordinated and completed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dvise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ssist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other council members and commanders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termine Equipment Need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Is it a viable ne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00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th a large piece of equipment (canoe), where and how securely will it be stor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funds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vailable for the purchas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Keep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inventory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list up-to-dat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quipment Care and Upkeep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ure all equipmen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waterproof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oom or build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Keep all equipment together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ne locatio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mptl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fix or repai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y equi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o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round for the best price and value when purchasing equi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Duties of the Outpost Council Equipment &amp; Camping </a:t>
            </a:r>
            <a:br>
              <a:rPr sz="3800"/>
            </a:br>
            <a:r>
              <a:rPr b="0" i="1" lang="en-US" sz="3800" spc="-1" strike="noStrike">
                <a:solidFill>
                  <a:srgbClr val="114ffb"/>
                </a:solidFill>
                <a:latin typeface="Book Antiqua"/>
              </a:rPr>
              <a:t>Coordinator  </a:t>
            </a:r>
            <a:r>
              <a:rPr b="0" i="1" lang="en-US" sz="28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8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with travel and camp-ou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rang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ransportatio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to and from cam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rrange and sec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roper supplie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: food, camping gear, fuel, coolers, etc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Help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n the actual camp as need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Advancement Coordinato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advancement coordinator is responsible for: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rranging f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immediate recognition of a boy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when an advancement is earned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Chairing 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advancement review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proces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Working closely with the commanders i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planning and carrying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out Councils of Achievement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683280" indent="-262800">
              <a:spcBef>
                <a:spcPts val="64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rving a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the chairman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or special ceremonie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Advancement Review Proces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view boar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onsists of advancement coordinator, commander, and one council memb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gins when a bo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is clos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to completing an awar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the revie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n hon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ather than tes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26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relaxed setting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ask the boy questions on his skills related to the award he is</a:t>
            </a:r>
            <a:r>
              <a:rPr b="0" lang="en-US" sz="2900" spc="-1" strike="noStrike">
                <a:solidFill>
                  <a:srgbClr val="000000"/>
                </a:solidFill>
                <a:latin typeface="Book Antiqua"/>
              </a:rPr>
              <a:t> completing.</a:t>
            </a:r>
            <a:endParaRPr b="0" lang="en-US" sz="29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He should be able to knowledgeably answ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se question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Advancement Review Process </a:t>
            </a:r>
            <a:r>
              <a:rPr b="0" i="1" lang="en-US" sz="36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6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f he has problems in an area,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utoring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and review him again in two week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Never refus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utright to allow 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war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ke sure a boy does not have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wait long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r the award after the review proces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y Have Ceremonies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formally acknowledg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ccomplishment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of the boy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provide an opportunity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hare the Royal Rangers program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with parents and others in the church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help crea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incentiv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or further advance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01680" indent="-3016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 provide an opportunity to give recognition of th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 parent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, thus increasing their desire to help their son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resenting Awards to Boy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resent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award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during the outpost meeting with all the boys presen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award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may b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presented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by the commander, senior commander, or the advancement coordinator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18960" indent="-31896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Make sure the boy is recognized in front of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Book Antiqua"/>
              </a:rPr>
              <a:t>entire church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 at the next Council of Achievement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690840" indent="-26568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sent certificate of achievement at that tim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</a:t>
            </a:r>
            <a:endParaRPr b="0" i="1" lang="en-US" sz="4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Chairma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alls the meeting to order and opens in pray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cretary/Treasur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ads the minutes of the previous meeting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nior command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discipline problems, attendance, needs of the outpost, boys saved and filled with the Spirit, etc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uncilma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ports on his area of responsibility.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Secretary/Treasur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financial status of the outp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dvancement coordinat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boys who are going through the review process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Secretary/Treasurer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ties of Secretar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eep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minutes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of each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 council meeting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Distribute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copies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fter each meeting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end notices to the council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date, time, 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 location of meeting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6201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Suggested Agenda for Monthly Outpost Council Meeting </a:t>
            </a:r>
            <a:r>
              <a:rPr b="0" i="1" lang="en-US" sz="32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3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Equipment and camping coordinat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reports on equipment needs and camping opportunitie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Publicity and promotions coordinat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reports on membership drives, promotions, and recent PR effort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ld and new busines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is addresse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djourn with praye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or Royal Rangers ministr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1646280"/>
            <a:ext cx="731520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1cfc"/>
                </a:solidFill>
                <a:latin typeface="Book Antiqua"/>
              </a:rPr>
              <a:t>B   R   E   A   K</a:t>
            </a:r>
            <a:r>
              <a:rPr b="0" lang="en-US" sz="3200" spc="-1" strike="noStrike">
                <a:solidFill>
                  <a:srgbClr val="3a1cfc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a1cfc"/>
                </a:solidFill>
                <a:latin typeface="Book Antiqua"/>
              </a:rPr>
              <a:t>FOR</a:t>
            </a:r>
            <a:r>
              <a:rPr b="0" lang="en-US" sz="3200" spc="-1" strike="noStrike">
                <a:solidFill>
                  <a:srgbClr val="3a1cfc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a1cfc"/>
                </a:solidFill>
                <a:latin typeface="Book Antiqua"/>
              </a:rPr>
              <a:t>LUNCH</a:t>
            </a:r>
            <a:r>
              <a:rPr b="0" lang="en-US" sz="8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Duties of the Outpost Council Secretary/Treasurer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dfc53"/>
              </a:buClr>
              <a:buSzPct val="75000"/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ties of Treasur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rovide leadership in preparing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outpost budget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eep sound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financial records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49"/>
              </a:spcBef>
              <a:buClr>
                <a:srgbClr val="1212fa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 Antiqua"/>
              </a:rPr>
              <a:t>Be accountable</a:t>
            </a: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 for all outpost fund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Budge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develop a budget and estimate expenses for the coming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Past 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expenditures will serve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 as a guide</a:t>
            </a: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 Antiqua"/>
              </a:rPr>
              <a:t>Consider: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growth in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outpost</a:t>
            </a: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replacement of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equipment</a:t>
            </a: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524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Book Antiqua"/>
              </a:rPr>
              <a:t>commander’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Book Antiqua"/>
              </a:rPr>
              <a:t>requests.</a:t>
            </a:r>
            <a:endParaRPr b="0" lang="en-US" sz="2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Budget 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Income sources: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Due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Budget allowance from church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Fundraising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24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Book Antiqua"/>
              </a:rPr>
              <a:t>Special offerings.</a:t>
            </a:r>
            <a:endParaRPr b="0" lang="en-US" sz="25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Weekly Dues System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dely us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outpos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ues cover basic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udget item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patches, craft projects)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quarter a week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equals over $13 per year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ome outposts charge an annual fee, but you fail to gain benefits of paying dues with this system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Advantages of Boys Paying Their Own Du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Learn how to budg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incom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ined to br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offerings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God’s house to support his work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feeling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ntributing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 part of themselves to the outpos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t helps to develop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oy’s character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en he is expected to come up with his dues each week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Fundraising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cision made jointly with outp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council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commander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hould no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onflict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ith ou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 Christian principl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8T23:47:28Z</cp:lastPrinted>
  <dcterms:modified xsi:type="dcterms:W3CDTF">1999-07-25T04:32:19Z</dcterms:modified>
  <cp:revision>74</cp:revision>
  <dc:subject>Outpost Council </dc:subject>
  <dc:title>North Texas District Royal Rangers</dc:title>
</cp:coreProperties>
</file>