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09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08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217840" y="-180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8952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217840" y="6513120"/>
            <a:ext cx="398916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48B-F3CF-451D-90F6-261357E943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2892600" y="514080"/>
            <a:ext cx="3427200" cy="257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226880" y="3255480"/>
            <a:ext cx="6753240" cy="30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ldImg"/>
          </p:nvPr>
        </p:nvSpPr>
        <p:spPr>
          <a:xfrm>
            <a:off x="2892600" y="514440"/>
            <a:ext cx="3427200" cy="2570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1161-7CB7-44E1-A8C2-3324185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904-46C5-4FBA-900F-EBF86535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3F4-06E7-4450-97F0-6FF6C430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95A-BF08-4ADA-A326-00484498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145-5343-4FFA-80B2-4404E430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9A83-67D4-4674-A4BA-8B88DAC2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31D-6B5E-4F9A-9983-984991AB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7A5-734C-46BF-B763-C1278033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941-FBF6-4851-9449-5B193353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E70-9722-448B-B7E4-4DF2D5AF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12CB-0370-410D-B810-B67386A5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7EFA-0BF6-40EC-9BA5-7DCCE307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A7CD-A60B-479A-AABA-9739C8C32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000000"/>
                </a:solidFill>
                <a:latin typeface="Book Antiqua"/>
              </a:rPr>
              <a:t> Session 3</a:t>
            </a:r>
            <a:endParaRPr b="0" i="1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 </a:t>
            </a:r>
            <a:r>
              <a:rPr b="1" i="1" lang="en-US" sz="2400" spc="-1" strike="noStrike">
                <a:solidFill>
                  <a:srgbClr val="676767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vid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ssistance with advancement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iritual guidanc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the boys throug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studies, devotion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hristian examp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ext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ie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eared to the boys’ age, like camp-outs, hikes, and field day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th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senior commander is vital to any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outpost with more than one age group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His duties are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activities of the various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age group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Serve as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liaison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between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and commanders, and with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ection, district, and national Royal Ranger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ill in as needed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in the absence of a commander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653760" indent="-25128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ordinate with the outpost council th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resentation of awards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 to boy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ieutenan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weekly meetings and extra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unior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boy a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15-17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s a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hile continuing to work on his advancemen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76080" indent="-25992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uld not be in charg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a meeting or extra activit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Other Leadership Posi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nior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 activities of the various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ais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between commander and patro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sponsibl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heir patro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ant Patrol Guid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 is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ssist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 patrol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ook Antiqua"/>
              </a:rPr>
              <a:t>T R A I N I N G </a:t>
            </a:r>
            <a:endParaRPr b="0" i="1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153280" y="61722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0" y="2362320"/>
          <a:ext cx="5251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5251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e Royal Ranger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Leadership Training Course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LTC consists of five sec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oordinat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ing or Day Camp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ders Medal of Achievement is awarded for comple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0120" y="3733920"/>
          <a:ext cx="11811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733920"/>
                    <a:ext cx="1181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National Training Event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uckaroo/Straight Arrow Training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dvanced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nter National Training Camp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Training Trail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Canoe Expedi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National Urban Leadership Conferenc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LT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uctur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JTC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dvanced Ranger skills are 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laxed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TT (Junior Training Trails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5 day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sic Ranger back packing skills...taugh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 relax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r. Guid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raining Camps for Boys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gle Rock Adventure (National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ational Merit camp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ack packing trip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hings Which Impress Boy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oys are impressed by things which ar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Unusu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lle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Types of Outdoor Activitie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eld Trip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ik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/Backpack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ow Wow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mporam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ke Rodeo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eld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orts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nter Fun Day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ater Activities (swimming, canoeing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What Chartering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Can Do For You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6576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lu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istin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6572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atisfac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683280" y="2103480"/>
            <a:ext cx="827136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a number of important benefi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at accompany consistent chartering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y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Book Antiqua"/>
              </a:rPr>
              <a:t> .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The following people must become enthused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about the ministry: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onor Bou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Steps in Starting an Outpost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Enlist the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ommander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Leadership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prepara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Make arrangements for meetings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26"/>
              </a:spcBef>
              <a:buClr>
                <a:srgbClr val="232323"/>
              </a:buClr>
              <a:buSzPct val="75000"/>
              <a:buFont typeface="Book Antiqua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Book Antiqua"/>
              </a:rPr>
              <a:t>Charter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recognition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weekl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3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Meetings should be at leas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1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, and preferabl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1 1/2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hours lo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tarting and ending times should coincide with other activities on the same nigh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ufficient commanders and helpers are need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2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ommanders need to b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repared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ith enough activities for the entire perio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lnSpc>
                <a:spcPct val="110000"/>
              </a:lnSpc>
              <a:spcBef>
                <a:spcPts val="64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ed. night is ideal as part of family night, but watch conflicts with youth group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Guidelines for Outpost Meeting Area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age group need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parate area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bles and chairs need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atch the nee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torage spac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needed for crafts, supplies, book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uffici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igh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ventil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should be available to make the area conducive to learn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ace should be sufficiently large to allow for a variety of activ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62920" y="57960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3160" y="655560"/>
            <a:ext cx="317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8120" y="2662200"/>
          <a:ext cx="364788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662200"/>
                    <a:ext cx="364788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Job Descriptions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t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Jr. Command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r. Guide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277308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meet the basic qualifications of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mmand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a general knowledge of the to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oyal Rang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have completed or be enroll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 Cours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"/>
          <p:cNvSpPr/>
          <p:nvPr/>
        </p:nvSpPr>
        <p:spPr>
          <a:xfrm>
            <a:off x="286920" y="1736640"/>
            <a:ext cx="783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Senior Commander of an outpost should 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the following qualif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998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Senior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.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abl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o work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pend time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behalf of Royal Ranger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ust be willing to atte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ditional training experiences,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f at all possibl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5760" y="3049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rn-again Christi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well ground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ord of God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loyal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habits and ideal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hich are above reproa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ike boy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enjoy working with the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7800" y="1600200"/>
            <a:ext cx="575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 Antiqua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4320" y="304920"/>
            <a:ext cx="7697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 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a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sistent testimon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daily Christian liv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bl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 and deleg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uthor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ossess goo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judg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cept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676520"/>
            <a:ext cx="5619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 Royal Rangers commander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 Antiqua"/>
              </a:rPr>
              <a:t>Qualifications of a Commander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(con’t)</a:t>
            </a:r>
            <a:endParaRPr b="0" i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715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mmand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respect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other me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operat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program of the church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willing to tak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eadership trainin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21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years of age or older (lieutenant commanders must be 18 or older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Responsibilities of a Commander</a:t>
            </a:r>
            <a:endParaRPr b="0" i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213372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There should be a commander for each 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group. This man or woman is respon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for the following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c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raine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 the RR progra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140400" indent="-1404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ovid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eekly meeti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ich balan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 and accomplishmen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-3505320" y="1905120"/>
            <a:ext cx="7315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7T02:18:50Z</cp:lastPrinted>
  <dcterms:modified xsi:type="dcterms:W3CDTF">1999-07-25T04:42:18Z</dcterms:modified>
  <cp:revision>48</cp:revision>
  <dc:subject>Outpost Council </dc:subject>
  <dc:title>North Texas District Royal Rangers</dc:title>
</cp:coreProperties>
</file>