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9209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08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217840" y="-180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217840" y="651312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F24D-D0C3-4347-A071-DF239F8D798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2892600" y="514080"/>
            <a:ext cx="3427200" cy="257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2892600" y="514440"/>
            <a:ext cx="3427200" cy="2570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ldImg"/>
          </p:nvPr>
        </p:nvSpPr>
        <p:spPr>
          <a:xfrm>
            <a:off x="2892600" y="514440"/>
            <a:ext cx="3427200" cy="2570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F95-C3A4-4EE9-96FC-CF2CAFF0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9275-D7F2-4C15-9A77-71C1D071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481-FFF2-4CD4-99E7-3C798F8C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326-0818-40F1-ACE7-8B61FE7B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298E-4B90-4BC6-BCB5-13444F39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24C-6163-4E06-9B24-8C70D589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51F-253A-43DF-8A11-F85D239A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3105-8594-4E1E-B087-50909091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1BCE-E201-4336-B43A-515BBB58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15B2-02A0-4B80-AE95-C3682851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B65-6B94-412A-BF0C-D569D258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A6F5-97A4-43BB-AD93-10865888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EE9C-EE1C-4A33-A0C6-630C1C960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2057040"/>
            <a:ext cx="75452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Session 4 </a:t>
            </a:r>
            <a:br>
              <a:rPr sz="4800"/>
            </a:br>
            <a:br>
              <a:rPr sz="48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  </a:t>
            </a:r>
            <a:r>
              <a:rPr b="0" i="1" lang="en-US" sz="6000" spc="-1" strike="noStrike">
                <a:solidFill>
                  <a:srgbClr val="114ffb"/>
                </a:solidFill>
                <a:latin typeface="Book Antiqua"/>
              </a:rPr>
              <a:t>Child Abuse</a:t>
            </a:r>
            <a:endParaRPr b="0" i="1" lang="en-US" sz="60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ecognition of Abuse (Physical or Emotional)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nowledge or behavi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eyond child's developme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requent complaints .. headache, backache, stomachac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udden avoidanc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certain adul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cline in school performa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ysical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on-accidental inju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ating, sha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uman bites, strangulation mark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ur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tche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mmerse in scalding hot wat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ysical Abuse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’t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cognized Ab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bruis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fractures/dislo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bur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nexplain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injur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 Preventio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creen your lea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stablish procedures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olicies for proper conduc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stablis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job description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oyal Rangers lea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 Prevention  (con’t)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2 adult leader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quired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ll activiti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pect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pace and privacy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Keep written record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unusual behavior and occurrenc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Report incidenc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child abuse to pastor or church boar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ndatory by the law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eporting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Must Report 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state has different statutes for report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en &amp; Where to Repor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en yo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usp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asonable ca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ou don’t hav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rove abus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port to the pasto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Happen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vestigation results in 3 thing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buse or neglect is ruled ou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Uncertain about the finding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buse or neglect confirm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7560" y="1713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How to Deal With I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vide private tim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iste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hat the child s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promise not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tel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u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to do the right thing”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How to Deal With It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con’t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on’t expres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hock or criticiz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amil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ssure them ... done the right th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termine immediate need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ell them .. required by la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repor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Repor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proper authorit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Remember: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A report of suspected abuse is the attempt to protect a chil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revention: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reatment for the victims and their families is essential to stopping abuse once it has occurr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is no ministry in t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ssembl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hat win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souls than Royal Rangers.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rry Raburn, Past National Director,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vision of Church Ministr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Mission of Royal Ranger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o reach, teach and keep 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oys for Christ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Question and Answer tim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OUTLIN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RITE YOUR NAME ON BOOKLE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SS TO THE FRONT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a1cfc"/>
                </a:solidFill>
                <a:latin typeface="Book Antiqua"/>
              </a:rPr>
              <a:t>T E S T     T I M E</a:t>
            </a:r>
            <a:endParaRPr b="0" i="1" lang="en-US" sz="6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2533320"/>
            <a:ext cx="7543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2323"/>
                </a:solidFill>
                <a:latin typeface="Book Antiqua"/>
              </a:rPr>
              <a:t>NAME THE </a:t>
            </a:r>
            <a:r>
              <a:rPr b="1" lang="en-US" sz="2400" spc="-1" strike="noStrike" u="sng">
                <a:solidFill>
                  <a:srgbClr val="232323"/>
                </a:solidFill>
                <a:uFillTx/>
                <a:latin typeface="Book Antiqua"/>
              </a:rPr>
              <a:t>5</a:t>
            </a:r>
            <a:r>
              <a:rPr b="1" lang="en-US" sz="2400" spc="-1" strike="noStrike">
                <a:solidFill>
                  <a:srgbClr val="232323"/>
                </a:solidFill>
                <a:latin typeface="Book Antiqua"/>
              </a:rPr>
              <a:t> OUTPOST COUNCIL POSITION AND THE FUNCTION OF EACH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232323"/>
                </a:solidFill>
                <a:latin typeface="Book Antiqua"/>
              </a:rPr>
              <a:t>WHAT WOULD BE THE VALUE OF ROYAL RANGERS IN YOUR CHURCH?</a:t>
            </a:r>
            <a:br>
              <a:rPr sz="2400"/>
            </a:br>
            <a:br>
              <a:rPr sz="2400"/>
            </a:b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xual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hild exploitation for the sexual gratification of another pers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Includ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tercourse, sodomy, oral-genital stimulation, verbal stimulation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xhibitionism (enjoy watching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ndling, pornograph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cope of this problem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ver 1,000,000 abuse cases a ye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2,000 - 3,000 deaths each yea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 in 5 be sexually abused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than 1/3 are childre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5 years and old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33% girls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7% boys by 1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98440" indent="-2984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xual abuse last 1-4 yea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Leader Selectio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ally know your Royal Rangers lea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743200"/>
            <a:ext cx="26672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30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hurch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lways needing lea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d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n and wife tea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Open Doo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Hunting season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(all year around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Men or women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eam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Husband &amp; wif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creening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ll out Children/You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terview  applica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heck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ll referen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horoughl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evious church attendance/involvemen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lice records (if you suspect a cause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Various Forms of Child Abus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exual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b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hysical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bu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27T02:19:26Z</cp:lastPrinted>
  <dcterms:modified xsi:type="dcterms:W3CDTF">1999-07-25T04:51:19Z</dcterms:modified>
  <cp:revision>62</cp:revision>
  <dc:subject>Outpost Council </dc:subject>
  <dc:title>North Texas District Royal Rangers</dc:title>
</cp:coreProperties>
</file>