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12023725" cy="6983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12024000" cy="698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5211720" cy="350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13360" y="-1440"/>
            <a:ext cx="5211720" cy="350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-360" y="6633720"/>
            <a:ext cx="5211720" cy="3510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813360" y="6633720"/>
            <a:ext cx="5211720" cy="3510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E540C-00EE-40B0-B214-59D868A1379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1604520" y="3315960"/>
            <a:ext cx="8815320" cy="314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Img"/>
          </p:nvPr>
        </p:nvSpPr>
        <p:spPr>
          <a:xfrm>
            <a:off x="4274640" y="525240"/>
            <a:ext cx="3488040" cy="2616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Click to move the slide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1604520" y="3315960"/>
            <a:ext cx="8815320" cy="314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co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one of the later LTC courses put out by Nat’l off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son for  teaching this course so the outpost councilmen knows what their roll is in the Royal Ranger progr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ourse is usually an 6-8 hour cour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ensed to 4 hou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 Teaching concept  will be follow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s -- each should have a book and out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. notes on the outline sheets suppl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will be taken up and graded at end of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writing and filling in the blan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st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completion of  the cou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rtificates will be given upon comple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 and Answers are welc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not chase rabbits with ideas or answ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questions requiring more detail answers will have to wa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ll break time or after class in order to save tim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ldImg"/>
          </p:nvPr>
        </p:nvSpPr>
        <p:spPr>
          <a:xfrm>
            <a:off x="4275000" y="525600"/>
            <a:ext cx="3488040" cy="2616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1604520" y="3315960"/>
            <a:ext cx="8815320" cy="314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 every one to two years to bring leaders in and reevaluate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ldImg"/>
          </p:nvPr>
        </p:nvSpPr>
        <p:spPr>
          <a:xfrm>
            <a:off x="4275000" y="525600"/>
            <a:ext cx="3488040" cy="261612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B702-4A7F-463E-99EF-E9536B872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4B4A-3FE4-4879-915C-F034D2D0D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3A98-0777-4DB6-9F9F-1743E03AF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7DD7-805D-482F-AB7B-58FB14069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26C3-469D-4984-B2F7-4BF9F8C3E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2FC3-0834-4C1A-895F-9CDA8A305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A33B-4260-4FA5-923E-C33BFBF43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8232-9429-49D9-BE0D-587F1E889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4759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9F5E-8CE8-493F-91A8-C862B353B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3EE7-A07B-40AE-847A-04DE90859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2460-594E-4195-8399-70D38E44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9256-BA97-4D0C-BA54-DA6B453A9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7B494-35C7-44E1-AF3B-7F28023665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31480" indent="-226080">
              <a:spcBef>
                <a:spcPts val="799"/>
              </a:spcBef>
              <a:buClr>
                <a:srgbClr val="23232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Click to edit the title text format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4400" y="299880"/>
            <a:ext cx="1304640" cy="1148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114ffb"/>
                </a:solidFill>
                <a:latin typeface="Book Antiqua"/>
              </a:rPr>
              <a:t>Outpost Councilmen</a:t>
            </a:r>
            <a:br>
              <a:rPr sz="4800"/>
            </a:br>
            <a:r>
              <a:rPr b="0" i="1" lang="en-US" sz="4800" spc="-1" strike="noStrike">
                <a:solidFill>
                  <a:srgbClr val="114ffb"/>
                </a:solidFill>
                <a:latin typeface="Book Antiqua"/>
              </a:rPr>
              <a:t>Leadership Training Course</a:t>
            </a:r>
            <a:br>
              <a:rPr sz="4800"/>
            </a:br>
            <a:r>
              <a:rPr b="0" i="1" lang="en-US" sz="1600" spc="-1" strike="noStrike">
                <a:solidFill>
                  <a:srgbClr val="114ffb"/>
                </a:solidFill>
                <a:latin typeface="Book Antiqua"/>
              </a:rPr>
              <a:t> </a:t>
            </a:r>
            <a:br>
              <a:rPr sz="1600"/>
            </a:br>
            <a:r>
              <a:rPr b="0" i="1" lang="en-US" sz="4800" spc="-1" strike="noStrike">
                <a:solidFill>
                  <a:srgbClr val="114ffb"/>
                </a:solidFill>
                <a:latin typeface="Book Antiqua"/>
              </a:rPr>
              <a:t> Session 1</a:t>
            </a:r>
            <a:endParaRPr b="0" i="1" lang="en-US" sz="4800" spc="-1" strike="noStrike">
              <a:solidFill>
                <a:srgbClr val="114ffb"/>
              </a:solidFill>
              <a:latin typeface="Book Antiqua"/>
            </a:endParaRPr>
          </a:p>
        </p:txBody>
      </p:sp>
    </p:spTree>
  </p:cSld>
  <mc:AlternateContent>
    <mc:Choice Requires="p14">
      <p:transition spd="slow" advTm="7000" p14:dur="2000"/>
    </mc:Choice>
    <mc:Fallback>
      <p:transition spd="slow" advTm="7000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The Outpost Council</a:t>
            </a:r>
            <a:br>
              <a:rPr sz="3600"/>
            </a:b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Who Can Serve?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ny man in church who has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Who is willing to devote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necessary to fulfill the duties of a council member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e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and able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rior experience with Royal Rangers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_________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, but not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The Outpost Council</a:t>
            </a:r>
            <a:br>
              <a:rPr sz="2400"/>
            </a:b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When Should It Be Formed?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Ideally, in place before an outpost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One should be organized to begin providing the vital support from this group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The Outpost Council</a:t>
            </a:r>
            <a:br>
              <a:rPr sz="3600"/>
            </a:br>
            <a:r>
              <a:rPr b="0" i="1" lang="en-US" sz="4200" spc="-1" strike="noStrike">
                <a:solidFill>
                  <a:srgbClr val="114ffb"/>
                </a:solidFill>
                <a:latin typeface="Book Antiqua"/>
              </a:rPr>
              <a:t>How Should They Be Selected?</a:t>
            </a:r>
            <a:endParaRPr b="0" i="1" lang="en-US" sz="42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re are two possible methods: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ey may b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 by the church board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ey may b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_________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from the ranks of the local men’s group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The Outpost Council</a:t>
            </a:r>
            <a:br>
              <a:rPr sz="2400"/>
            </a:b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Who Else Should Serve?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74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The </a:t>
            </a:r>
            <a:r>
              <a:rPr b="1" lang="en-US" sz="3100" spc="-1" strike="noStrike" u="sng">
                <a:solidFill>
                  <a:srgbClr val="000000"/>
                </a:solidFill>
                <a:uFillTx/>
                <a:latin typeface="Book Antiqua"/>
              </a:rPr>
              <a:t>_______</a:t>
            </a: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 should </a:t>
            </a:r>
            <a:r>
              <a:rPr b="0" lang="en-US" sz="3100" spc="-1" strike="noStrike" u="sng">
                <a:solidFill>
                  <a:srgbClr val="000000"/>
                </a:solidFill>
                <a:uFillTx/>
                <a:latin typeface="Book Antiqua"/>
              </a:rPr>
              <a:t>________</a:t>
            </a: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 be a </a:t>
            </a:r>
            <a:r>
              <a:rPr b="0" lang="en-US" sz="3100" spc="-1" strike="noStrike" u="sng">
                <a:solidFill>
                  <a:srgbClr val="000000"/>
                </a:solidFill>
                <a:uFillTx/>
                <a:latin typeface="Book Antiqua"/>
              </a:rPr>
              <a:t>________</a:t>
            </a: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lvl="1" marL="727920" indent="-28008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ven if not in one of the five leadership position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27920" indent="-28008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e given a vote in all business conducted by the council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-335880">
              <a:spcBef>
                <a:spcPts val="774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The </a:t>
            </a:r>
            <a:r>
              <a:rPr b="1" lang="en-US" sz="31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</a:t>
            </a:r>
            <a:r>
              <a:rPr b="1" lang="en-US" sz="31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should also be a </a:t>
            </a:r>
            <a:r>
              <a:rPr b="0" lang="en-US" sz="31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</a:t>
            </a: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lvl="1" marL="727920" indent="-28008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e given a vote in the council meeting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The Outpost Council</a:t>
            </a:r>
            <a:br>
              <a:rPr sz="3200"/>
            </a:b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What Are Its First Duties?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for each age group and arrange for training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o select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for the meeting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o gather the materials necessary for the weekly meeting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The Outpost Council</a:t>
            </a:r>
            <a:br>
              <a:rPr sz="3200"/>
            </a:b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What Are Its First Duties? </a:t>
            </a:r>
            <a:br>
              <a:rPr sz="4400"/>
            </a:b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endParaRPr b="0" i="1" lang="en-US" sz="2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with the Royal Rangers Ministry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298440" indent="-2984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Recruit, interview &amp; screen </a:t>
            </a: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all</a:t>
            </a: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298440" indent="-2984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Develop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298440" indent="-2984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ure adequat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for all age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298440" indent="-2984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ssure need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are available.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114ffb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The Outpost Council</a:t>
            </a:r>
            <a:br>
              <a:rPr sz="2400"/>
            </a:b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What Are Its First Duties? </a:t>
            </a: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endParaRPr b="0" i="1" lang="en-US" sz="2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aintain stock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ooks, uniforms and award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ublicize and promote Royal Rangers programs and event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lan and execute Councils of Achievement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The Outpost Council</a:t>
            </a:r>
            <a:br>
              <a:rPr sz="2400"/>
            </a:b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What Are Its First Duties? </a:t>
            </a: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endParaRPr b="0" i="1" lang="en-US" sz="2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ssist in the weekly meetings as needed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eet regularly to transact business and execute responsibilitie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ppoint the leadership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660960" indent="-25416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ommanders and Lt. Commander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660960" indent="-25416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ecruit Royal Rangers staff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660960" indent="-25416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stablish standards and goal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660960" indent="-25416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llow for growth and development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4" name=""/>
          <p:cNvSpPr/>
          <p:nvPr/>
        </p:nvSpPr>
        <p:spPr>
          <a:xfrm>
            <a:off x="762120" y="4070520"/>
            <a:ext cx="7688160" cy="20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The Outpost Council </a:t>
            </a:r>
            <a:r>
              <a:rPr b="0" i="1" lang="en-US" sz="4000" spc="-1" strike="noStrike">
                <a:solidFill>
                  <a:srgbClr val="114ffb"/>
                </a:solidFill>
                <a:latin typeface="Book Antiqua"/>
              </a:rPr>
              <a:t>Positions</a:t>
            </a:r>
            <a:endParaRPr b="0" i="1" lang="en-US" sz="40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114ffb"/>
              </a:buClr>
              <a:buSzPct val="7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_______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114ffb"/>
              </a:buClr>
              <a:buSzPct val="7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_______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114ffb"/>
              </a:buClr>
              <a:buSzPct val="7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_______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114ffb"/>
              </a:buClr>
              <a:buSzPct val="7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_______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114ffb"/>
              </a:buClr>
              <a:buSzPct val="7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_____________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Break - time</a:t>
            </a:r>
            <a:br>
              <a:rPr sz="4400"/>
            </a:b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10 minutes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114ffb"/>
                </a:solidFill>
                <a:latin typeface="Book Antiqua"/>
              </a:rPr>
              <a:t>Outpost Council</a:t>
            </a: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	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Definition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 special committee composed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who have the basic responsibilities of the administration of the Royal Ranger program within the local church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114ffb"/>
                </a:solidFill>
                <a:latin typeface="Book Antiqua"/>
              </a:rPr>
              <a:t>Why be involved</a:t>
            </a:r>
            <a:endParaRPr b="0" i="1" lang="en-US" sz="72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5800680" y="1989000"/>
          <a:ext cx="1505160" cy="40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00680" y="1989000"/>
                    <a:ext cx="1505160" cy="40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2433240" y="2212920"/>
            <a:ext cx="1227600" cy="29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000000"/>
                </a:solidFill>
                <a:latin typeface="Book Antiqua"/>
              </a:rPr>
              <a:t>?</a:t>
            </a:r>
            <a:endParaRPr b="0" lang="en-US" sz="18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763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re is no ministry in th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Assemblies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of 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God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that wins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ore souls than Royal Rangers.”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erry Raburn,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National Director,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ivision of Church Ministrie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Age When Saved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1% saved before the age of 4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12120" indent="-31212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85% saved between the ages of 4 and 14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12120" indent="-31212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10% saved between the ages of 15 and 30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12120" indent="-31212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Only 4 percent saved after the age of 30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ource: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Handbook of Children’s Evangelism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slow" advTm="15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The Mission of Royal Rangers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114ffb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o reach, teach, and keep boys for Christ.</a:t>
            </a:r>
            <a:r>
              <a:rPr b="0" lang="en-US" sz="3200" spc="-1" strike="noStrike">
                <a:solidFill>
                  <a:srgbClr val="ff0909"/>
                </a:solidFill>
                <a:latin typeface="Book Antiqu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Royal Rangers Goals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90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12fa"/>
                </a:solidFill>
                <a:latin typeface="Book Antiqua"/>
              </a:rPr>
              <a:t>To instruct in </a:t>
            </a:r>
            <a:r>
              <a:rPr b="0" lang="en-US" sz="3200" spc="-1" strike="noStrike" u="sng">
                <a:solidFill>
                  <a:srgbClr val="1212fa"/>
                </a:solidFill>
                <a:uFillTx/>
                <a:latin typeface="Book Antiqua"/>
              </a:rPr>
              <a:t>__________________</a:t>
            </a:r>
            <a:r>
              <a:rPr b="0" lang="en-US" sz="3200" spc="-1" strike="noStrike">
                <a:solidFill>
                  <a:srgbClr val="1212fa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090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12fa"/>
                </a:solidFill>
                <a:latin typeface="Book Antiqua"/>
              </a:rPr>
              <a:t>To challenge for </a:t>
            </a:r>
            <a:r>
              <a:rPr b="0" lang="en-US" sz="3200" spc="-1" strike="noStrike" u="sng">
                <a:solidFill>
                  <a:srgbClr val="1212fa"/>
                </a:solidFill>
                <a:uFillTx/>
                <a:latin typeface="Book Antiqua"/>
              </a:rPr>
              <a:t>____________________</a:t>
            </a:r>
            <a:r>
              <a:rPr b="0" lang="en-US" sz="3200" spc="-1" strike="noStrike">
                <a:solidFill>
                  <a:srgbClr val="1212fa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090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12fa"/>
                </a:solidFill>
                <a:latin typeface="Book Antiqua"/>
              </a:rPr>
              <a:t>To inspire a belief in the fundamental </a:t>
            </a:r>
            <a:r>
              <a:rPr b="0" lang="en-US" sz="3200" spc="-1" strike="noStrike" u="sng">
                <a:solidFill>
                  <a:srgbClr val="1212fa"/>
                </a:solidFill>
                <a:uFillTx/>
                <a:latin typeface="Book Antiqua"/>
              </a:rPr>
              <a:t>_________________________________</a:t>
            </a:r>
            <a:r>
              <a:rPr b="0" lang="en-US" sz="3200" spc="-1" strike="noStrike">
                <a:solidFill>
                  <a:srgbClr val="1212fa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090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12fa"/>
                </a:solidFill>
                <a:latin typeface="Book Antiqua"/>
              </a:rPr>
              <a:t>To satisfy the boys’ </a:t>
            </a:r>
            <a:r>
              <a:rPr b="0" lang="en-US" sz="3200" spc="-1" strike="noStrike" u="sng">
                <a:solidFill>
                  <a:srgbClr val="1212fa"/>
                </a:solidFill>
                <a:uFillTx/>
                <a:latin typeface="Book Antiqua"/>
              </a:rPr>
              <a:t>______</a:t>
            </a:r>
            <a:r>
              <a:rPr b="0" lang="en-US" sz="3200" spc="-1" strike="noStrike">
                <a:solidFill>
                  <a:srgbClr val="1212fa"/>
                </a:solidFill>
                <a:latin typeface="Book Antiqua"/>
              </a:rPr>
              <a:t> need for </a:t>
            </a:r>
            <a:r>
              <a:rPr b="0" lang="en-US" sz="3200" spc="-1" strike="noStrike" u="sng">
                <a:solidFill>
                  <a:srgbClr val="1212fa"/>
                </a:solidFill>
                <a:uFillTx/>
                <a:latin typeface="Book Antiqua"/>
              </a:rPr>
              <a:t>________</a:t>
            </a:r>
            <a:r>
              <a:rPr b="0" lang="en-US" sz="3200" spc="-1" strike="noStrike">
                <a:solidFill>
                  <a:srgbClr val="1212fa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Philosophy of a Successful Outpost Council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oordination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Delegation of responsibility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Imagination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Improvisation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The Outpost Council</a:t>
            </a:r>
            <a:br>
              <a:rPr sz="2400"/>
            </a:b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How Much Time Will It Take?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s much time as a man is willing to give.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____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require various amount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______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on a monthly basi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29T20:03:30Z</dcterms:created>
  <dc:creator>Dwain Klopfenstein/Paul Patterson</dc:creator>
  <dc:description>Taught at 1997 Regional Seminar Class</dc:description>
  <dc:language>en-US</dc:language>
  <cp:lastModifiedBy>Jonathan Trower</cp:lastModifiedBy>
  <cp:lastPrinted>1998-07-06T05:42:57Z</cp:lastPrinted>
  <dcterms:modified xsi:type="dcterms:W3CDTF">1999-07-25T04:22:08Z</dcterms:modified>
  <cp:revision>77</cp:revision>
  <dc:subject>Outpost Council </dc:subject>
  <dc:title>North Texas District Royal Rangers</dc:title>
</cp:coreProperties>
</file>