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480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480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87B563A7-DB93-4010-9C33-599214B90FEA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69960" y="523800"/>
            <a:ext cx="3490920" cy="261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ldImg"/>
          </p:nvPr>
        </p:nvSpPr>
        <p:spPr>
          <a:xfrm>
            <a:off x="4270320" y="523800"/>
            <a:ext cx="3490920" cy="2617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F7B-398B-495C-8CED-BFA8C203C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968-9948-4EA5-AF5A-BAAA01C4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44B9-C0B3-4F0A-82CD-A51B08BB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13E2-4886-41E2-AF25-41A48B4E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8AD-344D-4F2F-8475-2DE433B8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136-0D6C-4249-88C9-D7A136AD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5E5-B5CE-4D13-ACEB-3AF1B2B2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46EF-438F-4E9F-8CF6-D8675506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D27-B468-47C6-9F1A-E3FE92A8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D02-0689-46F8-84D3-1BF9DC42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213-469A-49C8-9929-1FCCCBD7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C0C-6BD0-46C2-94A9-AC2D991E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8B4E-DB5D-4E3C-ABFB-26A602BF9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2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pproved by the council, pastor, and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void date conflicts with other church activities or fund-rais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the plan free of gambling or chanc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the product be sold on its merit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ose who buy get their money’s worth from the product or service they receiv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it reasonably certain that people who need work or business will not lose it as a result of the sales effor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e plan protect the name and goodwill of Royal Rangers and prevent it from being capitalized 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Insuranc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tatistics show that mos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happen a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least hazardous part of a boy’s life is likely to be when he is on a Royal Rangers outing with adult supervision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Due to rash of lawsuits and claims today, however, it is recommended that the church carry adequate insurance at all time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is a PR job -- should publicize all activities of the outpost through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rom pulpi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urch bulletins /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newsletter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vities to promote includ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ncil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presenta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ngers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onsible for planning ways to increase outpost membership b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couraging boys to bring frien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act drop outs …. to encourage them to rejoi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ing all visitors feel welcome, and following up on the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a presentation about Royal Rangers in Sunday School and children’s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llowing up on visitors to a Kid’s Crusade or VBS, inviting them to Royal Rang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ducting door-to-door campaig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.show photos of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t up a mod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cal parades..Booths at local fai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olve boy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ings to invi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du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the outpost has adequate equipment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esent equipment needs to the council, along with possible funding methods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6120" y="4568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commanders in arranging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ed for each tri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activitie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Chairma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monthly council meeting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____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aking sure the council functions ar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other council members and commander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termine Equipment Nee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With a large piece of equipment (canoe), where and how securely will it be store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vailable for the purchas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eep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list up-to-d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quipment Care and Upkee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ure all equipmen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oom or build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eep all equipment together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p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y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round for the best price and value when purchasing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travel and 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and from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and sec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food, camping gear, fuel, coolers, etc..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the actual camp as need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Advancement Coordinat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advancement coordinator is responsible for: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rranging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hen an advancement is earn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airing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roces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orking closely with the commanders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ut Councils of Achievemen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68520" indent="-25704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rving a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special ceremonie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nsists of advancement coordinator, commander, and one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gins when a bo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completing an aw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the revi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ather than te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26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sk the boy questions on his skills related to the award he is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completing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 should be able to knowledgeably ans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se question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 </a:t>
            </a:r>
            <a:r>
              <a:rPr b="0" i="1" lang="en-US" sz="36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he has problems in an area,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review him again in two week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utright to allow an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a boy does not hav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award after the review proces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y Have Ceremon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formally acknowledg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ith parents and others in the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help cre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further advanc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give recognition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thus increasing their desire to help their s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resenting Awards to Boy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sent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during the outpost meeting with all the boys pres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may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by the commander, senior commander, or the advancement coordinato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ke sure the boy is recognized in front of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at the next Council of Achievem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ent certificate of achievement at that tim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alls the meeting to order and opens in pray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ads the minutes of the previous meet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discipline problems, attendance, needs of the outpost, boys saved and filled with the Spirit, etc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ports on his area of responsibility.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financial status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boys who are going through the review proces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Secreta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f eac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istribute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after each meeti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nd notices to the council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equipment needs and camping opportun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membership drives, promotions, and recent PR effor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address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Royal Rangers ministr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vide leadership in preparing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sound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all outpost fun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develop a budget and estimate expenses for the coming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expenditures will serv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nsider: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growth i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replacement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commander’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__________.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 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ome source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__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Weekly Dues Syst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dely us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es cover bas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patches, craft project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equals over $13 per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outposts charge an annual fee, but you fail to gain benefits of paying dues with this sys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dvantages of Boys Paying Their Own Du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rn how to bud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com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ined to b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o God’s house to support his wor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feeling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 part of themselves to the outpo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t helps to develop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en he is expected to come up with his dues each wee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Fundrais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ision made jointly with outp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uld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47:28Z</cp:lastPrinted>
  <dcterms:modified xsi:type="dcterms:W3CDTF">1999-07-25T04:32:25Z</dcterms:modified>
  <cp:revision>76</cp:revision>
  <dc:subject>Outpost Council </dc:subject>
  <dc:title>North Texas District Royal Rangers</dc:title>
</cp:coreProperties>
</file>