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8248-5FE7-4474-B928-0BC58EF672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265-D1E8-4C16-BF3C-9F8B211A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9C3-F12A-4EA0-B2AA-6B5A233C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767E-65A1-490D-9759-9349E0C0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CCF-A097-4BB9-927F-1727E462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D86-82AD-4EF5-BF16-D9D78E67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594-4AED-4CA5-8821-85CAFF3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126-FAD7-4C72-9EEE-B875CB27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2FD-B17A-47F8-AF21-88067020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3D87-5AE1-44C6-945C-DF662ECD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28E-7AFE-4F7F-86CB-736A7C2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59D-DA22-48A7-826D-406EC05D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501-2563-4B3D-9BD2-0F66734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AE4-1387-4DCD-8071-32FAFE40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8520" indent="-3085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 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5360" indent="-31536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592920" y="1736640"/>
            <a:ext cx="751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1040" y="1433520"/>
            <a:ext cx="5670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6:26:34Z</cp:lastPrinted>
  <dcterms:modified xsi:type="dcterms:W3CDTF">1999-07-25T04:42:46Z</dcterms:modified>
  <cp:revision>50</cp:revision>
  <dc:subject>Outpost Council </dc:subject>
  <dc:title>North Texas District Royal Rangers</dc:title>
</cp:coreProperties>
</file>