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8200" y="-144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144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8200" y="6515280"/>
            <a:ext cx="399096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62220-37DE-4088-92E5-465B2C4741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3680" y="515880"/>
            <a:ext cx="3421080" cy="25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1230120" y="3255480"/>
            <a:ext cx="674676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2894040" y="515880"/>
            <a:ext cx="3421080" cy="2565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0F97-90BF-4F88-AAEF-010EBC17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11D6-D760-42BE-9E9C-5FA0FE57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6E7-F0ED-4AC2-8095-A0E61B3F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7609-0BA7-490F-A045-6724E6B0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BF5-8453-41C2-B1B3-BC33563E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5A5-44E5-4F02-96C0-4C0555CB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BEE-4AB2-42BC-8952-EC688008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596-A92C-438D-90BC-60C42AD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26F-E5A9-46A5-917A-B5F575F6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F0D-4B63-43F0-8FE4-78CB85C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27F-2EC2-41D3-BC40-F5420A5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E89-DA7B-43ED-963C-2496207B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FF3C-9B91-4ABA-A41F-97A483B1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s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hysica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09T03:55:52Z</cp:lastPrinted>
  <dcterms:modified xsi:type="dcterms:W3CDTF">1999-07-25T04:51:26Z</dcterms:modified>
  <cp:revision>68</cp:revision>
  <dc:subject>Outpost Council </dc:subject>
  <dc:title>North Texas District Royal Rangers</dc:title>
</cp:coreProperties>
</file>