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EA11-EB79-4932-B7F5-12C8673F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85E-A96A-4935-BA5F-F832772D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46F-507C-4534-AAF5-9D5599AA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958-4229-480D-B131-678810D8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B9FC-F6ED-46CE-8178-1E062926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A710-60A9-41AD-BA87-60463172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A546-FFAB-4639-9521-DEDC6D86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E28F-E0BB-4C51-AB7A-43B1F558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C246-7678-4A5D-AD8B-FFFE3CC6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FC34-2817-4B35-83CE-BF65655C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CD13-5630-4035-B52F-A210A2D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60C-244C-4ADF-BE9C-07CBDB78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917B-3710-42E1-A01B-995AFE76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C1E6-858B-4953-A5C7-8E97B665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7AEC-8F56-4F12-AD5A-689EE6ED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8758-F9A6-44F3-9B59-2A26B412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3463-FC2C-46CA-B588-01EF4273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B15-F934-40DE-9EC1-714812D5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5DDA-8A84-4B39-9F39-FBA5E623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D76B-530A-4FBA-9BA3-BDF76C9F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536-4BA7-4BAD-AE6C-397D3466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80A-0767-495E-8FF9-659A4D93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3DB7-ECA0-4561-A560-AF85408A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5C68-4B41-4556-8F2A-5B4F34FA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a7c9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456D-7C7C-46A7-821A-7E3D4D75CE58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7a7c93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80"/>
                    </a:solidFill>
                    <a:latin typeface="Arial Black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80"/>
                  </a:solidFill>
                  <a:latin typeface="Arial Black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80"/>
                </a:solidFill>
                <a:latin typeface="Arial Black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6603-EC94-4D10-9175-D81A6363FC3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8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 Commanders 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341440" cy="2477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ecretary/Treasurer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cords keeping- PCA assign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king notes at meeting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nances raised by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ay also be involved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 a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2022480" cy="2590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dministrative Assistan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ewslett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ri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sign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int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ailin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utpost reco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eparing flyers, announcem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 advTm="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19920" y="2971800"/>
            <a:ext cx="1898640" cy="1425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Banquet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velops menu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termines cos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btains the foo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ving arrangem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vide for kitchen staff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ood serv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lean up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6095880" y="2743200"/>
          <a:ext cx="16210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743200"/>
                    <a:ext cx="16210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Uniform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ut-grown uniform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lean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end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tches replace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Uniforms could be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ld or given to other bo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3505320" cy="1737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ransportation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ponsible for arranging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ransportation &amp; driv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mp-ou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shing trip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B/SA fun day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ecoration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corates for special ev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638680" y="3124080"/>
            <a:ext cx="2492640" cy="2170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Fund raising committe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ponsible for coordinating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e fund raising effor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nacks after chu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ndy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hristmas cards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lendar sal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ar wash, paper collec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 advTm="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ctivities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ponsors at special ev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B/SA fun day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Trip to the zoo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Bunk in or lock in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Gym night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Camp-out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Fishing Trip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Pinewood derb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pecial Needs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Works one-on-one with boys who have special needs.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anguage barrier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ttention deficit disorder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physical disabilities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any other disabilities that would keep the boy from advancing to the GMA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mmittee Example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dditional are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raf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evotion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pecial ceremoni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freshmen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dopt-a-Ranger program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Do’s &amp; Don'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o’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et a commitment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gular meeting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ordinate with commande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cognize memb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oken of appreci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on’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ssign commanders duties to the PC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verload committe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rovide rigid detail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Assign too many task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781680" y="4191120"/>
            <a:ext cx="1752840" cy="19206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Royal Rangers commander is faced with not having enough time to oversee or administer all of the tasks required in the operation of a highly successful outpost.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Recognition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cognition encourages others to get involv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ertific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laqu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lower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Gift certificat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pecial recognition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 front of the church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tor participatio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What is the PC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How do I organized i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ggested assignme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ggested Committe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o’s and Don’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Recogni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Many churches have a wealth of resourc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randpar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gnificant other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 boy’s potential can be fully developed with the help of the famil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et Pastor’s approval before starting PC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3276720" cy="1541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9920" y="3352680"/>
            <a:ext cx="2743200" cy="2671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Royal Rangers ministry affects not only the boy but also his family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Parents want their children to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chieve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dvanc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be recognize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Parents want to be part of 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ir children’s lives, if 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only they were ask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819160" cy="1387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arent-Commander</a:t>
            </a:r>
            <a:br>
              <a:rPr sz="4400"/>
            </a:b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Association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PCA is a group of parents, 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uardians, grandparents or other family members who are willing to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ive tim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ive talen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ive love to boy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ve in a limited manner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be a resource for the local outpos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3352680"/>
            <a:ext cx="2971800" cy="18590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CA Organizational Meeting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dentify the areas you need help i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et Pastor’s approval for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nnounce the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nvite parents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Invite family members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tart meeting on tim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Well planned organized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tay within the time allotted for meeting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895480" cy="22100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PCA Organizational Meeting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isplay a list of task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verhead projector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lip chart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halk boar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oster boar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andout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other visual aid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o not assign commanders’ responsibilities to the PCA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209680" cy="1814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PCA Coordinator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ordinates the activities of the committe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ducts monthly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or quarterly meeting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ay be part of a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r. Commander provides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formation on scheduled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vent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72200" y="2590920"/>
            <a:ext cx="1825560" cy="2286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uggested Assignment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Vice Coordinator: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ssist the Coordinator in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rrying out his/her dut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ves as support to the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oyal Rangers Ministry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ay also be involved 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 a committe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17:59:07Z</dcterms:created>
  <dc:creator>Marvin Lemke</dc:creator>
  <dc:description/>
  <dc:language>en-US</dc:language>
  <cp:lastModifiedBy>Jonathan Trower</cp:lastModifiedBy>
  <cp:lastPrinted>1998-02-18T19:31:02Z</cp:lastPrinted>
  <dcterms:modified xsi:type="dcterms:W3CDTF">1999-07-23T20:05:04Z</dcterms:modified>
  <cp:revision>60</cp:revision>
  <dc:subject/>
  <dc:title>Royal Rangers</dc:title>
</cp:coreProperties>
</file>