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8834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92E-D279-4C67-B411-3394C21A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739-796B-4F68-9286-1FC4E79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9E5-908E-4126-A333-3DF12850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C62-F804-4DE0-AF4D-CDC30E78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8FD9-F948-4593-B115-DC7B3C2F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CD6C-70B3-4698-B70D-838DFA87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CD00-7C74-470F-BAE4-21B87A95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0252-F108-448F-B905-1F51A0E9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6FFE-A242-4388-93AA-9143A239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90B9-6606-4378-BC73-28A17DB2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277C-380C-40E4-B078-B6A16B05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522D-B6F9-4CB0-9340-5B0165EE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9602-8912-4926-948A-700E568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3EDC-F01C-4024-BBC3-46C1065B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7D8A-C5F3-4995-9B0C-A568435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B788-B7BB-4123-ABA7-95FCD4FA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65F1-8428-4F2B-9A43-5097D2D6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B6F-1948-44D2-A2A3-148AE04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822-EDEF-46AF-9306-65B1670D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028-9D83-4F99-8F0E-660F73B1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D86-1738-4E03-9017-460E6303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B8B7-350F-42CA-B915-C32F43F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93AD-D87A-4C82-9DFC-B9E4E461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E61-E073-4A66-952E-410AFA5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77FB-A52A-4E24-B571-E0678C6980F1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badi MT Condensed Light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badi MT Condensed Light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badi MT Condensed Light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badi MT Condensed Light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2234-61A9-4FA3-95DB-75C0BC22F525}" type="slidenum">
              <a:rPr b="0" lang="en-US" sz="1400" spc="-1" strike="noStrike">
                <a:solidFill>
                  <a:srgbClr val="ffffff"/>
                </a:solidFill>
                <a:latin typeface="Abadi MT Condensed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badi MT Condensed Ligh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badi MT Condensed Ligh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badi MT Condensed Ligh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badi MT Condensed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badi MT Condensed Ligh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URBAN COMMANDERS TRAINING GUID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7467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population growing 5 times faster then the total popul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 is considered the second largest “Mexican City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 Census 22.4 million Hispanic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n-American increased to 30 mill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-Pacific Islander increased to 2.8 million (40% increase)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yal Rangers ministry can successfully communicate an interest with this growing popul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we must stop stereotyping peop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, we must recognize and learn both the differences and similarities of different cultur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love their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ave come from different countries, with different experiences, for different reasons, with different expectations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the diversity, there are two strong unifying forc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cul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097280" indent="-219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lturation proces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-Americans love their culture and their historic roo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ties must be respected and underst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s respond more rapidly to African- American leadership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uned to verbal and nonverbal cu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ce of wor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must learn about each boy’s cultural background, whether African-American, Hispanic, Asian, etc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ust realize that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us is uniqu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ulture is unique 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n we can beg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ridge the cult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374184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Improving Intercultural Ministry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representation at all levels of Royal Ranger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leadershi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in areas of concer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, gangs,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national train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 working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ultural 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553080" y="3276720"/>
            <a:ext cx="2590920" cy="3009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Royal Rang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distinctly different from the rural or sub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ideas, values, disposi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general outlook on lif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haped by his environmen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ers, know you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ys, how they liv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think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y beha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53080" y="3733920"/>
            <a:ext cx="2076480" cy="259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bcbcb"/>
                </a:solidFill>
                <a:latin typeface="Arial"/>
              </a:rPr>
              <a:t>Attitudes Inner-City/Rural Boys</a:t>
            </a:r>
            <a:endParaRPr b="0" lang="en-US" sz="43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7010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p wit and short temp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 one moment &amp; fighting mad the nex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ut on the tough-guy exterio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-hard look is a form of  protec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environment labels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eek as weak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29400" y="457200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657600" y="3657240"/>
            <a:ext cx="2286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3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2827440" cy="3164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410080" y="3389400"/>
            <a:ext cx="2387880" cy="3468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card to inner-city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ong to be out-of-doo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s them to another life sty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for growth - new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ol system- teamwor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riendship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pe from the concrete jungl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05720" y="3733920"/>
            <a:ext cx="213660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2372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ministry that provides evangelism, Christian adult male role models, rewards to build self-esteem, and disciplin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6280" y="2286000"/>
            <a:ext cx="238140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ion and good male role mode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&amp; understand the c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genuine burden for urban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4419720"/>
            <a:ext cx="8534520" cy="2133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Peer Pressure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s react to peer press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negative press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positive - through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ful Royal Ranger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53224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bcbcb"/>
                </a:solidFill>
                <a:latin typeface="Arial"/>
              </a:rPr>
              <a:t>Financing Urban Royal Rangers</a:t>
            </a:r>
            <a:endParaRPr b="0" lang="en-US" sz="42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hurches in suburban/rural area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rovide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-a-Ranger”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ss boys in Royal Rangers t-shi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oys wear award ves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324480" y="4114800"/>
            <a:ext cx="2217960" cy="244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mmander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urdened heart, a commitment to ministry and a calling from God are what every urban commander needs to succeed as a Royal Rangers lead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ministry tool t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ach urban boys no ot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an offer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sel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with God’s anoint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731960" cy="2895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8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Camping Program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the last section of the book (past page 67) and read and complete pages 3 through 7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2680" y="3854520"/>
            <a:ext cx="2525760" cy="2766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312444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Section 4 </a:t>
            </a:r>
            <a:br>
              <a:rPr sz="3200"/>
            </a:b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Applying the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Royal Ranger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99"/>
                </a:solidFill>
                <a:latin typeface="Arial"/>
              </a:rPr>
              <a:t>Ministr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2" name="RR-EMBLC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276720" cy="2889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e-fold approach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get an urban area for 3-4 month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Ministry 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 children into a structure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rch setting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need to designate a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day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27920" indent="-280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involvement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2" marL="1119960" indent="-223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olve families in RR events</a:t>
            </a: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  <a:p>
            <a:pPr lvl="3" marL="1568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934320" y="3809880"/>
            <a:ext cx="183816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Geographic Considera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pment - camping, spor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p-outs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iform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hievement badg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cement trai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“values”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ching vocational ski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4343400" cy="286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bcbcb"/>
                </a:solidFill>
                <a:latin typeface="Arial"/>
              </a:rPr>
              <a:t>Applying the Royal Rangers Ministry</a:t>
            </a:r>
            <a:endParaRPr b="0" lang="en-US" sz="37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880" y="1752480"/>
            <a:ext cx="6858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 to page eight in the back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of your book,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 &amp; complete pages 8-10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45872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3428640"/>
            <a:ext cx="4952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tion 5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ngelism Beyond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hurch Wall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214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Royal Rangers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evangelistic tool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 applied correc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n be used to reach a multitude of urban boys for Christ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2357280"/>
            <a:ext cx="3048120" cy="268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object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h boys in the neighborho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foundatio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into a church sett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boys to the Royal Rangers program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e into the Kingdom of Go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716120" cy="2438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Outreach Ministry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fold approac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ool to reach boy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 they liv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place th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l churc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eavor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ch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their paren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332080" cy="30114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- gang members need more love, hand shakes, &amp; Christian influe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a place you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et regularl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activiti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attract boy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172120" y="3352680"/>
            <a:ext cx="3209760" cy="2832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pla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Pastor’s approval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yer support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backi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power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 building to meet in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438280" cy="2059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commander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go the second mil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 for meeting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area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3504960" cy="2251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40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5867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the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out flyers about program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up front with the boys -don’t make them participate in prayer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yourself well-know in neighborhoo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home visits - this is the key to succes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2160360" cy="2667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cbcbcb"/>
                </a:solidFill>
                <a:latin typeface="Arial"/>
              </a:rPr>
              <a:t>Establishing an Outreach Ministry</a:t>
            </a:r>
            <a:endParaRPr b="0" lang="en-US" sz="39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Rul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 boys with the gospel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rate into the church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through with your pl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tart something you d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lan to continue or cannot continu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248520" y="2362320"/>
            <a:ext cx="181764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324240" y="2081160"/>
          <a:ext cx="216216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4240" y="2081160"/>
                    <a:ext cx="21621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Suggested Activit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- favorite sport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on achievement badge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about camping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features (interesting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eship (Insight Group curriculum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 boys in what they know (rap)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095880" y="1752480"/>
            <a:ext cx="221004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The Urban Young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52578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, gang activity, drug abuse, illiteracy, teenage pregnancy, AIDS, pornography, single-parent homes. 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601720" cy="3048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Conditio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kids do not live in the city; they “survive“ in the city.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ecome emotional calloused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love on the mean streets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ets are hard and so are the kids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kids beco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cent victims of crime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 Problem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/growing in Christian fai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negative peer press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ake and kee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ie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and drug abus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self-wort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th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91320" y="4495680"/>
            <a:ext cx="2514600" cy="194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260280"/>
            <a:ext cx="7772400" cy="17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is quickly becoming a multicultural society. If the current conditions continue until the 21 century. The United States will beco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ion with n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al or ethni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ity.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00600" y="38098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Intercultural Ministrie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ys have the same needs: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lov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long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accepted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ec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2971800"/>
            <a:ext cx="185256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Arial"/>
              </a:rPr>
              <a:t>Urban Teens</a:t>
            </a:r>
            <a:endParaRPr b="0" lang="en-US" sz="4400" spc="-1" strike="noStrike">
              <a:solidFill>
                <a:srgbClr val="cbcbcb"/>
              </a:solidFill>
              <a:latin typeface="Abadi MT Condensed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s of interest in church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ive or dysfunctional familie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of hopelessness about the future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ng to people of other ethnic background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munity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aring adults</a:t>
            </a:r>
            <a:endParaRPr b="0" lang="en-US" sz="3200" spc="-1" strike="noStrike">
              <a:solidFill>
                <a:srgbClr val="ffffff"/>
              </a:solidFill>
              <a:latin typeface="Abadi MT Condensed Ligh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92760" y="4114800"/>
            <a:ext cx="14605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3T01:01:02Z</dcterms:created>
  <dc:creator>Marvin Lemke</dc:creator>
  <dc:description/>
  <dc:language>en-US</dc:language>
  <cp:lastModifiedBy>Jonathan Trower</cp:lastModifiedBy>
  <cp:lastPrinted>1997-10-12T10:49:28Z</cp:lastPrinted>
  <dcterms:modified xsi:type="dcterms:W3CDTF">1999-07-23T21:04:51Z</dcterms:modified>
  <cp:revision>15</cp:revision>
  <dc:subject/>
  <dc:title>  </dc:title>
</cp:coreProperties>
</file>