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8789-B261-44E7-B17F-CB4D090D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375-23E0-4DB6-9D14-7DFA258B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0264-3414-4801-8681-AD40458C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A3C-1DA1-4115-B172-75EAA17D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88A8-69B2-410B-BB73-19A81A93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6A8A-950B-409F-8A1E-FE5ABB8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1F8-3141-425A-9A6A-8455C493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48D-C0BC-42B9-BCA6-F32B3A32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AC52-74CB-4A58-AF70-B240DA1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BC1C-9218-4E44-96CB-A6C369C2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94F6-11C3-48A4-A994-EF24E48D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4CD-0664-423E-9085-11ABE5BB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1885-5B2F-4D69-840B-F0E2A77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D270-4689-4349-A48D-314858C1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D15-C777-493F-878A-3C960A8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2DB-F570-4099-B208-30BA92F0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94BC-FCDA-4EAA-9A8F-31F7FDC0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E723-76AD-4D81-AA6B-59D464F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8FE-CA8B-40EA-B57D-31F91DC7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25B-56BB-4304-85A1-E5B424D6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718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4E6C-5E28-4950-9CF4-2E064A96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947-7EE6-415C-B9DF-826F5637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586-3C4D-483D-B4D4-A9F85EC8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911-8A3F-42F7-B989-A2BABF4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2718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2102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003b7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718e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301B-B4C9-47DC-8F20-268E49223FCA}" type="slidenum">
              <a:rPr b="0" lang="en-US" sz="1400" spc="-1" strike="noStrike">
                <a:solidFill>
                  <a:srgbClr val="2718e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03b7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B9A9-A4E8-44DF-92D1-8278D99B0F3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URBAN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COMMANDERS 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TRAINING</a:t>
            </a:r>
            <a:br>
              <a:rPr sz="4400"/>
            </a:br>
            <a:r>
              <a:rPr b="1" lang="en-US" sz="4400" spc="-1" strike="noStrike">
                <a:solidFill>
                  <a:srgbClr val="1003b7"/>
                </a:solidFill>
                <a:latin typeface="Times New Roman"/>
              </a:rPr>
              <a:t>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onsequences for Breaking Rules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1st 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-   Give a reminder of the rul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Apply discipline appropriate to th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infraction, move the talker etc.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- Take a boy to the Sr. Commander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         parents or guardian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e consistent and realistic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ways pray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with your Range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72200" y="4038480"/>
            <a:ext cx="25131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Creating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a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Safe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creening of volunt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upervision of staff -- use the buddy syst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riving children to and from even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vernight activities, field trip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with boys in your home or thei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Meeting in secluded church room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r rooms without window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Camping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892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ildren need to be touched in good way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handshake, shoulder hug, gentle pat on ba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Unacceptable touch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sitting on la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ack rub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atting the buttock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kissing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268128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Fondling - oral, genita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n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Non-violent intercours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cest-rape and assaul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1654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xual Abuse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03b7"/>
                </a:solidFill>
                <a:latin typeface="Times New Roman"/>
              </a:rPr>
              <a:t>Non-touching offens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erbal stimulation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Obscene phone call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Indecent exposur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Peeping in windows or door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llowing boy to witness</a:t>
            </a:r>
            <a:br>
              <a:rPr sz="2800"/>
            </a:b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adult relations   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2967120"/>
            <a:ext cx="265608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dentification of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aring for abused/neglected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igns 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ding to disclosure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abu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3b7"/>
                </a:solidFill>
                <a:latin typeface="Times New Roman"/>
              </a:rPr>
              <a:t>report it to your Pastor firs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101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Creating a Safe Outpost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Go to the back section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of the book, read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complete pages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15 and 16.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495680" y="2819520"/>
            <a:ext cx="30146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cognition- in front of pe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izes - external &amp; internal motiv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Responsibility -age &amp; abiliti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Involvement / Participa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rust childre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28306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hallenge the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faith in kid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liments (honest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Unusual happenings - variet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eer pressure (positive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Competition  (friendly)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 secure meeting place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4114800"/>
            <a:ext cx="29718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Methods To Motivate Boy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ve - unconditional agape lov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cceptance - unconditional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Praise - honest prais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Encouragement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boys desire &amp; need it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ugs - good touche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o not invade boys’ spa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1510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ook for creative ways to discipline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quiet seat, time out, whistle, worship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Motivate boys to want to be in your program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exciting program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variety of activitie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2649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4 D’s that are blind spot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raction - an outside for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interest - something you control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comfort - irritant that distracts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03b7"/>
                </a:solidFill>
                <a:latin typeface="Times New Roman"/>
              </a:rPr>
              <a:t>Disturbance - a true annoyance</a:t>
            </a: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44197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Tips For Motivating</a:t>
            </a:r>
            <a:endParaRPr b="0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Discipline includes instruction, correction,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and encouragement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Your objective </a:t>
            </a:r>
            <a:r>
              <a:rPr b="1" lang="en-US" sz="3200" spc="-1" strike="noStrike" u="sng">
                <a:solidFill>
                  <a:srgbClr val="1003b7"/>
                </a:solidFill>
                <a:uFillTx/>
                <a:latin typeface="Times New Roman"/>
              </a:rPr>
              <a:t>is not to teach a lesson,</a:t>
            </a: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ut to teach Royal Rangers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Set guidelines to help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aintain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1320" y="3505320"/>
            <a:ext cx="2036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Discipline for Safe Activitie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ys misbehave when they are: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Bor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Frightened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eed attention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2102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Have trouble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with self-control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2895480"/>
            <a:ext cx="28954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ample Rules for Rangers</a:t>
            </a:r>
            <a:endParaRPr b="0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Listen when the instructor is talking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No chewing gum or candy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2102b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Keep your hands</a:t>
            </a: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to yourself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003b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1003b7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28004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22:17:12Z</dcterms:created>
  <dc:creator>Marvin Lemke</dc:creator>
  <dc:description/>
  <dc:language>en-US</dc:language>
  <cp:lastModifiedBy>Jonathan Trower</cp:lastModifiedBy>
  <dcterms:modified xsi:type="dcterms:W3CDTF">1999-07-23T21:12:51Z</dcterms:modified>
  <cp:revision>19</cp:revision>
  <dc:subject/>
  <dc:title>Methods To Motivate Boys</dc:title>
</cp:coreProperties>
</file>