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184-7405-4919-A9E6-9DDA72C6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FD9-7513-4FA0-8A1C-6DC18BD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768-4945-4A08-884E-7667CF39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925E-094E-4F1A-9177-CC3FEC00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4260-5095-4ECC-92E0-E8260B38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600C-E6D7-477F-8408-80D61B4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D852-F433-42C1-A034-77433B2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A6D8-7E94-47C5-8497-B7B4C352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4D37-DAE4-423C-98A7-CAFEBDF8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D68F-A853-45AE-B32A-47D618F4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A0A71-3712-443D-8F9A-C06306F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FBA7-3D49-4240-A695-36D43702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BBD5-5767-44C2-BFB6-AB0C5157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9B32-B357-4F1F-8CC3-F734AA3E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92F6-44B0-4181-8488-A7B58476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893B-CE86-4FF6-9319-3F75505D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1D80-966B-4F7D-9709-327B23A3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8708-F577-4344-8825-464D8730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321-82EE-4A83-8B14-5BE6DAA8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235-810D-452C-A119-7E43007B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27C-AADA-45D3-B07C-994105C5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9A16-B759-48AF-B681-E1E03AAF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A4B-8E15-440D-9820-0F28B99A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F22-F1B1-42E2-9929-82DCF16A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99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D1CA-0AF1-41D6-8573-12B89A5C40D6}" type="slidenum">
              <a:rPr b="0" lang="en-US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533520" y="-609480"/>
            <a:ext cx="9144000" cy="6858000"/>
            <a:chOff x="-533520" y="-60948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1066680" y="-609480"/>
              <a:ext cx="7543800" cy="68580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533520" y="-609480"/>
              <a:ext cx="1600200" cy="685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533520" y="-60948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EF42-D814-4E51-8F55-6CFEC33910E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2154240" cy="2514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live in the inner city, you know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o well the problems the boys face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any young people are bound b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-controlling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as a leader will b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ced with dealing with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ese problems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3352680"/>
            <a:ext cx="1920600" cy="32004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077320" y="1447920"/>
            <a:ext cx="645840" cy="3421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Useful Ter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Chemical dependenc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Abuse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Idolatry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74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Life-controlling problem</a:t>
            </a:r>
            <a:endParaRPr b="0" lang="en-US" sz="3100" spc="-1" strike="noStrike">
              <a:solidFill>
                <a:srgbClr val="000066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ything that has control ov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your life that’s displeasing to Go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rugs, pornography, work-a-holic, anger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gossiping, cursing 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01680" indent="-301680">
              <a:spcBef>
                <a:spcPts val="7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ahoma"/>
              </a:rPr>
              <a:t>Home life breeds life-controlling problems</a:t>
            </a:r>
            <a:endParaRPr b="0" lang="en-US" sz="3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48520" y="4592520"/>
            <a:ext cx="2020680" cy="2265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use drugs for two reasons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decide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y cannot decide not t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me environment effects decis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ccepted by pe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be co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emical Dependency Escape Mechanism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emicals are dependabl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lways providing relief from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young people depend on them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umbs th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ople avoid the pa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rough use of chemic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o need to look for other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ways to solve problem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129528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The Addiction Proces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periment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User learns how to control emot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lated emotions-decrease p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armful dependency/regular basi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o feel norma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60960" indent="-2541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aintai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 -- turns into delu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lusion -- user thinks there is no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705720" y="4267080"/>
            <a:ext cx="2081160" cy="23716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ristian 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ortant part of minist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 all Christian leaders a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ifted in this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unseling isn’t e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effective counseling skil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careful and prayerfu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743200" cy="2292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ribut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atanic involve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center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nforgiv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judi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friendli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ailure to recogniz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fferenc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228744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ult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2895480" cy="1928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oble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flict patter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ack of commitme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mmunication fail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irrita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8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676520" cy="30481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arting with the basic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anging the individu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deling good relationshi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aching conflict resolu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rifying goa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conciling differenc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0" y="5245200"/>
            <a:ext cx="1828800" cy="1612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terpersonal Relationships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: be sympathetic, kind, lo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l. 5:22, Eph. 4:32, Col. 3:13, 14, 1 Pet. 3:8-4:8, I John 3:11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o not: be proud or arrog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om. 12:16, 1 Corth. 13:4, 2 Tim. 3:1, 2, 4, Jude 16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324480" y="685800"/>
            <a:ext cx="2487600" cy="2293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Resolving Conflict(s)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pect both par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 both posi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courage open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cus on things that can be chang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eep conflict from escalat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mmarize frequentl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ditional mediation if necessar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ng Poor Interpersonal Relationship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aily walk with Jesu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ayer and medit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vine living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moval of bitter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erstanding conflic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ffective communi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duction, avoidance or elimination of conflict-producing 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3276720" cy="2700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dely accep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equently tolerat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lamorized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elev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dverti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 was created by Go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volves sinful behavi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hinking- lus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ful talk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stricts freed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165276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rom Marriag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5880" y="31240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Causes 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imul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ocial atmosphe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xual convenienc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beral val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appropriate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ternal pressur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urios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controlled fantas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Apart From Marriage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ok at your own attitude &amp;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sten with sensitiv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amine the boy’s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sider your counseling goa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with practical issu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elp boy find forgive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imulate sound attitud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 alert for the need for referr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689200" cy="19177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x before Marriag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Prevention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sex educa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ctual informa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Bible based princip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honest teaching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 good tas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viding realistic alternativ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hristian meaningful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72200" y="990720"/>
            <a:ext cx="2971800" cy="2585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Violence 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ppears to be increasing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isconcept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ask for i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s like to be mistreat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ape victims could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vent the attack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2720" y="3733920"/>
            <a:ext cx="2611440" cy="202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 lifestyle, dress, forms of induction, codes vary from city to city and neighborhood to neighborhood. 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ontact your local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uthorities for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formation about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angs in your city.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943600" y="2590920"/>
            <a:ext cx="2514600" cy="26272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Violence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nd Abuse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ab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bserve in paren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ersonal insecurit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mpulsive behavio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ow self-concept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exual inadequacy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gain control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124440" cy="19926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use stage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mpact stage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shock &amp; disbelief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i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ocess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xperience no longer suppress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al stage-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victim no longer controlled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hild Abuse Symptom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duly, fearful of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poorly groom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undernourish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explained injuries or sick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is withdrawn or depress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hild clings to adul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isinterested - unable to concentrat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Highly demanding, rigid paren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ause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ackground and family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tress and significant los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ed help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sychological-cognitive caus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n and guil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e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77120" y="2819520"/>
            <a:ext cx="1385640" cy="2057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Effect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Unhappiness and inefficiency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hysical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ow self-esteem   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ithdrawa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lf-destructive action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ngry temper outburst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29400" y="1295280"/>
            <a:ext cx="2057400" cy="18259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igns Of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lk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lan for killing oneself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eeling of hope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Guilt feelings-worthless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nvironmental str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xcessive concerns about illnes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endent &amp; dissatisfied at same ti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Knowledge of methods of suicid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Signs Of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8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f you suspect one of your Rangers is contemplating suicide, ensure that the boy’s parent(s) or guardian(s) are notified.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tify your pastor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274320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1768320" cy="2286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and Depression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pressed people are ofte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assive, nonverbal, poorly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motivated, with what’s the use attitu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nd the psychological and spiritual causes that produced the sympto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ng depression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rust in God, find suppor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to handle anger &amp; guil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-2455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learn coping techniqu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2971800"/>
            <a:ext cx="1824120" cy="2666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ection 9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Counseling Boy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2590920"/>
            <a:ext cx="29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ad and complete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pages 19-2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504120" y="3048120"/>
            <a:ext cx="1915920" cy="236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Education not importan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More boys involved than girl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hy boys join ga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neighborhood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amily trad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eer pressur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otec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-2257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fend the neighborhoo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485720" cy="1819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jump in - age 11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verage gangbanger - age 17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Varied hair &amp; dress styl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rom dysfunctional famil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lcohol &amp; drugs big probl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rive-by shooting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o respect for oth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Prevention is the name of the gam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867280" y="3657600"/>
            <a:ext cx="2062440" cy="2362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Facts About Gangs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earn traditions/history of gang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peak to the advocates in the area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Obtain experience- talk to authoritie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ead book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tch videos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ecome streetwise befo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you begin communicating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o gang member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631880" cy="2590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Induction Process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Want-a-b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agger with graffi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-in (rules &amp; purposes)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age 5-10 some age 11-13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Initiation Steps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rive-by shootings, other crim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Ranking syste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aimers, soldiers, gang leader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1144440" cy="22096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Jumping Out of a Gang</a:t>
            </a: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Never tell a boy to jump ou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Refer him to author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Jump out needs to be well planned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Lifestyle, hairstyle needs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oy remains in the hous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ctivities need to chang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involved in school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other activiti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2475000"/>
            <a:ext cx="2590560" cy="2317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About Gang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1905120"/>
            <a:ext cx="373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o to the back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section of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the book, an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complete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pages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 17 and 18.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3T13:08:14Z</dcterms:created>
  <dc:creator>Marvin Lemke</dc:creator>
  <dc:description/>
  <dc:language>en-US</dc:language>
  <cp:lastModifiedBy>Jonathan Trower</cp:lastModifiedBy>
  <cp:lastPrinted>1997-11-10T20:03:36Z</cp:lastPrinted>
  <dcterms:modified xsi:type="dcterms:W3CDTF">1999-07-23T21:30:45Z</dcterms:modified>
  <cp:revision>51</cp:revision>
  <dc:subject/>
  <dc:title>Section 8 </dc:title>
</cp:coreProperties>
</file>