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E85A-90F0-4CE4-BF18-2AD02C0E8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3372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F64E-09F3-4B7B-A617-79DF9098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1368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5416-A55A-4E30-9A3C-709312CC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9768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6200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133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29768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6200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A468-7FAC-4172-AE46-ADB696C6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1625-7E40-4DAC-9C3F-549990BC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5945-F06A-4B50-B2FB-EB368E0A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B4FB-450A-4866-BC81-0E0AD994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9F21-BB78-4174-A5DE-BEC84636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2A69-5D71-492B-92CC-CA8D20AE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F0EC-03F0-49EC-9F7E-6C027D7B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9EBD-102B-416D-83BF-14178810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AEE8-496B-4B98-82CE-B5063590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1368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FD6B-0010-4326-9EEC-FB00AAB6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D64D-AD4E-4CEB-8957-89A96D21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13372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7DD4-6215-4045-88C6-9CDAFD47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1368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6071-9C40-4180-9BC4-CAA0AE8B4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9768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6200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133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29768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6200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F048-8A54-4BBA-AFE3-07623193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4B7E-8466-457E-8387-2E17E7B2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7973-4EB1-4F72-A89D-FEE0BCA7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258D-4353-4CF9-9436-22DF0D7A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866F-62AF-4B65-B1DB-A427D1BA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9D2D-CD91-4D13-8D7E-F4359ECA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1368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1CE9-FC54-4C09-B663-09FDCB3E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91D8-2E04-4C21-B477-C1EC62CB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66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66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4931-03D8-4482-BA4B-E72AFAB803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416A-12A9-46FB-8D58-F5E80C296C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660033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660033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660033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66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660033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6600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URBAN COMMANDERS </a:t>
            </a:r>
            <a:br>
              <a:rPr sz="4000"/>
            </a:b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TRAINING GUIDE</a:t>
            </a: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715000" y="2362320"/>
            <a:ext cx="2521080" cy="25207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Section 10</a:t>
            </a: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 Black"/>
              </a:rPr>
              <a:t>Raising Funds </a:t>
            </a: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 Black"/>
              </a:rPr>
              <a:t>And The</a:t>
            </a: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 Black"/>
              </a:rPr>
              <a:t>Adopt-an-Outpost Program</a:t>
            </a: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162920" y="2666880"/>
            <a:ext cx="1365120" cy="17528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Adopt-an-Outpost</a:t>
            </a: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Goals of adopted outpost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train pastor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train leaders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provide curriculum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coordinate with district commander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A key to developing a viable </a:t>
            </a:r>
            <a:br>
              <a:rPr sz="3200"/>
            </a:b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outpost is training leaders </a:t>
            </a:r>
            <a:br>
              <a:rPr sz="3200"/>
            </a:b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and pastors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553080" y="1905120"/>
            <a:ext cx="1436760" cy="2286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Adopt-an-Outpost</a:t>
            </a: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Benefits: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reaching boys for Christ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reaching families for Christ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establishing Christian boys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strengthening the leaders</a:t>
            </a:r>
            <a:br>
              <a:rPr sz="2800"/>
            </a:b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enabling them to lead boys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172200" y="3200400"/>
            <a:ext cx="2282760" cy="2590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Adopt-an-Outpost</a:t>
            </a: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What an adopted church should receive: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LTC training for pastor and 2 leaders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Free LTC material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Chartering for one year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Royal Rangers posters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Outpost record book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Bible studies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Devotional handbook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District Adopt-an-Outpost</a:t>
            </a: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Approval of District Superintendent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Coordination of District Commander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District Commander approves projects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District PR Coordinator promotes program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District Training Coordinator trains the leaders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Follow the district procedures   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248520" y="3581280"/>
            <a:ext cx="2438280" cy="2286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Adopt-an-Outpost</a:t>
            </a: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 Black"/>
              </a:rPr>
              <a:t>Read and complete  </a:t>
            </a: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 Black"/>
              </a:rPr>
              <a:t>Pages 25 &amp; 26</a:t>
            </a: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943600" y="3429000"/>
            <a:ext cx="2133720" cy="18334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Adopt-an-Outpost</a:t>
            </a: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How can Area, Section &amp;</a:t>
            </a:r>
            <a:br>
              <a:rPr sz="3200"/>
            </a:br>
            <a:r>
              <a:rPr b="0" lang="en-US" sz="3200" spc="-1" strike="noStrike">
                <a:solidFill>
                  <a:srgbClr val="660033"/>
                </a:solidFill>
                <a:latin typeface="Tahoma"/>
              </a:rPr>
              <a:t>District help!!</a:t>
            </a:r>
            <a:endParaRPr b="0" lang="en-US" sz="32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Urban Pow-Wows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Other Royal Rangers activities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Visit the urban outpost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Prayer Task Force trips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ahoma"/>
              </a:rPr>
              <a:t>Teen Challenge programs</a:t>
            </a:r>
            <a:endParaRPr b="0" lang="en-US" sz="2800" spc="-1" strike="noStrike">
              <a:solidFill>
                <a:srgbClr val="6600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 Black"/>
              </a:rPr>
              <a:t>TEST</a:t>
            </a:r>
            <a:endParaRPr b="0" lang="en-US" sz="4000" spc="-1" strike="noStrike">
              <a:solidFill>
                <a:srgbClr val="292929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 Black"/>
              </a:rPr>
              <a:t>Complete pages 27-31</a:t>
            </a: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 Black"/>
              </a:rPr>
              <a:t>open book test.</a:t>
            </a:r>
            <a:endParaRPr b="0" lang="en-US" sz="3200" spc="-1" strike="noStrike">
              <a:solidFill>
                <a:srgbClr val="660033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1T02:59:00Z</dcterms:created>
  <dc:creator>Marvin Lemke</dc:creator>
  <dc:description/>
  <dc:language>en-US</dc:language>
  <cp:lastModifiedBy>Jonathan Trower</cp:lastModifiedBy>
  <dcterms:modified xsi:type="dcterms:W3CDTF">1999-07-23T22:06:21Z</dcterms:modified>
  <cp:revision>14</cp:revision>
  <dc:subject/>
  <dc:title>Section 10</dc:title>
</cp:coreProperties>
</file>