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30.wmf" ContentType="image/x-wmf"/>
  <Override PartName="/ppt/media/image8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2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93D-521E-47FB-9E05-46564CCC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014-C4B4-4AB3-9940-1139289E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D01-4150-4CFD-B90E-0E8C1B21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590-F479-49C7-821B-7666B49B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17CA-3C34-44E8-89CE-5983450A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D1D9-9335-4539-964E-676857A5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9685-4D22-4B4C-914E-F260437C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76A5-AD5C-4CF3-8B60-C5196066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0047-1496-4C6A-81DF-DECC0C8D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AED4-B830-4314-B2ED-D3ECAB10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2F60-4485-4D4E-8166-C809528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18E-20A3-4645-9579-F7ED2501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2454-A688-4821-9F48-10E1D846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8595-6475-4061-A324-F6364793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F358-0553-4EBE-9CB7-32C2A06B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A0EF-8906-47DA-886C-A47C1D92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861F-4882-4DA1-8433-BFFDBBD5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4F9-927A-46BA-A74B-F7B2EBA0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7AB-F2D8-4028-A6C7-26CEFD37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81C-7144-4E33-A680-8A9F37AA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54C-FF21-45F5-9B70-A7985267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731-0989-4EE5-B2FD-F145E054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891-279F-4033-9AD1-D05BC87C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EFF-C97C-4DE4-87D0-BD868BEE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9719-CA1B-4F60-BAD6-73768535BB3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3995-9D40-40AB-BB49-4A8A2B724FA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rremblc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7.wmf"/><Relationship Id="rId11" Type="http://schemas.openxmlformats.org/officeDocument/2006/relationships/image" Target="../media/image28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ecff"/>
                </a:solidFill>
                <a:latin typeface="Times New Roman"/>
              </a:rPr>
              <a:t>Royal Rangers</a:t>
            </a:r>
            <a:br>
              <a:rPr sz="4200"/>
            </a:br>
            <a:r>
              <a:rPr b="0" lang="en-US" sz="4200" spc="-1" strike="noStrike">
                <a:solidFill>
                  <a:srgbClr val="ccecff"/>
                </a:solidFill>
                <a:latin typeface="Times New Roman"/>
              </a:rPr>
              <a:t>B/SA Leadership Training Course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tion II: Understanding and Counseling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 and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 boy the opportunity to receive Jesus into his he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your breath sweet with gum, min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r Bible or New Testament ready to use at every meeting and ou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are a born-again Christi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have allowed the Holy Spirit to help you master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ce, push, or pressure a boy into accepting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more than one adult talking to the boy about Christ at one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ow to Lead a Boy to Chris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loves us so much that he wants us to live with him in heaven (John 3:16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0235007" descr=""/>
          <p:cNvPicPr/>
          <p:nvPr/>
        </p:nvPicPr>
        <p:blipFill>
          <a:blip r:embed="rId1"/>
          <a:stretch/>
        </p:blipFill>
        <p:spPr>
          <a:xfrm>
            <a:off x="3154320" y="1709640"/>
            <a:ext cx="3475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all do wrong things. God’s word for wrong is si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will not let sin come and live with Him in hea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matter how how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rd we try, we ca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be good enough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live with G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37080" y="3581280"/>
            <a:ext cx="3706920" cy="2862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said that wrong doers must be punish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never did anything wrong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took the blame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died on the cross as punishment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took the punishment for us. (Romans 6:23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71600" y="3733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we are really sorry for our wrong-doings and ask Jesus to forgive us, God will forgive us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we truly mean this, we will be in God’s family (John 1:12; Revelation 3:20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RELIG093" descr=""/>
          <p:cNvPicPr/>
          <p:nvPr/>
        </p:nvPicPr>
        <p:blipFill>
          <a:blip r:embed="rId1"/>
          <a:stretch/>
        </p:blipFill>
        <p:spPr>
          <a:xfrm>
            <a:off x="3070080" y="304920"/>
            <a:ext cx="3002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I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alvation Pra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, I know I have done bad things. I am sorry for the wrong that I did. Thank You for sending Jesus to take my punishment. I want Jesus’ punishment to count for me. Make me Your child. Amen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RAYHNDS" descr=""/>
          <p:cNvPicPr/>
          <p:nvPr/>
        </p:nvPicPr>
        <p:blipFill>
          <a:blip r:embed="rId1"/>
          <a:stretch/>
        </p:blipFill>
        <p:spPr>
          <a:xfrm>
            <a:off x="4010040" y="1600200"/>
            <a:ext cx="1631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II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ssurance of Salv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iew and quiz the boy on what he has  d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rify and assure him that God has done His par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that being a Christian is not a matter of feeling but the promise of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Stud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ppl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 book t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6 Bible Study Less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V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to the boy how to grow spiritual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how to talk to God in prayer             (John 16:23-27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read the Bible. Give him a New Testa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tell others about Jesus by witnessing (Acts 1:8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attend Sunday school and church faithfully ( Hebrews 10:25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05120" y="16002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Time to practice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e the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sit him in his h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Scripture memor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ture him spiritu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d a personal relationship with hi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know he is loved when he is good and naugh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ins sense of security when he knows he is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feeling of belonging which gives him a sense of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impor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feel important to others to develop self-confid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aves adventure and fun with boys his own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portunity for develo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discover talents &amp; skills for sense of achie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uid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rules and code of conduct which gives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ristian li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given the opportunity to accept Chr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-1828800" y="2209680"/>
          <a:ext cx="5707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2209680"/>
                    <a:ext cx="570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ngs to Consid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clearly told your Rangers what is expected of them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explained the reason for each rule of conduc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the rules of conduct just and necessa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you expecting perfection?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0" y="4648320"/>
            <a:ext cx="2057400" cy="1981080"/>
            <a:chOff x="6858000" y="4648320"/>
            <a:chExt cx="2057400" cy="19810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6858000" y="46483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200720" y="4916520"/>
              <a:ext cx="96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54e"/>
                  </a:solidFill>
                  <a:latin typeface="Jester"/>
                </a:rPr>
                <a:t>RUL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prepar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do’s and don’t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How to lead a boy to Christ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The major needs of boy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ealing with problem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ersonal counseling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Child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rug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than 90% of bad conduct is caused by one of three thing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1192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al with the boy personally. Do not humiliate him in front of the rest of the grou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know you still like him, even though he has been unru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eal to the boy’s pride. Name some of his good qua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express himself. Listen, and try to understand what the boy is telling yo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ompare him with other boys. This could cause resentment and jealous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the use of threats or shame. These seldom solve any proble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firm when dealing with problems but be sure to show love and understa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sure stealing is involve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boys claim theft instead of admit lo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make a big issue of thef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ietly investigate and involve as few people as poss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ect the rights of boy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oy’s person and property should not be searched without evide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accuse a boy of stealing without ironclad evidence. A false accusation can hurt him for years to co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guilt is established deal with the matter between you and the bo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he prope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with the boy and encourage him to pray for forgivene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Ly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tell lies to get attention, to cover up failure, to get out of trouble, and to protect oth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ing should be exposed; boys must learn that truth pays and the consequence of a lie is worse than telling the truth initial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boy is suspected of lying, gather the facts, and then confront the boy with the facts. Counsel the boy and pray with hi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Vandalis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Malicious destruction of property is caused by a desire for thrills, thoughtlessness, a dare, or revenge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cannot be tolerated among Royal Ranger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vention is better than cure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hasize respect for the property of others at meetings, hikes, camp-out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If malicious destruction of property occurs, counsel with the boy(s), pray with him, and insure that the property is replaced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ip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n be defined as “the making of disciples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involves the process of guidance, encouragement, correction, and l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rries the message, “I love you,” whil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unish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veys the attitude of getting e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7410600" y="1825560"/>
          <a:ext cx="108576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0600" y="1825560"/>
                    <a:ext cx="108576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comfort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ommander controll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ables and chairs the right siz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temperature comforta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attractive and clea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he rooms suitable for your age group and activit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415880" cy="1413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rac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outside sour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distractions are uncontroll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ople no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al distra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distractions with a better location or improved seating arrang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 1998 Revised Ed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ckaroos Leaders Manu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ight Arrows Leaders Manu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43800" y="2438280"/>
            <a:ext cx="1042920" cy="1443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7800" y="518148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17" name="bsaltc" descr=""/>
          <p:cNvPicPr/>
          <p:nvPr/>
        </p:nvPicPr>
        <p:blipFill>
          <a:blip r:embed="rId3"/>
          <a:stretch/>
        </p:blipFill>
        <p:spPr>
          <a:xfrm>
            <a:off x="7162920" y="4191120"/>
            <a:ext cx="173484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520040" y="1673280"/>
          <a:ext cx="113184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0040" y="1673280"/>
                    <a:ext cx="11318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Boredom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poor instruc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husiasm, planning, preparation, and good teaching methods are essential for making your class exci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 to the comprehension of the age level of your bo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element of play to teach your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urbanc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the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ldren who continually disturb the class lack self-control and understanding and should be lovingly disciplined and gui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ersonal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 relaxed atmosp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the boy feel at ease with a pleasant greeting and sm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 good listen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good counselor will encourage the boy to express him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worry about periods of si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is most likely thinking or trying to put his feelings into wo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ch for nonverbal commun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ook in his eyes, facial expressions,   posture, and ges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express sho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a boy will test your reactions with a shocking statement before telling you his real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riticize o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oy probably realizes his mistake, he needs understan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giving adv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should try to help the boy discover for himself what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tain confid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guilty of sharing confidential information with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845480" y="1687680"/>
            <a:ext cx="739800" cy="1868400"/>
            <a:chOff x="7845480" y="1687680"/>
            <a:chExt cx="739800" cy="1868400"/>
          </a:xfrm>
        </p:grpSpPr>
        <p:grpSp>
          <p:nvGrpSpPr>
            <p:cNvPr id="227" name=""/>
            <p:cNvGrpSpPr/>
            <p:nvPr/>
          </p:nvGrpSpPr>
          <p:grpSpPr>
            <a:xfrm>
              <a:off x="7845480" y="1687680"/>
              <a:ext cx="739800" cy="1868400"/>
              <a:chOff x="7845480" y="1687680"/>
              <a:chExt cx="739800" cy="1868400"/>
            </a:xfrm>
          </p:grpSpPr>
          <p:graphicFrame>
            <p:nvGraphicFramePr>
              <p:cNvPr id="228" name=""/>
              <p:cNvGraphicFramePr/>
              <p:nvPr/>
            </p:nvGraphicFramePr>
            <p:xfrm>
              <a:off x="7845480" y="1687680"/>
              <a:ext cx="739800" cy="1868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845480" y="1687680"/>
                        <a:ext cx="739800" cy="186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30" name=""/>
              <p:cNvGrpSpPr/>
              <p:nvPr/>
            </p:nvGrpSpPr>
            <p:grpSpPr>
              <a:xfrm>
                <a:off x="7883640" y="2112840"/>
                <a:ext cx="114480" cy="71640"/>
                <a:chOff x="7883640" y="2112840"/>
                <a:chExt cx="114480" cy="7164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7889760" y="2112840"/>
                  <a:ext cx="100080" cy="66960"/>
                  <a:chOff x="7889760" y="2112840"/>
                  <a:chExt cx="100080" cy="66960"/>
                </a:xfrm>
              </p:grpSpPr>
              <p:graphicFrame>
                <p:nvGraphicFramePr>
                  <p:cNvPr id="232" name=""/>
                  <p:cNvGraphicFramePr/>
                  <p:nvPr/>
                </p:nvGraphicFramePr>
                <p:xfrm>
                  <a:off x="7889760" y="2112840"/>
                  <a:ext cx="100080" cy="669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33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7889760" y="2112840"/>
                            <a:ext cx="100080" cy="66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910640" y="2151000"/>
                    <a:ext cx="60120" cy="11160"/>
                    <a:chOff x="7910640" y="2151000"/>
                    <a:chExt cx="60120" cy="111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958160" y="2151000"/>
                      <a:ext cx="1260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910640" y="2151000"/>
                      <a:ext cx="1404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934400" y="2151000"/>
                      <a:ext cx="1116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83640" y="2133720"/>
                  <a:ext cx="114480" cy="50760"/>
                  <a:chOff x="7883640" y="2133720"/>
                  <a:chExt cx="114480" cy="507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790560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0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88364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2792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6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7989840" y="2174760"/>
                <a:ext cx="217440" cy="50760"/>
                <a:chOff x="7989840" y="2174760"/>
                <a:chExt cx="217440" cy="50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020080" y="2189160"/>
                  <a:ext cx="119160" cy="15840"/>
                </a:xfrm>
                <a:prstGeom prst="rect">
                  <a:avLst/>
                </a:prstGeom>
                <a:solidFill>
                  <a:srgbClr val="006699"/>
                </a:soli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89840" y="2174760"/>
                  <a:ext cx="2174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eaeaea"/>
                      </a:solidFill>
                      <a:latin typeface="Arial"/>
                    </a:rPr>
                    <a:t>ROYAL RANGERS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70720" y="2098800"/>
                <a:ext cx="57240" cy="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"/>
              <p:cNvGrpSpPr/>
              <p:nvPr/>
            </p:nvGrpSpPr>
            <p:grpSpPr>
              <a:xfrm>
                <a:off x="8229600" y="2174760"/>
                <a:ext cx="201960" cy="65160"/>
                <a:chOff x="8229600" y="2174760"/>
                <a:chExt cx="201960" cy="65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253360" y="2187720"/>
                  <a:ext cx="106560" cy="19080"/>
                  <a:chOff x="8253360" y="2187720"/>
                  <a:chExt cx="106560" cy="19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8253360" y="2187720"/>
                    <a:ext cx="106560" cy="19080"/>
                  </a:xfrm>
                  <a:prstGeom prst="rect">
                    <a:avLst/>
                  </a:prstGeom>
                  <a:solidFill>
                    <a:srgbClr val="eaeaea"/>
                  </a:solidFill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8258040" y="219564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8307360" y="2189160"/>
                    <a:ext cx="0" cy="1260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8229600" y="2174760"/>
                  <a:ext cx="15696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ORDINAT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229600" y="2189160"/>
                  <a:ext cx="158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ORGANIZATION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292240" y="2174760"/>
                  <a:ext cx="1220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AMPING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291160" y="2187720"/>
                  <a:ext cx="140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0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UNSEL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4760" y="2135160"/>
                <a:ext cx="25200" cy="33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8247240" y="2212920"/>
                <a:ext cx="117360" cy="76320"/>
                <a:chOff x="8247240" y="2212920"/>
                <a:chExt cx="117360" cy="76320"/>
              </a:xfrm>
            </p:grpSpPr>
            <p:pic>
              <p:nvPicPr>
                <p:cNvPr id="25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28828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8" name=""/>
                <p:cNvGrpSpPr/>
                <p:nvPr/>
              </p:nvGrpSpPr>
              <p:grpSpPr>
                <a:xfrm>
                  <a:off x="8247240" y="2212920"/>
                  <a:ext cx="37800" cy="76320"/>
                  <a:chOff x="8247240" y="2212920"/>
                  <a:chExt cx="37800" cy="7632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47240" y="2212920"/>
                    <a:ext cx="378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aphicFrame>
                <p:nvGraphicFramePr>
                  <p:cNvPr id="260" name=""/>
                  <p:cNvGraphicFramePr/>
                  <p:nvPr/>
                </p:nvGraphicFramePr>
                <p:xfrm>
                  <a:off x="8255160" y="2260440"/>
                  <a:ext cx="21960" cy="1620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261" name="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8255160" y="2260440"/>
                            <a:ext cx="21960" cy="16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pic>
              <p:nvPicPr>
                <p:cNvPr id="26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32644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3" name=""/>
            <p:cNvSpPr/>
            <p:nvPr/>
          </p:nvSpPr>
          <p:spPr>
            <a:xfrm flipV="1">
              <a:off x="8182080" y="265572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182080" y="2851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7989840" y="2451240"/>
            <a:ext cx="274680" cy="74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89840" y="2451240"/>
                      <a:ext cx="274680" cy="7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od commander-boy relation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based on love and resp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emendous aid in good group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understanding of what is exp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it clear that you expect group co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fair but firm in your expect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f-discipline on the part of each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llenge each boy to do his part to keep order 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ing atten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wing resp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eying his lead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a well-planned progr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y group control problems are caused by boredom and lack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ayerfully plan ah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350040" y="3971880"/>
          <a:ext cx="165240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3971880"/>
                    <a:ext cx="16524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A Good Group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ussion Will Accomplis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leader the ideal opportunity to emphasiz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 tra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attitu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ide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boys a chance t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nd off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t in their “two cents worth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and outline your subject in adv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in mind the goals you want to accompli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the group feel 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 a feeling of informality dur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one a chance to tal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 out the shy boy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ggressive boys from monopoliz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good hum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let discussion get he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s views may diff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the discussion mo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questions which relate to 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on the sub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and restate purpose of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reen your lea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view all applicants and first-year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workers should fill out the “Application for Children/Youth Work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y applicant’s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each reference/document each cont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the minister of each church the applicant has worked 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“application” and all records on file in secure/confidential pl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job descriptions for comman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arameters for each leader for which they are responsible and accoun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procedures and policies on proper conduct of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rocedures &amp; policies on corporal punishment, outpost discipline, dismissal ac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ers must abide by these procedures &amp; polici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ire two adult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or more responsible adults should be present at all RR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rger activities may require more than two lea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one-on-on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ug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acts About Alcohol and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ther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ng people in grades 7-12 face more exposure to drugs than in earlier gr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re than commanders faced at that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ug exposure can begin in elementary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are exposed to a wide variety of drugs, including tobacco, alcohol, marijuana, cocaine, and inhala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474920" cy="11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228600" y="3048120"/>
          <a:ext cx="1447920" cy="33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8120"/>
                    <a:ext cx="144792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identify the various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hort- and long-term effects of drugs, including addiction and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experimenting with drugs is using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addiction affects individuals and their fami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5257800"/>
          <a:ext cx="1550880" cy="12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257800"/>
                    <a:ext cx="155088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drug use is related to certain diseases such as AIDS, birth defec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combinations of drugs can be fa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the effects of drugs vary from person to per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steroid use can damage the body and mi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Drug U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session of drugs or drug parapherna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 with drug culture through clothing, jokes, or convers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gns of physical deteri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matic changes i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ool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s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62720" y="4114800"/>
          <a:ext cx="33512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114800"/>
                    <a:ext cx="33512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en is a boy old enough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?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43400" y="2057400"/>
          <a:ext cx="16527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1652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4038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HE IS READ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cere questions about the death of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ngering near after devotion, Bible study, prayer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e to a particular les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tellectual comprehension of the salvation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ncern and conviction of s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96080" y="3124080"/>
          <a:ext cx="1447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124080"/>
                    <a:ext cx="1447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Readines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boys must be born ag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God wants them all to be born again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the Holy Spirit will convict and convert sin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you were commissioned to spread th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001000" y="2819520"/>
            <a:ext cx="837720" cy="847080"/>
            <a:chOff x="8001000" y="2819520"/>
            <a:chExt cx="837720" cy="8470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001000" y="2819520"/>
              <a:ext cx="837720" cy="84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70920" y="3064680"/>
              <a:ext cx="87480" cy="65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79200" y="3034440"/>
              <a:ext cx="128880" cy="691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28880" y="3147480"/>
              <a:ext cx="40680" cy="54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9320" y="3121200"/>
              <a:ext cx="91800" cy="38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each day for guidance of the Holy Spir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ize soul winning scrip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 scripture verses in your 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, practice,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391520" y="4724280"/>
          <a:ext cx="13428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724280"/>
                    <a:ext cx="1342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00:53:28Z</dcterms:created>
  <dc:creator>Jonathan Trower</dc:creator>
  <dc:description/>
  <dc:language>en-US</dc:language>
  <cp:lastModifiedBy>Jonathan Trower</cp:lastModifiedBy>
  <dcterms:modified xsi:type="dcterms:W3CDTF">1999-07-26T17:05:31Z</dcterms:modified>
  <cp:revision>19</cp:revision>
  <dc:subject/>
  <dc:title>No Slide Title</dc:title>
</cp:coreProperties>
</file>