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1907-86D3-4E46-BB17-71E2640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30DC-264F-4D63-8C9D-A886E5C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8997-902B-4F22-B104-07A09153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7601-8A26-47C6-AC16-7AA954C5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309-0FA5-440F-96D7-F9B02FE4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B010-5B04-429A-A8E8-EAC639F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121-1CEC-4029-9758-990D4795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E5D8-0094-41B7-8678-29F1D288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88BD-6278-4ED3-B7E9-23DB469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87F0-0B2F-4226-B09D-BDFC3BF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519A-56ED-4616-B2AC-B5E114B4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F26-60EC-499E-9240-6789130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443C-912E-4B4B-9D4D-7FDA16B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030-0228-4CCF-B10E-8D43F03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2A0E-4C24-476F-8ECE-AE5D810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AA6-B7F1-448B-BB4F-557AB074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EFFC-6311-4A8E-8A5D-F07A2D14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2FE4-0978-4625-A268-603124C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08EE-EC75-4CCF-83D0-48E39C7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9812-1A65-45F2-8384-19814E9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4D31-4F0E-47AF-A1A2-AD7C960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B22D-D9AB-4288-98D3-5AD1ED5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9E2B-6D2E-4C0F-BEB9-8DDED2F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3533-E86F-44A0-8739-A1A93247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 Buckaroo/Straight Arr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ckaroo Straight Arrow Training Conference  or National Training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838080" cy="1676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flipH="1" rot="10800000">
            <a:off x="7010280" y="2590920"/>
            <a:ext cx="846360" cy="1676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David Elliott</cp:lastModifiedBy>
  <dcterms:modified xsi:type="dcterms:W3CDTF">1999-07-21T03:21:31Z</dcterms:modified>
  <cp:revision>11</cp:revision>
  <dc:subject/>
  <dc:title>Royal Rangers Leadership Training Course  Section V: Teaching and Communication</dc:title>
</cp:coreProperties>
</file>