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14CB9F47-7E18-4AD7-BC21-CA8827FA932E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BC5-602C-4FC6-A107-108A4E62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C9-D18F-44F6-A0AF-B50DFAF8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DF5-EC3D-424F-A035-779869F6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66B-A643-4743-BC98-C0E748F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F6C-AA41-462F-93BA-F970830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3D2-3FBD-478F-9BB4-5DA788D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8B1-4FAB-44A0-86B3-C717A48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701-A038-488D-A934-ECD17153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047-F8DE-4316-A683-18A6101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652-FE43-49C2-83EF-D0EFA455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49C-6AC9-4ABB-8E8C-EF8D2D7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E71-98E1-4AFB-9339-82CEF62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20E-0D0A-4C75-B3DF-C357A3FE5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ccident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home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nnouncement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bulletin boar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Newspap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ost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achiev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pecial awar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onth/yea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lletin boar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si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ocal communit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gu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ather/s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pen hous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drais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pp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onducting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gning specific areas of responsibility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coordinated and completed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dvise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st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it a viable ne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und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ventor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waterproof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ne locati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x or repai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per suppli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immediate recognition of a bo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dvancement review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arrying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the chairm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view bo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clo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 hon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laxed sett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utor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ever refu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ait lo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complishm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are the Royal Rangers progra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centiv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presente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entire church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irm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uncilm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minute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council meeting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copie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date, time,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location of meeting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ublicity and promotions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ld and new busines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journ with pray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46280"/>
            <a:ext cx="73152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B   R   E   A   K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a1cfc"/>
                </a:solidFill>
                <a:latin typeface="Book Antiqua"/>
              </a:rPr>
              <a:t>LUNCH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budge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financial record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Be accountabl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xpenditures will serve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 as a guide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outpos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equipmen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requests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Due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Budget allowance from church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undraising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pecial offering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utpos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dget ite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quarter a wee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ffering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tribut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y’s characte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uncil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flict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u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hristian princip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19Z</dcterms:modified>
  <cp:revision>74</cp:revision>
  <dc:subject>Outpost Council </dc:subject>
  <dc:title>North Texas District Royal Rangers</dc:title>
</cp:coreProperties>
</file>