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51D-4CBE-44D1-8FEA-44A58C577B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CF9-FDD0-420F-9B8A-9BC117EC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051-1C8B-4561-9A1B-031DB0F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576-5829-4D12-BB7A-FC2A618B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ED-7121-4182-AA8D-95CDA38B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B5B-BF89-469C-A4AD-A8D6CF97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D09-60B3-4564-9E62-7A8BAD2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B88-98DD-4917-953D-C0F1DA0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D42-0BBB-482C-B037-5180ED49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54B-2637-407E-A95E-46D5282C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955-A4E5-492A-A070-ABAFC31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D5E-5FB3-4091-8665-6D27D5D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739-374B-4075-9CF6-A961ABF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BEB-01E6-4B3F-B6CB-2C970E2A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yond child's develop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dden avoidan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ognized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rui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ractures/dislo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ju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creen you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for proper condu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ob descrip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 adult lea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l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ace and privac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Keep written record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port incide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ve ab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is ruled ou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certain about the find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confirm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st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ck or criticiz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member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evention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Question and Answer tim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RITE YOUR NAME ON BOOKL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SS TO THE FRON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a1cfc"/>
                </a:solidFill>
                <a:latin typeface="Book Antiqua"/>
              </a:rPr>
              <a:t>T E S T     T I M E</a:t>
            </a:r>
            <a:endParaRPr b="0" i="1" lang="en-US" sz="6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25333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NAME THE </a:t>
            </a:r>
            <a:r>
              <a:rPr b="1" lang="en-US" sz="2400" spc="-1" strike="noStrike" u="sng">
                <a:solidFill>
                  <a:srgbClr val="232323"/>
                </a:solidFill>
                <a:uFillTx/>
                <a:latin typeface="Book Antiqua"/>
              </a:rPr>
              <a:t>5</a:t>
            </a: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 OUTPOST COUNCIL POSITION AND THE FUNCTION OF EACH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WHAT WOULD BE THE VALUE OF ROYAL RANGERS IN YOUR CHURCH?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ild exploitation for the sexual gratification of another per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s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unting season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n or women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ea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xu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9:26Z</cp:lastPrinted>
  <dcterms:modified xsi:type="dcterms:W3CDTF">1999-07-25T04:51:19Z</dcterms:modified>
  <cp:revision>62</cp:revision>
  <dc:subject>Outpost Council </dc:subject>
  <dc:title>North Texas District Royal Rangers</dc:title>
</cp:coreProperties>
</file>