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12023725" cy="6983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12024000" cy="698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-1440"/>
            <a:ext cx="5211720" cy="3506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13360" y="-1440"/>
            <a:ext cx="5211720" cy="3506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-360" y="6633720"/>
            <a:ext cx="5211720" cy="3510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813360" y="6633720"/>
            <a:ext cx="5211720" cy="3510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9807F-8A24-4E40-91BF-0D2144940300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1604520" y="3315960"/>
            <a:ext cx="8815320" cy="314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Img"/>
          </p:nvPr>
        </p:nvSpPr>
        <p:spPr>
          <a:xfrm>
            <a:off x="4274640" y="525240"/>
            <a:ext cx="3488040" cy="2616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Click to move the slide</a:t>
            </a: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body"/>
          </p:nvPr>
        </p:nvSpPr>
        <p:spPr>
          <a:xfrm>
            <a:off x="1604520" y="3315960"/>
            <a:ext cx="8815320" cy="314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lcom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 one of the later LTC courses put out by Nat’l offi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son for  teaching this course so the outpost councilmen knows what their roll is in the Royal Ranger progra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course is usually an 6-8 hour cours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densed to 4 hou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m Teaching concept  will be follow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ks -- each should have a book and outli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. notes on the outline sheets suppli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will be taken up and graded at end of d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ts of writing and filling in the blank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est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the completion of  the cour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rtificates will be given upon comple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 and Answers are welco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not chase rabbits with ideas or answ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se questions requiring more detail answers will have to wa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ll break time or after class in order to save time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ldImg"/>
          </p:nvPr>
        </p:nvSpPr>
        <p:spPr>
          <a:xfrm>
            <a:off x="4275000" y="525600"/>
            <a:ext cx="3488040" cy="26161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body"/>
          </p:nvPr>
        </p:nvSpPr>
        <p:spPr>
          <a:xfrm>
            <a:off x="1604520" y="3315960"/>
            <a:ext cx="8815320" cy="314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ider every one to two years to bring leaders in and reevaluate th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ldImg"/>
          </p:nvPr>
        </p:nvSpPr>
        <p:spPr>
          <a:xfrm>
            <a:off x="4275000" y="525600"/>
            <a:ext cx="3488040" cy="261612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9C2E5-5428-484F-B7F6-81243D11A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E12E3-DD06-4C71-91C4-465D23D04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BFCDE-061F-4AA9-B36B-3CF61F423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779F6-0747-445A-AF1C-E8E557B44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BFCB0-B0AC-495F-A7B2-C7B76231D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7A93A-72E0-4715-AE7D-E6987F613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E5506-3068-48CA-BA09-C3737CBA3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39303-E464-4603-B21E-2902271E6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371240" y="475920"/>
            <a:ext cx="7086600" cy="59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15860-AF3D-4E84-A154-1E042C842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40014-6A1E-41AF-A1A0-331586091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6F754-03E8-48F6-A649-4FA136125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96222-0A94-48F5-A3C8-07577E07D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2D25F-F7B0-48DE-84A8-1CF02612C8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35480" indent="-282960">
              <a:spcBef>
                <a:spcPts val="799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2" marL="1131480" indent="-226080">
              <a:spcBef>
                <a:spcPts val="799"/>
              </a:spcBef>
              <a:buClr>
                <a:srgbClr val="232323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Click to edit the title text format</a:t>
            </a: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14400" y="299880"/>
            <a:ext cx="1304640" cy="1148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114ffb"/>
                </a:solidFill>
                <a:latin typeface="Book Antiqua"/>
              </a:rPr>
              <a:t>Outpost Councilmen</a:t>
            </a:r>
            <a:br>
              <a:rPr sz="4800"/>
            </a:br>
            <a:r>
              <a:rPr b="0" i="1" lang="en-US" sz="4800" spc="-1" strike="noStrike">
                <a:solidFill>
                  <a:srgbClr val="114ffb"/>
                </a:solidFill>
                <a:latin typeface="Book Antiqua"/>
              </a:rPr>
              <a:t>Leadership Training Course</a:t>
            </a:r>
            <a:br>
              <a:rPr sz="4800"/>
            </a:br>
            <a:r>
              <a:rPr b="0" i="1" lang="en-US" sz="1600" spc="-1" strike="noStrike">
                <a:solidFill>
                  <a:srgbClr val="114ffb"/>
                </a:solidFill>
                <a:latin typeface="Book Antiqua"/>
              </a:rPr>
              <a:t> </a:t>
            </a:r>
            <a:br>
              <a:rPr sz="1600"/>
            </a:br>
            <a:r>
              <a:rPr b="0" i="1" lang="en-US" sz="4800" spc="-1" strike="noStrike">
                <a:solidFill>
                  <a:srgbClr val="114ffb"/>
                </a:solidFill>
                <a:latin typeface="Book Antiqua"/>
              </a:rPr>
              <a:t> Session 1</a:t>
            </a:r>
            <a:endParaRPr b="0" i="1" lang="en-US" sz="4800" spc="-1" strike="noStrike">
              <a:solidFill>
                <a:srgbClr val="114ffb"/>
              </a:solidFill>
              <a:latin typeface="Book Antiqua"/>
            </a:endParaRPr>
          </a:p>
        </p:txBody>
      </p:sp>
    </p:spTree>
  </p:cSld>
  <mc:AlternateContent>
    <mc:Choice Requires="p14">
      <p:transition spd="slow" advTm="7000" p14:dur="2000"/>
    </mc:Choice>
    <mc:Fallback>
      <p:transition spd="slow" advTm="7000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14ffb"/>
                </a:solidFill>
                <a:latin typeface="Book Antiqua"/>
              </a:rPr>
              <a:t>The Outpost Council</a:t>
            </a:r>
            <a:br>
              <a:rPr sz="3600"/>
            </a:b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Who Can Serve?</a:t>
            </a: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Any man in church who has 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Who is willing to devote 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______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and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________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necessary to fulfill the duties of a council member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Be 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______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and able to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__________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Prior experience with Royal Rangers i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Book Antiqua"/>
              </a:rPr>
              <a:t>_________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, but not 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.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14ffb"/>
                </a:solidFill>
                <a:latin typeface="Book Antiqua"/>
              </a:rPr>
              <a:t>The Outpost Council</a:t>
            </a:r>
            <a:br>
              <a:rPr sz="2400"/>
            </a:b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When Should It Be Formed?</a:t>
            </a: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Ideally, in place before an outpost i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___________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One should be organized to begin providing the vital support from this group of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____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14ffb"/>
                </a:solidFill>
                <a:latin typeface="Book Antiqua"/>
              </a:rPr>
              <a:t>The Outpost Council</a:t>
            </a:r>
            <a:br>
              <a:rPr sz="3600"/>
            </a:br>
            <a:r>
              <a:rPr b="0" i="1" lang="en-US" sz="4200" spc="-1" strike="noStrike">
                <a:solidFill>
                  <a:srgbClr val="114ffb"/>
                </a:solidFill>
                <a:latin typeface="Book Antiqua"/>
              </a:rPr>
              <a:t>How Should They Be Selected?</a:t>
            </a:r>
            <a:endParaRPr b="0" i="1" lang="en-US" sz="42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here are two possible methods: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They may be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___________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 by the church board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They may be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_________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from the ranks of the local men’s group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14ffb"/>
                </a:solidFill>
                <a:latin typeface="Book Antiqua"/>
              </a:rPr>
              <a:t>The Outpost Council</a:t>
            </a:r>
            <a:br>
              <a:rPr sz="2400"/>
            </a:b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Who Else Should Serve?</a:t>
            </a: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74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Book Antiqua"/>
              </a:rPr>
              <a:t>The </a:t>
            </a:r>
            <a:r>
              <a:rPr b="1" lang="en-US" sz="3100" spc="-1" strike="noStrike" u="sng">
                <a:solidFill>
                  <a:srgbClr val="000000"/>
                </a:solidFill>
                <a:uFillTx/>
                <a:latin typeface="Book Antiqua"/>
              </a:rPr>
              <a:t>_______</a:t>
            </a:r>
            <a:r>
              <a:rPr b="0" lang="en-US" sz="3100" spc="-1" strike="noStrike">
                <a:solidFill>
                  <a:srgbClr val="000000"/>
                </a:solidFill>
                <a:latin typeface="Book Antiqua"/>
              </a:rPr>
              <a:t> should </a:t>
            </a:r>
            <a:r>
              <a:rPr b="0" lang="en-US" sz="3100" spc="-1" strike="noStrike" u="sng">
                <a:solidFill>
                  <a:srgbClr val="000000"/>
                </a:solidFill>
                <a:uFillTx/>
                <a:latin typeface="Book Antiqua"/>
              </a:rPr>
              <a:t>________</a:t>
            </a:r>
            <a:r>
              <a:rPr b="0" lang="en-US" sz="3100" spc="-1" strike="noStrike">
                <a:solidFill>
                  <a:srgbClr val="000000"/>
                </a:solidFill>
                <a:latin typeface="Book Antiqua"/>
              </a:rPr>
              <a:t> be a </a:t>
            </a:r>
            <a:r>
              <a:rPr b="0" lang="en-US" sz="3100" spc="-1" strike="noStrike" u="sng">
                <a:solidFill>
                  <a:srgbClr val="000000"/>
                </a:solidFill>
                <a:uFillTx/>
                <a:latin typeface="Book Antiqua"/>
              </a:rPr>
              <a:t>________</a:t>
            </a:r>
            <a:r>
              <a:rPr b="0" lang="en-US" sz="3100" spc="-1" strike="noStrike">
                <a:solidFill>
                  <a:srgbClr val="000000"/>
                </a:solidFill>
                <a:latin typeface="Book Antiqua"/>
              </a:rPr>
              <a:t>.</a:t>
            </a:r>
            <a:endParaRPr b="0" lang="en-US" sz="3100" spc="-1" strike="noStrike">
              <a:solidFill>
                <a:srgbClr val="000000"/>
              </a:solidFill>
              <a:latin typeface="Book Antiqua"/>
            </a:endParaRPr>
          </a:p>
          <a:p>
            <a:pPr lvl="1" marL="727920" indent="-28008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Even if not in one of the five leadership positions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27920" indent="-28008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Be given a vote in all business conducted by the council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35880" indent="-335880">
              <a:spcBef>
                <a:spcPts val="774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Book Antiqua"/>
              </a:rPr>
              <a:t>The </a:t>
            </a:r>
            <a:r>
              <a:rPr b="1" lang="en-US" sz="31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___</a:t>
            </a:r>
            <a:r>
              <a:rPr b="1" lang="en-US" sz="31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Book Antiqua"/>
              </a:rPr>
              <a:t>should also be a </a:t>
            </a:r>
            <a:r>
              <a:rPr b="0" lang="en-US" sz="31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_________</a:t>
            </a:r>
            <a:r>
              <a:rPr b="0" lang="en-US" sz="3100" spc="-1" strike="noStrike">
                <a:solidFill>
                  <a:srgbClr val="000000"/>
                </a:solidFill>
                <a:latin typeface="Book Antiqua"/>
              </a:rPr>
              <a:t>.</a:t>
            </a:r>
            <a:endParaRPr b="0" lang="en-US" sz="3100" spc="-1" strike="noStrike">
              <a:solidFill>
                <a:srgbClr val="000000"/>
              </a:solidFill>
              <a:latin typeface="Book Antiqua"/>
            </a:endParaRPr>
          </a:p>
          <a:p>
            <a:pPr lvl="1" marL="727920" indent="-28008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Be given a vote in the council meetings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14ffb"/>
                </a:solidFill>
                <a:latin typeface="Book Antiqua"/>
              </a:rPr>
              <a:t>The Outpost Council</a:t>
            </a:r>
            <a:br>
              <a:rPr sz="3200"/>
            </a:b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What Are Its First Duties?</a:t>
            </a: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o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_____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for each age group and arrange for training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o select 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__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for the meetings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o gather the materials necessary for the weekly meetings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14ffb"/>
                </a:solidFill>
                <a:latin typeface="Book Antiqua"/>
              </a:rPr>
              <a:t>The Outpost Council</a:t>
            </a:r>
            <a:br>
              <a:rPr sz="3200"/>
            </a:b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What Are Its First Duties? </a:t>
            </a:r>
            <a:br>
              <a:rPr sz="4400"/>
            </a:br>
            <a:r>
              <a:rPr b="0" i="1" lang="en-US" sz="2400" spc="-1" strike="noStrike">
                <a:solidFill>
                  <a:srgbClr val="114ffb"/>
                </a:solidFill>
                <a:latin typeface="Book Antiqua"/>
              </a:rPr>
              <a:t>(cont’d)</a:t>
            </a:r>
            <a:endParaRPr b="0" i="1" lang="en-US" sz="2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__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with the Royal Rangers Ministry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298440" indent="-29844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Recruit, interview &amp; screen </a:t>
            </a:r>
            <a:r>
              <a:rPr b="1" i="1" lang="en-US" sz="3600" spc="-1" strike="noStrike">
                <a:solidFill>
                  <a:srgbClr val="000000"/>
                </a:solidFill>
                <a:latin typeface="Book Antiqua"/>
              </a:rPr>
              <a:t>all</a:t>
            </a:r>
            <a:r>
              <a:rPr b="0" lang="en-US" sz="36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___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298440" indent="-29844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Develop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___________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298440" indent="-29844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cure adequat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_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for all ages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298440" indent="-29844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Assure neede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__________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are available.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114ffb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14ffb"/>
                </a:solidFill>
                <a:latin typeface="Book Antiqua"/>
              </a:rPr>
              <a:t>The Outpost Council</a:t>
            </a:r>
            <a:br>
              <a:rPr sz="2400"/>
            </a:b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What Are Its First Duties? </a:t>
            </a:r>
            <a:r>
              <a:rPr b="0" i="1" lang="en-US" sz="2400" spc="-1" strike="noStrike">
                <a:solidFill>
                  <a:srgbClr val="114ffb"/>
                </a:solidFill>
                <a:latin typeface="Book Antiqua"/>
              </a:rPr>
              <a:t>(cont’d)</a:t>
            </a:r>
            <a:endParaRPr b="0" i="1" lang="en-US" sz="2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Maintain stock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books, uniforms and awards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Publicize and promote Royal Rangers programs and events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Plan and execute Councils of Achievement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14ffb"/>
                </a:solidFill>
                <a:latin typeface="Book Antiqua"/>
              </a:rPr>
              <a:t>The Outpost Council</a:t>
            </a:r>
            <a:br>
              <a:rPr sz="2400"/>
            </a:b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What Are Its First Duties? </a:t>
            </a:r>
            <a:r>
              <a:rPr b="0" i="1" lang="en-US" sz="2400" spc="-1" strike="noStrike">
                <a:solidFill>
                  <a:srgbClr val="114ffb"/>
                </a:solidFill>
                <a:latin typeface="Book Antiqua"/>
              </a:rPr>
              <a:t>(cont’d)</a:t>
            </a:r>
            <a:endParaRPr b="0" i="1" lang="en-US" sz="2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Assist in the weekly meetings as needed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05280" indent="-3052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Meet regularly to transact business and execute responsibilities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05280" indent="-3052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Appoint the leadership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660960" indent="-25416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Commanders and Lt. Commanders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660960" indent="-25416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Recruit Royal Rangers staff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660960" indent="-25416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Establish standards and goals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660960" indent="-25416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Allow for growth and development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4" name=""/>
          <p:cNvSpPr/>
          <p:nvPr/>
        </p:nvSpPr>
        <p:spPr>
          <a:xfrm>
            <a:off x="762120" y="4070520"/>
            <a:ext cx="7688160" cy="20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The Outpost Council </a:t>
            </a:r>
            <a:r>
              <a:rPr b="0" i="1" lang="en-US" sz="4000" spc="-1" strike="noStrike">
                <a:solidFill>
                  <a:srgbClr val="114ffb"/>
                </a:solidFill>
                <a:latin typeface="Book Antiqua"/>
              </a:rPr>
              <a:t>Positions</a:t>
            </a:r>
            <a:endParaRPr b="0" i="1" lang="en-US" sz="40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114ffb"/>
              </a:buClr>
              <a:buSzPct val="75000"/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____________________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114ffb"/>
              </a:buClr>
              <a:buSzPct val="75000"/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____________________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114ffb"/>
              </a:buClr>
              <a:buSzPct val="75000"/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____________________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114ffb"/>
              </a:buClr>
              <a:buSzPct val="75000"/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____________________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114ffb"/>
              </a:buClr>
              <a:buSzPct val="75000"/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____________________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Break - time</a:t>
            </a:r>
            <a:br>
              <a:rPr sz="4400"/>
            </a:b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10 minutes</a:t>
            </a: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200" spc="-1" strike="noStrike">
                <a:solidFill>
                  <a:srgbClr val="114ffb"/>
                </a:solidFill>
                <a:latin typeface="Book Antiqua"/>
              </a:rPr>
              <a:t>Outpost Council</a:t>
            </a: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	</a:t>
            </a: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Definition 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A special committee composed of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_______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who have the basic responsibilities of the administration of the Royal Ranger program within the local church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transition spd="med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200" spc="-1" strike="noStrike">
                <a:solidFill>
                  <a:srgbClr val="114ffb"/>
                </a:solidFill>
                <a:latin typeface="Book Antiqua"/>
              </a:rPr>
              <a:t>Why be involved</a:t>
            </a:r>
            <a:endParaRPr b="0" i="1" lang="en-US" sz="72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5800680" y="1989000"/>
          <a:ext cx="1505160" cy="409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00680" y="1989000"/>
                    <a:ext cx="1505160" cy="409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"/>
          <p:cNvSpPr/>
          <p:nvPr/>
        </p:nvSpPr>
        <p:spPr>
          <a:xfrm>
            <a:off x="2433240" y="2212920"/>
            <a:ext cx="1227600" cy="29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900" spc="-1" strike="noStrike">
                <a:solidFill>
                  <a:srgbClr val="000000"/>
                </a:solidFill>
                <a:latin typeface="Book Antiqua"/>
              </a:rPr>
              <a:t>?</a:t>
            </a:r>
            <a:endParaRPr b="0" lang="en-US" sz="18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7632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here is no ministry in the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Book Antiqua"/>
              </a:rPr>
              <a:t>Assemblies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of 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God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that wins 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more souls than Royal Rangers.”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Terry Raburn,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_____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National Director,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Division of Church Ministries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Age When Saved</a:t>
            </a: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1% saved before the age of 4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12120" indent="-31212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85% saved between the ages of 4 and 14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12120" indent="-31212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10% saved between the ages of 15 and 30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12120" indent="-31212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Only 4 percent saved after the age of 30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Source: </a:t>
            </a: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Handbook of Children’s Evangelism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transition spd="slow" advTm="15000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The Mission of Royal Rangers</a:t>
            </a: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114ffb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o reach, teach, and keep boys for Christ.</a:t>
            </a:r>
            <a:r>
              <a:rPr b="0" lang="en-US" sz="3200" spc="-1" strike="noStrike">
                <a:solidFill>
                  <a:srgbClr val="ff0909"/>
                </a:solidFill>
                <a:latin typeface="Book Antiqua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Royal Rangers Goals</a:t>
            </a: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90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212fa"/>
                </a:solidFill>
                <a:latin typeface="Book Antiqua"/>
              </a:rPr>
              <a:t>To instruct in </a:t>
            </a:r>
            <a:r>
              <a:rPr b="0" lang="en-US" sz="3200" spc="-1" strike="noStrike" u="sng">
                <a:solidFill>
                  <a:srgbClr val="1212fa"/>
                </a:solidFill>
                <a:uFillTx/>
                <a:latin typeface="Book Antiqua"/>
              </a:rPr>
              <a:t>__________________</a:t>
            </a:r>
            <a:r>
              <a:rPr b="0" lang="en-US" sz="3200" spc="-1" strike="noStrike">
                <a:solidFill>
                  <a:srgbClr val="1212fa"/>
                </a:solidFill>
                <a:latin typeface="Book Antiqu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f090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212fa"/>
                </a:solidFill>
                <a:latin typeface="Book Antiqua"/>
              </a:rPr>
              <a:t>To challenge for </a:t>
            </a:r>
            <a:r>
              <a:rPr b="0" lang="en-US" sz="3200" spc="-1" strike="noStrike" u="sng">
                <a:solidFill>
                  <a:srgbClr val="1212fa"/>
                </a:solidFill>
                <a:uFillTx/>
                <a:latin typeface="Book Antiqua"/>
              </a:rPr>
              <a:t>____________________</a:t>
            </a:r>
            <a:r>
              <a:rPr b="0" lang="en-US" sz="3200" spc="-1" strike="noStrike">
                <a:solidFill>
                  <a:srgbClr val="1212fa"/>
                </a:solidFill>
                <a:latin typeface="Book Antiqu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f090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212fa"/>
                </a:solidFill>
                <a:latin typeface="Book Antiqua"/>
              </a:rPr>
              <a:t>To inspire a belief in the fundamental </a:t>
            </a:r>
            <a:r>
              <a:rPr b="0" lang="en-US" sz="3200" spc="-1" strike="noStrike" u="sng">
                <a:solidFill>
                  <a:srgbClr val="1212fa"/>
                </a:solidFill>
                <a:uFillTx/>
                <a:latin typeface="Book Antiqua"/>
              </a:rPr>
              <a:t>_________________________________</a:t>
            </a:r>
            <a:r>
              <a:rPr b="0" lang="en-US" sz="3200" spc="-1" strike="noStrike">
                <a:solidFill>
                  <a:srgbClr val="1212fa"/>
                </a:solidFill>
                <a:latin typeface="Book Antiqu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f090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212fa"/>
                </a:solidFill>
                <a:latin typeface="Book Antiqua"/>
              </a:rPr>
              <a:t>To satisfy the boys’ </a:t>
            </a:r>
            <a:r>
              <a:rPr b="0" lang="en-US" sz="3200" spc="-1" strike="noStrike" u="sng">
                <a:solidFill>
                  <a:srgbClr val="1212fa"/>
                </a:solidFill>
                <a:uFillTx/>
                <a:latin typeface="Book Antiqua"/>
              </a:rPr>
              <a:t>______</a:t>
            </a:r>
            <a:r>
              <a:rPr b="0" lang="en-US" sz="3200" spc="-1" strike="noStrike">
                <a:solidFill>
                  <a:srgbClr val="1212fa"/>
                </a:solidFill>
                <a:latin typeface="Book Antiqua"/>
              </a:rPr>
              <a:t> need for </a:t>
            </a:r>
            <a:r>
              <a:rPr b="0" lang="en-US" sz="3200" spc="-1" strike="noStrike" u="sng">
                <a:solidFill>
                  <a:srgbClr val="1212fa"/>
                </a:solidFill>
                <a:uFillTx/>
                <a:latin typeface="Book Antiqua"/>
              </a:rPr>
              <a:t>________</a:t>
            </a:r>
            <a:r>
              <a:rPr b="0" lang="en-US" sz="3200" spc="-1" strike="noStrike">
                <a:solidFill>
                  <a:srgbClr val="1212fa"/>
                </a:solidFill>
                <a:latin typeface="Book Antiqu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Philosophy of a Successful Outpost Council</a:t>
            </a: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Action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Coordination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Delegation of responsibility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Imagination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Improvisation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transition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14ffb"/>
                </a:solidFill>
                <a:latin typeface="Book Antiqua"/>
              </a:rPr>
              <a:t>The Outpost Council</a:t>
            </a:r>
            <a:br>
              <a:rPr sz="2400"/>
            </a:b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How Much Time Will It Take?</a:t>
            </a: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As much time as a man is willing to give. 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h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_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require various amount of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______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on a monthly basis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29T20:03:30Z</dcterms:created>
  <dc:creator>Dwain Klopfenstein/Paul Patterson</dc:creator>
  <dc:description>Taught at 1997 Regional Seminar Class</dc:description>
  <dc:language>en-US</dc:language>
  <cp:lastModifiedBy>Jonathan Trower</cp:lastModifiedBy>
  <cp:lastPrinted>1998-07-06T05:42:57Z</cp:lastPrinted>
  <dcterms:modified xsi:type="dcterms:W3CDTF">1999-07-25T04:22:08Z</dcterms:modified>
  <cp:revision>77</cp:revision>
  <dc:subject>Outpost Council </dc:subject>
  <dc:title>North Texas District Royal Rangers</dc:title>
</cp:coreProperties>
</file>